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31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10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jpeg" ContentType="image/jpeg"/>
  <Override PartName="/ppt/media/image50.png" ContentType="image/png"/>
  <Override PartName="/ppt/media/image5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7000" y="734760"/>
            <a:ext cx="4943520" cy="3708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B77A-298C-4464-BC32-815C1D5DA7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927000" y="73512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Номер слайда 3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AB5B-2AD3-41C7-A81A-CA81DD9F55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927000" y="73512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Номер слайда 3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085B-F27A-476C-BE27-FA1159666F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927000" y="73512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Номер слайда 3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850B-5A4C-4550-8F48-E2ACAE42E0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927000" y="73512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Номер слайда 3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66D3-B52F-47B8-AA9E-A46465B69C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927000" y="73512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Номер слайда 3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AB4E-933F-4A9A-98D4-3AB2D1092A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18BC-1293-448C-AF45-5C3067E80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59F8-F8A3-4B7C-B992-CE5E539E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99AB-9CD0-4CCD-9E3E-092FCDC8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82FC-3ED7-40D1-8684-24EBED0AC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23FD-5196-4CB7-9005-AE994ACD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0EDC-3B60-4494-B2CC-A9BA0309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9DEC-1CD0-49BA-BDD3-1C82D20A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24CA-88EA-4F64-BE5C-30D1CD17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879B-C3F9-45A0-A2D0-5B147600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2A08-6DE1-474C-97A9-BFA73301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5034-9CF4-41D4-8A56-B75DE835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F1A9-A372-4186-A12A-9952AB07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13A5-995C-4E0D-9EF5-14A8D679E43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9602-7E39-4BD2-BB36-0A1902F865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10.png"/><Relationship Id="rId7" Type="http://schemas.openxmlformats.org/officeDocument/2006/relationships/image" Target="../media/image37.png"/><Relationship Id="rId8" Type="http://schemas.openxmlformats.org/officeDocument/2006/relationships/image" Target="../media/image50.png"/><Relationship Id="rId9" Type="http://schemas.openxmlformats.org/officeDocument/2006/relationships/image" Target="../media/image51.png"/><Relationship Id="rId10" Type="http://schemas.openxmlformats.org/officeDocument/2006/relationships/image" Target="../media/image52.png"/><Relationship Id="rId11" Type="http://schemas.openxmlformats.org/officeDocument/2006/relationships/image" Target="../media/image53.png"/><Relationship Id="rId12" Type="http://schemas.openxmlformats.org/officeDocument/2006/relationships/image" Target="../media/image54.png"/><Relationship Id="rId13" Type="http://schemas.openxmlformats.org/officeDocument/2006/relationships/image" Target="../media/image55.png"/><Relationship Id="rId14" Type="http://schemas.openxmlformats.org/officeDocument/2006/relationships/image" Target="../media/image56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image" Target="../media/image63.png"/><Relationship Id="rId9" Type="http://schemas.openxmlformats.org/officeDocument/2006/relationships/image" Target="../media/image64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image" Target="../media/image46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84360" y="1398600"/>
          <a:ext cx="8178480" cy="1920960"/>
        </p:xfrm>
        <a:graphic>
          <a:graphicData uri="http://schemas.openxmlformats.org/drawingml/2006/table">
            <a:tbl>
              <a:tblPr/>
              <a:tblGrid>
                <a:gridCol w="8178480"/>
              </a:tblGrid>
              <a:tr h="216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Franklin Gothic Book"/>
                          <a:ea typeface="Times New Roman"/>
                        </a:rPr>
                        <a:t>«Ведение сведений о трудовой деятельности в электронном виде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4713120" y="3218040"/>
            <a:ext cx="4152960" cy="32875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5AEF-9A16-4FF5-9FC2-4DECB5D632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7" name="Группа 2"/>
          <p:cNvGrpSpPr/>
          <p:nvPr/>
        </p:nvGrpSpPr>
        <p:grpSpPr>
          <a:xfrm>
            <a:off x="1560600" y="1844640"/>
            <a:ext cx="1103400" cy="1087560"/>
            <a:chOff x="1560600" y="1844640"/>
            <a:chExt cx="1103400" cy="1087560"/>
          </a:xfrm>
        </p:grpSpPr>
        <p:pic>
          <p:nvPicPr>
            <p:cNvPr id="708" name="Picture 4" descr="C:\Users\003-1203\Documents\Мои_документы\!ОБЩЕЕ\ВЫСТУПЛЕНИЯ\госусл.jpg"/>
            <p:cNvPicPr/>
            <p:nvPr/>
          </p:nvPicPr>
          <p:blipFill>
            <a:blip r:embed="rId1"/>
            <a:srcRect l="11551" t="5283" r="10000" b="5528"/>
            <a:stretch/>
          </p:blipFill>
          <p:spPr>
            <a:xfrm>
              <a:off x="1737000" y="1920240"/>
              <a:ext cx="79704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Кольцо 4"/>
            <p:cNvSpPr/>
            <p:nvPr/>
          </p:nvSpPr>
          <p:spPr>
            <a:xfrm>
              <a:off x="1560600" y="1844640"/>
              <a:ext cx="1103400" cy="1087560"/>
            </a:xfrm>
            <a:custGeom>
              <a:avLst/>
              <a:gdLst>
                <a:gd name="textAreaLeft" fmla="*/ 161640 w 1103400"/>
                <a:gd name="textAreaRight" fmla="*/ 941760 w 1103400"/>
                <a:gd name="textAreaTop" fmla="*/ 159120 h 1087560"/>
                <a:gd name="textAreaBottom" fmla="*/ 928440 h 1087560"/>
              </a:gdLst>
              <a:ahLst/>
              <a:rect l="textAreaLeft" t="textAreaTop" r="textAreaRight" b="textAreaBottom"/>
              <a:pathLst>
                <a:path w="982663" h="935037">
                  <a:moveTo>
                    <a:pt x="0" y="467519"/>
                  </a:moveTo>
                  <a:lnTo>
                    <a:pt x="0" y="467519"/>
                  </a:lnTo>
                  <a:arcTo wR="491332" hR="467519" stAng="-10799993" swAng="5400000"/>
                  <a:lnTo>
                    <a:pt x="491333" y="1"/>
                  </a:lnTo>
                  <a:arcTo wR="491332" hR="467519" stAng="-5399993" swAng="5400000"/>
                  <a:lnTo>
                    <a:pt x="982664" y="467521"/>
                  </a:lnTo>
                  <a:arcTo wR="491332" hR="467519" stAng="0" swAng="5400000"/>
                  <a:lnTo>
                    <a:pt x="491332" y="935040"/>
                  </a:lnTo>
                  <a:arcTo wR="491332" hR="467519" stAng="5400000" swAng="5400007"/>
                  <a:close/>
                  <a:moveTo>
                    <a:pt x="67996" y="467519"/>
                  </a:moveTo>
                  <a:lnTo>
                    <a:pt x="67996" y="467519"/>
                  </a:lnTo>
                  <a:arcTo wR="423336" hR="399523" stAng="10800000" swAng="-5400000"/>
                  <a:lnTo>
                    <a:pt x="491332" y="867042"/>
                  </a:lnTo>
                  <a:arcTo wR="423336" hR="399523" stAng="5400000" swAng="-5400000"/>
                  <a:lnTo>
                    <a:pt x="914668" y="467519"/>
                  </a:lnTo>
                  <a:arcTo wR="423336" hR="399523" stAng="0" swAng="-5400000"/>
                  <a:lnTo>
                    <a:pt x="491332" y="67996"/>
                  </a:lnTo>
                  <a:arcTo wR="423336" hR="399523" stAng="-5400000" swAng="-5400000"/>
                  <a:close/>
                </a:path>
              </a:pathLst>
            </a:custGeom>
            <a:gradFill rotWithShape="0">
              <a:gsLst>
                <a:gs pos="0">
                  <a:srgbClr val="b1cbe9"/>
                </a:gs>
                <a:gs pos="100000">
                  <a:srgbClr val="92b9e4"/>
                </a:gs>
              </a:gsLst>
              <a:lin ang="5400000"/>
            </a:gradFill>
            <a:ln w="648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0" name="Группа 5"/>
          <p:cNvGrpSpPr/>
          <p:nvPr/>
        </p:nvGrpSpPr>
        <p:grpSpPr>
          <a:xfrm>
            <a:off x="4356000" y="907920"/>
            <a:ext cx="1327320" cy="1081080"/>
            <a:chOff x="4356000" y="907920"/>
            <a:chExt cx="1327320" cy="1081080"/>
          </a:xfrm>
        </p:grpSpPr>
        <p:pic>
          <p:nvPicPr>
            <p:cNvPr id="711" name="Picture 58" descr="database_1"/>
            <p:cNvPicPr/>
            <p:nvPr/>
          </p:nvPicPr>
          <p:blipFill>
            <a:blip r:embed="rId2"/>
            <a:stretch/>
          </p:blipFill>
          <p:spPr>
            <a:xfrm>
              <a:off x="4356000" y="907920"/>
              <a:ext cx="1327320" cy="108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2" name="Группа 12"/>
            <p:cNvGrpSpPr/>
            <p:nvPr/>
          </p:nvGrpSpPr>
          <p:grpSpPr>
            <a:xfrm>
              <a:off x="4712400" y="1158480"/>
              <a:ext cx="670680" cy="598320"/>
              <a:chOff x="4712400" y="1158480"/>
              <a:chExt cx="670680" cy="598320"/>
            </a:xfrm>
          </p:grpSpPr>
          <p:sp>
            <p:nvSpPr>
              <p:cNvPr id="713" name="Rectangle 8"/>
              <p:cNvSpPr/>
              <p:nvPr/>
            </p:nvSpPr>
            <p:spPr>
              <a:xfrm>
                <a:off x="4712400" y="1158480"/>
                <a:ext cx="6706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AutoShape 9"/>
              <p:cNvSpPr/>
              <p:nvPr/>
            </p:nvSpPr>
            <p:spPr>
              <a:xfrm>
                <a:off x="4713840" y="1213920"/>
                <a:ext cx="646560" cy="407520"/>
              </a:xfrm>
              <a:custGeom>
                <a:avLst/>
                <a:gdLst>
                  <a:gd name="textAreaLeft" fmla="*/ 0 w 646560"/>
                  <a:gd name="textAreaRight" fmla="*/ 646560 w 646560"/>
                  <a:gd name="textAreaTop" fmla="*/ 0 h 407520"/>
                  <a:gd name="textAreaBottom" fmla="*/ 407880 h 407520"/>
                </a:gdLst>
                <a:ahLst/>
                <a:rect l="textAreaLeft" t="textAreaTop" r="textAreaRight" b="textAreaBottom"/>
                <a:pathLst>
                  <a:path w="419" h="330">
                    <a:moveTo>
                      <a:pt x="336" y="96"/>
                    </a:moveTo>
                    <a:cubicBezTo>
                      <a:pt x="336" y="96"/>
                      <a:pt x="331" y="96"/>
                      <a:pt x="331" y="96"/>
                    </a:cubicBezTo>
                    <a:cubicBezTo>
                      <a:pt x="331" y="96"/>
                      <a:pt x="306" y="96"/>
                      <a:pt x="293" y="96"/>
                    </a:cubicBezTo>
                    <a:cubicBezTo>
                      <a:pt x="284" y="71"/>
                      <a:pt x="265" y="52"/>
                      <a:pt x="241" y="43"/>
                    </a:cubicBezTo>
                    <a:cubicBezTo>
                      <a:pt x="241" y="32"/>
                      <a:pt x="241" y="0"/>
                      <a:pt x="241" y="0"/>
                    </a:cubicBezTo>
                    <a:cubicBezTo>
                      <a:pt x="178" y="0"/>
                      <a:pt x="178" y="0"/>
                      <a:pt x="178" y="0"/>
                    </a:cubicBezTo>
                    <a:cubicBezTo>
                      <a:pt x="178" y="0"/>
                      <a:pt x="178" y="32"/>
                      <a:pt x="178" y="43"/>
                    </a:cubicBezTo>
                    <a:cubicBezTo>
                      <a:pt x="154" y="52"/>
                      <a:pt x="135" y="72"/>
                      <a:pt x="126" y="96"/>
                    </a:cubicBezTo>
                    <a:cubicBezTo>
                      <a:pt x="114" y="96"/>
                      <a:pt x="89" y="96"/>
                      <a:pt x="89" y="96"/>
                    </a:cubicBezTo>
                    <a:cubicBezTo>
                      <a:pt x="89" y="96"/>
                      <a:pt x="88" y="96"/>
                      <a:pt x="87" y="96"/>
                    </a:cubicBezTo>
                    <a:cubicBezTo>
                      <a:pt x="87" y="96"/>
                      <a:pt x="86" y="96"/>
                      <a:pt x="86" y="96"/>
                    </a:cubicBezTo>
                    <a:cubicBezTo>
                      <a:pt x="39" y="97"/>
                      <a:pt x="0" y="136"/>
                      <a:pt x="0" y="183"/>
                    </a:cubicBezTo>
                    <a:cubicBezTo>
                      <a:pt x="0" y="225"/>
                      <a:pt x="30" y="262"/>
                      <a:pt x="72" y="269"/>
                    </a:cubicBezTo>
                    <a:cubicBezTo>
                      <a:pt x="72" y="269"/>
                      <a:pt x="74" y="269"/>
                      <a:pt x="74" y="270"/>
                    </a:cubicBezTo>
                    <a:cubicBezTo>
                      <a:pt x="74" y="276"/>
                      <a:pt x="74" y="307"/>
                      <a:pt x="74" y="307"/>
                    </a:cubicBezTo>
                    <a:cubicBezTo>
                      <a:pt x="177" y="307"/>
                      <a:pt x="177" y="307"/>
                      <a:pt x="177" y="307"/>
                    </a:cubicBezTo>
                    <a:cubicBezTo>
                      <a:pt x="177" y="307"/>
                      <a:pt x="177" y="307"/>
                      <a:pt x="177" y="307"/>
                    </a:cubicBezTo>
                    <a:cubicBezTo>
                      <a:pt x="178" y="307"/>
                      <a:pt x="178" y="307"/>
                      <a:pt x="178" y="307"/>
                    </a:cubicBezTo>
                    <a:cubicBezTo>
                      <a:pt x="178" y="321"/>
                      <a:pt x="178" y="330"/>
                      <a:pt x="178" y="330"/>
                    </a:cubicBezTo>
                    <a:cubicBezTo>
                      <a:pt x="241" y="330"/>
                      <a:pt x="241" y="330"/>
                      <a:pt x="241" y="330"/>
                    </a:cubicBezTo>
                    <a:cubicBezTo>
                      <a:pt x="241" y="330"/>
                      <a:pt x="241" y="321"/>
                      <a:pt x="241" y="307"/>
                    </a:cubicBezTo>
                    <a:cubicBezTo>
                      <a:pt x="243" y="307"/>
                      <a:pt x="243" y="307"/>
                      <a:pt x="243" y="307"/>
                    </a:cubicBezTo>
                    <a:cubicBezTo>
                      <a:pt x="346" y="307"/>
                      <a:pt x="346" y="307"/>
                      <a:pt x="346" y="307"/>
                    </a:cubicBezTo>
                    <a:cubicBezTo>
                      <a:pt x="346" y="307"/>
                      <a:pt x="346" y="280"/>
                      <a:pt x="346" y="269"/>
                    </a:cubicBezTo>
                    <a:cubicBezTo>
                      <a:pt x="387" y="263"/>
                      <a:pt x="419" y="227"/>
                      <a:pt x="419" y="183"/>
                    </a:cubicBezTo>
                    <a:cubicBezTo>
                      <a:pt x="419" y="136"/>
                      <a:pt x="383" y="98"/>
                      <a:pt x="336" y="96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AutoShape 10"/>
              <p:cNvSpPr/>
              <p:nvPr/>
            </p:nvSpPr>
            <p:spPr>
              <a:xfrm>
                <a:off x="5166000" y="1576800"/>
                <a:ext cx="210960" cy="7596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137" h="62">
                    <a:moveTo>
                      <a:pt x="137" y="47"/>
                    </a:moveTo>
                    <a:cubicBezTo>
                      <a:pt x="137" y="47"/>
                      <a:pt x="136" y="47"/>
                      <a:pt x="134" y="46"/>
                    </a:cubicBezTo>
                    <a:cubicBezTo>
                      <a:pt x="133" y="45"/>
                      <a:pt x="131" y="45"/>
                      <a:pt x="129" y="44"/>
                    </a:cubicBezTo>
                    <a:cubicBezTo>
                      <a:pt x="128" y="44"/>
                      <a:pt x="126" y="43"/>
                      <a:pt x="124" y="42"/>
                    </a:cubicBezTo>
                    <a:cubicBezTo>
                      <a:pt x="121" y="42"/>
                      <a:pt x="119" y="42"/>
                      <a:pt x="117" y="42"/>
                    </a:cubicBezTo>
                    <a:cubicBezTo>
                      <a:pt x="114" y="42"/>
                      <a:pt x="111" y="42"/>
                      <a:pt x="109" y="43"/>
                    </a:cubicBezTo>
                    <a:cubicBezTo>
                      <a:pt x="86" y="48"/>
                      <a:pt x="55" y="55"/>
                      <a:pt x="32" y="60"/>
                    </a:cubicBezTo>
                    <a:cubicBezTo>
                      <a:pt x="30" y="60"/>
                      <a:pt x="28" y="61"/>
                      <a:pt x="26" y="61"/>
                    </a:cubicBezTo>
                    <a:cubicBezTo>
                      <a:pt x="25" y="61"/>
                      <a:pt x="23" y="62"/>
                      <a:pt x="21" y="62"/>
                    </a:cubicBezTo>
                    <a:cubicBezTo>
                      <a:pt x="18" y="62"/>
                      <a:pt x="15" y="61"/>
                      <a:pt x="13" y="60"/>
                    </a:cubicBezTo>
                    <a:cubicBezTo>
                      <a:pt x="10" y="58"/>
                      <a:pt x="8" y="57"/>
                      <a:pt x="6" y="56"/>
                    </a:cubicBezTo>
                    <a:cubicBezTo>
                      <a:pt x="2" y="52"/>
                      <a:pt x="0" y="50"/>
                      <a:pt x="0" y="50"/>
                    </a:cubicBezTo>
                    <a:cubicBezTo>
                      <a:pt x="0" y="50"/>
                      <a:pt x="0" y="49"/>
                      <a:pt x="0" y="47"/>
                    </a:cubicBezTo>
                    <a:cubicBezTo>
                      <a:pt x="0" y="45"/>
                      <a:pt x="0" y="42"/>
                      <a:pt x="0" y="39"/>
                    </a:cubicBezTo>
                    <a:cubicBezTo>
                      <a:pt x="0" y="37"/>
                      <a:pt x="0" y="35"/>
                      <a:pt x="0" y="33"/>
                    </a:cubicBezTo>
                    <a:cubicBezTo>
                      <a:pt x="0" y="31"/>
                      <a:pt x="0" y="29"/>
                      <a:pt x="0" y="27"/>
                    </a:cubicBezTo>
                    <a:cubicBezTo>
                      <a:pt x="0" y="25"/>
                      <a:pt x="0" y="22"/>
                      <a:pt x="0" y="21"/>
                    </a:cubicBezTo>
                    <a:cubicBezTo>
                      <a:pt x="0" y="19"/>
                      <a:pt x="0" y="17"/>
                      <a:pt x="0" y="15"/>
                    </a:cubicBezTo>
                    <a:cubicBezTo>
                      <a:pt x="0" y="12"/>
                      <a:pt x="0" y="10"/>
                      <a:pt x="0" y="8"/>
                    </a:cubicBezTo>
                    <a:cubicBezTo>
                      <a:pt x="0" y="6"/>
                      <a:pt x="0" y="5"/>
                      <a:pt x="0" y="5"/>
                    </a:cubicBezTo>
                    <a:cubicBezTo>
                      <a:pt x="0" y="5"/>
                      <a:pt x="3" y="8"/>
                      <a:pt x="6" y="11"/>
                    </a:cubicBezTo>
                    <a:cubicBezTo>
                      <a:pt x="8" y="13"/>
                      <a:pt x="10" y="15"/>
                      <a:pt x="13" y="17"/>
                    </a:cubicBezTo>
                    <a:cubicBezTo>
                      <a:pt x="15" y="19"/>
                      <a:pt x="18" y="20"/>
                      <a:pt x="21" y="20"/>
                    </a:cubicBezTo>
                    <a:cubicBezTo>
                      <a:pt x="23" y="20"/>
                      <a:pt x="25" y="20"/>
                      <a:pt x="26" y="20"/>
                    </a:cubicBezTo>
                    <a:cubicBezTo>
                      <a:pt x="28" y="20"/>
                      <a:pt x="30" y="19"/>
                      <a:pt x="32" y="19"/>
                    </a:cubicBezTo>
                    <a:cubicBezTo>
                      <a:pt x="55" y="14"/>
                      <a:pt x="86" y="7"/>
                      <a:pt x="109" y="2"/>
                    </a:cubicBezTo>
                    <a:cubicBezTo>
                      <a:pt x="111" y="1"/>
                      <a:pt x="114" y="1"/>
                      <a:pt x="117" y="0"/>
                    </a:cubicBezTo>
                    <a:cubicBezTo>
                      <a:pt x="119" y="1"/>
                      <a:pt x="121" y="1"/>
                      <a:pt x="124" y="1"/>
                    </a:cubicBezTo>
                    <a:cubicBezTo>
                      <a:pt x="126" y="2"/>
                      <a:pt x="128" y="2"/>
                      <a:pt x="129" y="3"/>
                    </a:cubicBezTo>
                    <a:cubicBezTo>
                      <a:pt x="131" y="4"/>
                      <a:pt x="133" y="4"/>
                      <a:pt x="134" y="5"/>
                    </a:cubicBezTo>
                    <a:cubicBezTo>
                      <a:pt x="136" y="6"/>
                      <a:pt x="137" y="6"/>
                      <a:pt x="137" y="6"/>
                    </a:cubicBezTo>
                    <a:cubicBezTo>
                      <a:pt x="137" y="6"/>
                      <a:pt x="137" y="8"/>
                      <a:pt x="137" y="10"/>
                    </a:cubicBezTo>
                    <a:cubicBezTo>
                      <a:pt x="137" y="12"/>
                      <a:pt x="137" y="14"/>
                      <a:pt x="137" y="17"/>
                    </a:cubicBezTo>
                    <a:cubicBezTo>
                      <a:pt x="137" y="19"/>
                      <a:pt x="137" y="20"/>
                      <a:pt x="137" y="22"/>
                    </a:cubicBezTo>
                    <a:cubicBezTo>
                      <a:pt x="137" y="24"/>
                      <a:pt x="137" y="25"/>
                      <a:pt x="137" y="27"/>
                    </a:cubicBezTo>
                    <a:cubicBezTo>
                      <a:pt x="137" y="29"/>
                      <a:pt x="137" y="31"/>
                      <a:pt x="137" y="32"/>
                    </a:cubicBezTo>
                    <a:cubicBezTo>
                      <a:pt x="137" y="34"/>
                      <a:pt x="137" y="36"/>
                      <a:pt x="137" y="37"/>
                    </a:cubicBezTo>
                    <a:cubicBezTo>
                      <a:pt x="137" y="40"/>
                      <a:pt x="137" y="43"/>
                      <a:pt x="137" y="45"/>
                    </a:cubicBezTo>
                    <a:cubicBezTo>
                      <a:pt x="137" y="46"/>
                      <a:pt x="137" y="47"/>
                      <a:pt x="137" y="47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AutoShape 11"/>
              <p:cNvSpPr/>
              <p:nvPr/>
            </p:nvSpPr>
            <p:spPr>
              <a:xfrm>
                <a:off x="5166000" y="1628640"/>
                <a:ext cx="210960" cy="7596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137" h="62">
                    <a:moveTo>
                      <a:pt x="137" y="45"/>
                    </a:moveTo>
                    <a:cubicBezTo>
                      <a:pt x="137" y="45"/>
                      <a:pt x="136" y="45"/>
                      <a:pt x="133" y="44"/>
                    </a:cubicBezTo>
                    <a:cubicBezTo>
                      <a:pt x="132" y="43"/>
                      <a:pt x="130" y="42"/>
                      <a:pt x="129" y="42"/>
                    </a:cubicBezTo>
                    <a:cubicBezTo>
                      <a:pt x="127" y="41"/>
                      <a:pt x="125" y="41"/>
                      <a:pt x="122" y="41"/>
                    </a:cubicBezTo>
                    <a:cubicBezTo>
                      <a:pt x="120" y="41"/>
                      <a:pt x="118" y="41"/>
                      <a:pt x="115" y="41"/>
                    </a:cubicBezTo>
                    <a:cubicBezTo>
                      <a:pt x="112" y="41"/>
                      <a:pt x="109" y="42"/>
                      <a:pt x="106" y="43"/>
                    </a:cubicBezTo>
                    <a:cubicBezTo>
                      <a:pt x="82" y="48"/>
                      <a:pt x="49" y="55"/>
                      <a:pt x="26" y="60"/>
                    </a:cubicBezTo>
                    <a:cubicBezTo>
                      <a:pt x="25" y="61"/>
                      <a:pt x="23" y="61"/>
                      <a:pt x="21" y="61"/>
                    </a:cubicBezTo>
                    <a:cubicBezTo>
                      <a:pt x="18" y="62"/>
                      <a:pt x="15" y="62"/>
                      <a:pt x="13" y="62"/>
                    </a:cubicBezTo>
                    <a:cubicBezTo>
                      <a:pt x="10" y="62"/>
                      <a:pt x="8" y="62"/>
                      <a:pt x="6" y="61"/>
                    </a:cubicBezTo>
                    <a:cubicBezTo>
                      <a:pt x="3" y="59"/>
                      <a:pt x="1" y="57"/>
                      <a:pt x="1" y="57"/>
                    </a:cubicBezTo>
                    <a:cubicBezTo>
                      <a:pt x="1" y="57"/>
                      <a:pt x="1" y="56"/>
                      <a:pt x="1" y="54"/>
                    </a:cubicBezTo>
                    <a:cubicBezTo>
                      <a:pt x="1" y="53"/>
                      <a:pt x="1" y="52"/>
                      <a:pt x="1" y="50"/>
                    </a:cubicBezTo>
                    <a:cubicBezTo>
                      <a:pt x="1" y="48"/>
                      <a:pt x="1" y="46"/>
                      <a:pt x="1" y="44"/>
                    </a:cubicBezTo>
                    <a:cubicBezTo>
                      <a:pt x="1" y="42"/>
                      <a:pt x="1" y="40"/>
                      <a:pt x="1" y="38"/>
                    </a:cubicBezTo>
                    <a:cubicBezTo>
                      <a:pt x="1" y="35"/>
                      <a:pt x="1" y="33"/>
                      <a:pt x="1" y="31"/>
                    </a:cubicBezTo>
                    <a:cubicBezTo>
                      <a:pt x="1" y="29"/>
                      <a:pt x="1" y="27"/>
                      <a:pt x="1" y="25"/>
                    </a:cubicBezTo>
                    <a:cubicBezTo>
                      <a:pt x="1" y="23"/>
                      <a:pt x="1" y="21"/>
                      <a:pt x="1" y="19"/>
                    </a:cubicBezTo>
                    <a:cubicBezTo>
                      <a:pt x="1" y="16"/>
                      <a:pt x="1" y="13"/>
                      <a:pt x="0" y="11"/>
                    </a:cubicBezTo>
                    <a:cubicBezTo>
                      <a:pt x="0" y="9"/>
                      <a:pt x="0" y="8"/>
                      <a:pt x="0" y="8"/>
                    </a:cubicBezTo>
                    <a:cubicBezTo>
                      <a:pt x="0" y="8"/>
                      <a:pt x="2" y="10"/>
                      <a:pt x="6" y="14"/>
                    </a:cubicBezTo>
                    <a:cubicBezTo>
                      <a:pt x="8" y="15"/>
                      <a:pt x="10" y="16"/>
                      <a:pt x="13" y="18"/>
                    </a:cubicBezTo>
                    <a:cubicBezTo>
                      <a:pt x="15" y="19"/>
                      <a:pt x="18" y="20"/>
                      <a:pt x="21" y="20"/>
                    </a:cubicBezTo>
                    <a:cubicBezTo>
                      <a:pt x="23" y="20"/>
                      <a:pt x="25" y="19"/>
                      <a:pt x="26" y="19"/>
                    </a:cubicBezTo>
                    <a:cubicBezTo>
                      <a:pt x="28" y="19"/>
                      <a:pt x="30" y="18"/>
                      <a:pt x="32" y="18"/>
                    </a:cubicBezTo>
                    <a:cubicBezTo>
                      <a:pt x="55" y="13"/>
                      <a:pt x="86" y="6"/>
                      <a:pt x="109" y="1"/>
                    </a:cubicBezTo>
                    <a:cubicBezTo>
                      <a:pt x="111" y="0"/>
                      <a:pt x="114" y="0"/>
                      <a:pt x="117" y="0"/>
                    </a:cubicBezTo>
                    <a:cubicBezTo>
                      <a:pt x="119" y="0"/>
                      <a:pt x="121" y="0"/>
                      <a:pt x="124" y="0"/>
                    </a:cubicBezTo>
                    <a:cubicBezTo>
                      <a:pt x="126" y="1"/>
                      <a:pt x="128" y="2"/>
                      <a:pt x="129" y="2"/>
                    </a:cubicBezTo>
                    <a:cubicBezTo>
                      <a:pt x="131" y="3"/>
                      <a:pt x="133" y="3"/>
                      <a:pt x="134" y="4"/>
                    </a:cubicBezTo>
                    <a:cubicBezTo>
                      <a:pt x="136" y="5"/>
                      <a:pt x="137" y="5"/>
                      <a:pt x="137" y="5"/>
                    </a:cubicBezTo>
                    <a:cubicBezTo>
                      <a:pt x="137" y="5"/>
                      <a:pt x="137" y="7"/>
                      <a:pt x="137" y="9"/>
                    </a:cubicBezTo>
                    <a:cubicBezTo>
                      <a:pt x="137" y="10"/>
                      <a:pt x="137" y="13"/>
                      <a:pt x="137" y="16"/>
                    </a:cubicBezTo>
                    <a:cubicBezTo>
                      <a:pt x="137" y="19"/>
                      <a:pt x="137" y="22"/>
                      <a:pt x="137" y="25"/>
                    </a:cubicBezTo>
                    <a:cubicBezTo>
                      <a:pt x="137" y="29"/>
                      <a:pt x="137" y="32"/>
                      <a:pt x="137" y="35"/>
                    </a:cubicBezTo>
                    <a:cubicBezTo>
                      <a:pt x="137" y="37"/>
                      <a:pt x="137" y="40"/>
                      <a:pt x="137" y="42"/>
                    </a:cubicBezTo>
                    <a:cubicBezTo>
                      <a:pt x="137" y="44"/>
                      <a:pt x="137" y="45"/>
                      <a:pt x="137" y="45"/>
                    </a:cubicBezTo>
                    <a:close/>
                  </a:path>
                </a:pathLst>
              </a:custGeom>
              <a:solidFill>
                <a:srgbClr val="0a50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AutoShape 12"/>
              <p:cNvSpPr/>
              <p:nvPr/>
            </p:nvSpPr>
            <p:spPr>
              <a:xfrm>
                <a:off x="5167800" y="1678320"/>
                <a:ext cx="209520" cy="7848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136" h="63">
                    <a:moveTo>
                      <a:pt x="136" y="46"/>
                    </a:moveTo>
                    <a:cubicBezTo>
                      <a:pt x="136" y="46"/>
                      <a:pt x="135" y="45"/>
                      <a:pt x="132" y="44"/>
                    </a:cubicBezTo>
                    <a:cubicBezTo>
                      <a:pt x="131" y="44"/>
                      <a:pt x="129" y="43"/>
                      <a:pt x="127" y="42"/>
                    </a:cubicBezTo>
                    <a:cubicBezTo>
                      <a:pt x="125" y="42"/>
                      <a:pt x="123" y="41"/>
                      <a:pt x="120" y="41"/>
                    </a:cubicBezTo>
                    <a:cubicBezTo>
                      <a:pt x="118" y="41"/>
                      <a:pt x="115" y="41"/>
                      <a:pt x="112" y="41"/>
                    </a:cubicBezTo>
                    <a:cubicBezTo>
                      <a:pt x="109" y="42"/>
                      <a:pt x="106" y="43"/>
                      <a:pt x="103" y="43"/>
                    </a:cubicBezTo>
                    <a:cubicBezTo>
                      <a:pt x="77" y="49"/>
                      <a:pt x="43" y="57"/>
                      <a:pt x="20" y="62"/>
                    </a:cubicBezTo>
                    <a:cubicBezTo>
                      <a:pt x="17" y="62"/>
                      <a:pt x="14" y="63"/>
                      <a:pt x="12" y="63"/>
                    </a:cubicBezTo>
                    <a:cubicBezTo>
                      <a:pt x="9" y="63"/>
                      <a:pt x="7" y="62"/>
                      <a:pt x="5" y="61"/>
                    </a:cubicBezTo>
                    <a:cubicBezTo>
                      <a:pt x="2" y="59"/>
                      <a:pt x="0" y="57"/>
                      <a:pt x="0" y="57"/>
                    </a:cubicBezTo>
                    <a:cubicBezTo>
                      <a:pt x="0" y="57"/>
                      <a:pt x="0" y="56"/>
                      <a:pt x="0" y="53"/>
                    </a:cubicBezTo>
                    <a:cubicBezTo>
                      <a:pt x="0" y="51"/>
                      <a:pt x="0" y="48"/>
                      <a:pt x="0" y="45"/>
                    </a:cubicBezTo>
                    <a:cubicBezTo>
                      <a:pt x="0" y="43"/>
                      <a:pt x="0" y="42"/>
                      <a:pt x="0" y="40"/>
                    </a:cubicBezTo>
                    <a:cubicBezTo>
                      <a:pt x="0" y="38"/>
                      <a:pt x="0" y="37"/>
                      <a:pt x="0" y="35"/>
                    </a:cubicBezTo>
                    <a:cubicBezTo>
                      <a:pt x="0" y="34"/>
                      <a:pt x="0" y="32"/>
                      <a:pt x="0" y="31"/>
                    </a:cubicBezTo>
                    <a:cubicBezTo>
                      <a:pt x="0" y="29"/>
                      <a:pt x="0" y="28"/>
                      <a:pt x="0" y="26"/>
                    </a:cubicBezTo>
                    <a:cubicBezTo>
                      <a:pt x="0" y="24"/>
                      <a:pt x="0" y="21"/>
                      <a:pt x="0" y="19"/>
                    </a:cubicBezTo>
                    <a:cubicBezTo>
                      <a:pt x="0" y="17"/>
                      <a:pt x="0" y="16"/>
                      <a:pt x="0" y="16"/>
                    </a:cubicBezTo>
                    <a:cubicBezTo>
                      <a:pt x="0" y="16"/>
                      <a:pt x="2" y="18"/>
                      <a:pt x="5" y="20"/>
                    </a:cubicBezTo>
                    <a:cubicBezTo>
                      <a:pt x="7" y="21"/>
                      <a:pt x="9" y="21"/>
                      <a:pt x="12" y="21"/>
                    </a:cubicBezTo>
                    <a:cubicBezTo>
                      <a:pt x="14" y="21"/>
                      <a:pt x="17" y="21"/>
                      <a:pt x="20" y="20"/>
                    </a:cubicBezTo>
                    <a:cubicBezTo>
                      <a:pt x="22" y="20"/>
                      <a:pt x="24" y="20"/>
                      <a:pt x="25" y="19"/>
                    </a:cubicBezTo>
                    <a:cubicBezTo>
                      <a:pt x="48" y="14"/>
                      <a:pt x="81" y="7"/>
                      <a:pt x="105" y="2"/>
                    </a:cubicBezTo>
                    <a:cubicBezTo>
                      <a:pt x="108" y="1"/>
                      <a:pt x="111" y="0"/>
                      <a:pt x="114" y="0"/>
                    </a:cubicBezTo>
                    <a:cubicBezTo>
                      <a:pt x="117" y="0"/>
                      <a:pt x="119" y="0"/>
                      <a:pt x="121" y="0"/>
                    </a:cubicBezTo>
                    <a:cubicBezTo>
                      <a:pt x="124" y="0"/>
                      <a:pt x="126" y="0"/>
                      <a:pt x="128" y="1"/>
                    </a:cubicBezTo>
                    <a:cubicBezTo>
                      <a:pt x="129" y="1"/>
                      <a:pt x="131" y="2"/>
                      <a:pt x="132" y="3"/>
                    </a:cubicBezTo>
                    <a:cubicBezTo>
                      <a:pt x="135" y="4"/>
                      <a:pt x="136" y="4"/>
                      <a:pt x="136" y="4"/>
                    </a:cubicBezTo>
                    <a:cubicBezTo>
                      <a:pt x="136" y="4"/>
                      <a:pt x="136" y="5"/>
                      <a:pt x="136" y="8"/>
                    </a:cubicBezTo>
                    <a:cubicBezTo>
                      <a:pt x="136" y="10"/>
                      <a:pt x="136" y="13"/>
                      <a:pt x="136" y="16"/>
                    </a:cubicBezTo>
                    <a:cubicBezTo>
                      <a:pt x="136" y="18"/>
                      <a:pt x="136" y="19"/>
                      <a:pt x="136" y="21"/>
                    </a:cubicBezTo>
                    <a:cubicBezTo>
                      <a:pt x="136" y="23"/>
                      <a:pt x="136" y="24"/>
                      <a:pt x="136" y="26"/>
                    </a:cubicBezTo>
                    <a:cubicBezTo>
                      <a:pt x="136" y="29"/>
                      <a:pt x="136" y="32"/>
                      <a:pt x="136" y="35"/>
                    </a:cubicBezTo>
                    <a:cubicBezTo>
                      <a:pt x="136" y="38"/>
                      <a:pt x="136" y="41"/>
                      <a:pt x="136" y="43"/>
                    </a:cubicBezTo>
                    <a:cubicBezTo>
                      <a:pt x="136" y="45"/>
                      <a:pt x="136" y="46"/>
                      <a:pt x="136" y="46"/>
                    </a:cubicBez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AutoShape 13"/>
              <p:cNvSpPr/>
              <p:nvPr/>
            </p:nvSpPr>
            <p:spPr>
              <a:xfrm>
                <a:off x="5166000" y="1576800"/>
                <a:ext cx="210960" cy="7596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137" h="62">
                    <a:moveTo>
                      <a:pt x="137" y="47"/>
                    </a:moveTo>
                    <a:cubicBezTo>
                      <a:pt x="137" y="47"/>
                      <a:pt x="136" y="47"/>
                      <a:pt x="134" y="46"/>
                    </a:cubicBezTo>
                    <a:cubicBezTo>
                      <a:pt x="133" y="45"/>
                      <a:pt x="131" y="45"/>
                      <a:pt x="129" y="44"/>
                    </a:cubicBezTo>
                    <a:cubicBezTo>
                      <a:pt x="128" y="43"/>
                      <a:pt x="126" y="43"/>
                      <a:pt x="124" y="42"/>
                    </a:cubicBezTo>
                    <a:cubicBezTo>
                      <a:pt x="121" y="42"/>
                      <a:pt x="119" y="42"/>
                      <a:pt x="117" y="41"/>
                    </a:cubicBezTo>
                    <a:cubicBezTo>
                      <a:pt x="114" y="42"/>
                      <a:pt x="111" y="42"/>
                      <a:pt x="109" y="43"/>
                    </a:cubicBezTo>
                    <a:cubicBezTo>
                      <a:pt x="86" y="48"/>
                      <a:pt x="55" y="55"/>
                      <a:pt x="32" y="60"/>
                    </a:cubicBezTo>
                    <a:cubicBezTo>
                      <a:pt x="30" y="60"/>
                      <a:pt x="28" y="61"/>
                      <a:pt x="26" y="61"/>
                    </a:cubicBezTo>
                    <a:cubicBezTo>
                      <a:pt x="25" y="61"/>
                      <a:pt x="23" y="62"/>
                      <a:pt x="21" y="62"/>
                    </a:cubicBezTo>
                    <a:cubicBezTo>
                      <a:pt x="18" y="62"/>
                      <a:pt x="15" y="61"/>
                      <a:pt x="13" y="60"/>
                    </a:cubicBezTo>
                    <a:cubicBezTo>
                      <a:pt x="10" y="58"/>
                      <a:pt x="8" y="57"/>
                      <a:pt x="6" y="55"/>
                    </a:cubicBezTo>
                    <a:cubicBezTo>
                      <a:pt x="3" y="52"/>
                      <a:pt x="0" y="50"/>
                      <a:pt x="0" y="50"/>
                    </a:cubicBezTo>
                    <a:cubicBezTo>
                      <a:pt x="0" y="50"/>
                      <a:pt x="0" y="49"/>
                      <a:pt x="0" y="47"/>
                    </a:cubicBezTo>
                    <a:cubicBezTo>
                      <a:pt x="0" y="45"/>
                      <a:pt x="0" y="42"/>
                      <a:pt x="0" y="39"/>
                    </a:cubicBezTo>
                    <a:cubicBezTo>
                      <a:pt x="0" y="37"/>
                      <a:pt x="0" y="35"/>
                      <a:pt x="0" y="33"/>
                    </a:cubicBezTo>
                    <a:cubicBezTo>
                      <a:pt x="0" y="31"/>
                      <a:pt x="0" y="29"/>
                      <a:pt x="0" y="27"/>
                    </a:cubicBezTo>
                    <a:cubicBezTo>
                      <a:pt x="0" y="25"/>
                      <a:pt x="0" y="23"/>
                      <a:pt x="0" y="21"/>
                    </a:cubicBezTo>
                    <a:cubicBezTo>
                      <a:pt x="0" y="19"/>
                      <a:pt x="0" y="17"/>
                      <a:pt x="0" y="15"/>
                    </a:cubicBezTo>
                    <a:cubicBezTo>
                      <a:pt x="0" y="12"/>
                      <a:pt x="0" y="10"/>
                      <a:pt x="0" y="8"/>
                    </a:cubicBezTo>
                    <a:cubicBezTo>
                      <a:pt x="0" y="6"/>
                      <a:pt x="0" y="5"/>
                      <a:pt x="0" y="5"/>
                    </a:cubicBezTo>
                    <a:cubicBezTo>
                      <a:pt x="0" y="5"/>
                      <a:pt x="3" y="7"/>
                      <a:pt x="6" y="11"/>
                    </a:cubicBezTo>
                    <a:cubicBezTo>
                      <a:pt x="8" y="13"/>
                      <a:pt x="10" y="15"/>
                      <a:pt x="13" y="17"/>
                    </a:cubicBezTo>
                    <a:cubicBezTo>
                      <a:pt x="15" y="19"/>
                      <a:pt x="18" y="20"/>
                      <a:pt x="21" y="20"/>
                    </a:cubicBezTo>
                    <a:cubicBezTo>
                      <a:pt x="23" y="20"/>
                      <a:pt x="25" y="20"/>
                      <a:pt x="26" y="20"/>
                    </a:cubicBezTo>
                    <a:cubicBezTo>
                      <a:pt x="28" y="19"/>
                      <a:pt x="30" y="19"/>
                      <a:pt x="32" y="19"/>
                    </a:cubicBezTo>
                    <a:cubicBezTo>
                      <a:pt x="55" y="13"/>
                      <a:pt x="86" y="7"/>
                      <a:pt x="109" y="2"/>
                    </a:cubicBezTo>
                    <a:cubicBezTo>
                      <a:pt x="111" y="1"/>
                      <a:pt x="114" y="1"/>
                      <a:pt x="117" y="0"/>
                    </a:cubicBezTo>
                    <a:cubicBezTo>
                      <a:pt x="119" y="0"/>
                      <a:pt x="121" y="1"/>
                      <a:pt x="124" y="1"/>
                    </a:cubicBezTo>
                    <a:cubicBezTo>
                      <a:pt x="126" y="2"/>
                      <a:pt x="128" y="2"/>
                      <a:pt x="129" y="3"/>
                    </a:cubicBezTo>
                    <a:cubicBezTo>
                      <a:pt x="131" y="4"/>
                      <a:pt x="133" y="4"/>
                      <a:pt x="134" y="5"/>
                    </a:cubicBezTo>
                    <a:cubicBezTo>
                      <a:pt x="136" y="6"/>
                      <a:pt x="137" y="6"/>
                      <a:pt x="137" y="6"/>
                    </a:cubicBezTo>
                    <a:cubicBezTo>
                      <a:pt x="137" y="6"/>
                      <a:pt x="137" y="8"/>
                      <a:pt x="137" y="10"/>
                    </a:cubicBezTo>
                    <a:cubicBezTo>
                      <a:pt x="137" y="12"/>
                      <a:pt x="137" y="14"/>
                      <a:pt x="137" y="17"/>
                    </a:cubicBezTo>
                    <a:cubicBezTo>
                      <a:pt x="137" y="19"/>
                      <a:pt x="137" y="20"/>
                      <a:pt x="137" y="22"/>
                    </a:cubicBezTo>
                    <a:cubicBezTo>
                      <a:pt x="137" y="24"/>
                      <a:pt x="137" y="25"/>
                      <a:pt x="137" y="27"/>
                    </a:cubicBezTo>
                    <a:cubicBezTo>
                      <a:pt x="137" y="29"/>
                      <a:pt x="137" y="30"/>
                      <a:pt x="137" y="32"/>
                    </a:cubicBezTo>
                    <a:cubicBezTo>
                      <a:pt x="137" y="34"/>
                      <a:pt x="137" y="36"/>
                      <a:pt x="137" y="37"/>
                    </a:cubicBezTo>
                    <a:cubicBezTo>
                      <a:pt x="137" y="40"/>
                      <a:pt x="137" y="43"/>
                      <a:pt x="137" y="44"/>
                    </a:cubicBezTo>
                    <a:cubicBezTo>
                      <a:pt x="137" y="46"/>
                      <a:pt x="137" y="47"/>
                      <a:pt x="137" y="4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AutoShape 14"/>
              <p:cNvSpPr/>
              <p:nvPr/>
            </p:nvSpPr>
            <p:spPr>
              <a:xfrm>
                <a:off x="5166000" y="1628640"/>
                <a:ext cx="210960" cy="7596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137" h="62">
                    <a:moveTo>
                      <a:pt x="137" y="45"/>
                    </a:moveTo>
                    <a:cubicBezTo>
                      <a:pt x="137" y="45"/>
                      <a:pt x="136" y="45"/>
                      <a:pt x="133" y="44"/>
                    </a:cubicBezTo>
                    <a:cubicBezTo>
                      <a:pt x="132" y="43"/>
                      <a:pt x="130" y="42"/>
                      <a:pt x="129" y="42"/>
                    </a:cubicBezTo>
                    <a:cubicBezTo>
                      <a:pt x="127" y="41"/>
                      <a:pt x="125" y="41"/>
                      <a:pt x="122" y="41"/>
                    </a:cubicBezTo>
                    <a:cubicBezTo>
                      <a:pt x="120" y="41"/>
                      <a:pt x="118" y="41"/>
                      <a:pt x="115" y="41"/>
                    </a:cubicBezTo>
                    <a:cubicBezTo>
                      <a:pt x="112" y="41"/>
                      <a:pt x="109" y="42"/>
                      <a:pt x="106" y="43"/>
                    </a:cubicBezTo>
                    <a:cubicBezTo>
                      <a:pt x="82" y="48"/>
                      <a:pt x="49" y="55"/>
                      <a:pt x="26" y="60"/>
                    </a:cubicBezTo>
                    <a:cubicBezTo>
                      <a:pt x="25" y="61"/>
                      <a:pt x="23" y="61"/>
                      <a:pt x="21" y="61"/>
                    </a:cubicBezTo>
                    <a:cubicBezTo>
                      <a:pt x="18" y="62"/>
                      <a:pt x="15" y="62"/>
                      <a:pt x="13" y="62"/>
                    </a:cubicBezTo>
                    <a:cubicBezTo>
                      <a:pt x="10" y="62"/>
                      <a:pt x="8" y="62"/>
                      <a:pt x="6" y="61"/>
                    </a:cubicBezTo>
                    <a:cubicBezTo>
                      <a:pt x="3" y="59"/>
                      <a:pt x="1" y="57"/>
                      <a:pt x="1" y="57"/>
                    </a:cubicBezTo>
                    <a:cubicBezTo>
                      <a:pt x="1" y="57"/>
                      <a:pt x="1" y="56"/>
                      <a:pt x="1" y="54"/>
                    </a:cubicBezTo>
                    <a:cubicBezTo>
                      <a:pt x="1" y="52"/>
                      <a:pt x="1" y="49"/>
                      <a:pt x="1" y="45"/>
                    </a:cubicBezTo>
                    <a:cubicBezTo>
                      <a:pt x="1" y="43"/>
                      <a:pt x="1" y="40"/>
                      <a:pt x="1" y="38"/>
                    </a:cubicBezTo>
                    <a:cubicBezTo>
                      <a:pt x="1" y="36"/>
                      <a:pt x="1" y="33"/>
                      <a:pt x="1" y="31"/>
                    </a:cubicBezTo>
                    <a:cubicBezTo>
                      <a:pt x="1" y="29"/>
                      <a:pt x="1" y="27"/>
                      <a:pt x="1" y="25"/>
                    </a:cubicBezTo>
                    <a:cubicBezTo>
                      <a:pt x="1" y="23"/>
                      <a:pt x="1" y="21"/>
                      <a:pt x="1" y="19"/>
                    </a:cubicBezTo>
                    <a:cubicBezTo>
                      <a:pt x="1" y="16"/>
                      <a:pt x="1" y="13"/>
                      <a:pt x="1" y="11"/>
                    </a:cubicBezTo>
                    <a:cubicBezTo>
                      <a:pt x="0" y="9"/>
                      <a:pt x="0" y="8"/>
                      <a:pt x="0" y="8"/>
                    </a:cubicBezTo>
                    <a:cubicBezTo>
                      <a:pt x="0" y="8"/>
                      <a:pt x="3" y="10"/>
                      <a:pt x="6" y="13"/>
                    </a:cubicBezTo>
                    <a:cubicBezTo>
                      <a:pt x="8" y="15"/>
                      <a:pt x="10" y="16"/>
                      <a:pt x="13" y="18"/>
                    </a:cubicBezTo>
                    <a:cubicBezTo>
                      <a:pt x="15" y="19"/>
                      <a:pt x="18" y="20"/>
                      <a:pt x="21" y="20"/>
                    </a:cubicBezTo>
                    <a:cubicBezTo>
                      <a:pt x="23" y="20"/>
                      <a:pt x="25" y="19"/>
                      <a:pt x="26" y="19"/>
                    </a:cubicBezTo>
                    <a:cubicBezTo>
                      <a:pt x="28" y="19"/>
                      <a:pt x="30" y="18"/>
                      <a:pt x="32" y="18"/>
                    </a:cubicBezTo>
                    <a:cubicBezTo>
                      <a:pt x="55" y="13"/>
                      <a:pt x="86" y="6"/>
                      <a:pt x="109" y="1"/>
                    </a:cubicBezTo>
                    <a:cubicBezTo>
                      <a:pt x="111" y="0"/>
                      <a:pt x="114" y="0"/>
                      <a:pt x="117" y="0"/>
                    </a:cubicBezTo>
                    <a:cubicBezTo>
                      <a:pt x="119" y="0"/>
                      <a:pt x="121" y="0"/>
                      <a:pt x="124" y="0"/>
                    </a:cubicBezTo>
                    <a:cubicBezTo>
                      <a:pt x="126" y="1"/>
                      <a:pt x="128" y="1"/>
                      <a:pt x="129" y="2"/>
                    </a:cubicBezTo>
                    <a:cubicBezTo>
                      <a:pt x="131" y="3"/>
                      <a:pt x="133" y="3"/>
                      <a:pt x="134" y="4"/>
                    </a:cubicBezTo>
                    <a:cubicBezTo>
                      <a:pt x="136" y="5"/>
                      <a:pt x="137" y="5"/>
                      <a:pt x="137" y="5"/>
                    </a:cubicBezTo>
                    <a:cubicBezTo>
                      <a:pt x="137" y="5"/>
                      <a:pt x="137" y="6"/>
                      <a:pt x="137" y="8"/>
                    </a:cubicBezTo>
                    <a:cubicBezTo>
                      <a:pt x="137" y="10"/>
                      <a:pt x="137" y="13"/>
                      <a:pt x="137" y="16"/>
                    </a:cubicBezTo>
                    <a:cubicBezTo>
                      <a:pt x="137" y="19"/>
                      <a:pt x="137" y="22"/>
                      <a:pt x="137" y="25"/>
                    </a:cubicBezTo>
                    <a:cubicBezTo>
                      <a:pt x="137" y="28"/>
                      <a:pt x="137" y="31"/>
                      <a:pt x="137" y="34"/>
                    </a:cubicBezTo>
                    <a:cubicBezTo>
                      <a:pt x="137" y="37"/>
                      <a:pt x="137" y="40"/>
                      <a:pt x="137" y="42"/>
                    </a:cubicBezTo>
                    <a:cubicBezTo>
                      <a:pt x="137" y="44"/>
                      <a:pt x="137" y="45"/>
                      <a:pt x="137" y="45"/>
                    </a:cubicBezTo>
                    <a:close/>
                  </a:path>
                </a:pathLst>
              </a:custGeom>
              <a:solidFill>
                <a:srgbClr val="0a5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0" name="AutoShape 15"/>
              <p:cNvSpPr/>
              <p:nvPr/>
            </p:nvSpPr>
            <p:spPr>
              <a:xfrm>
                <a:off x="5167800" y="1678320"/>
                <a:ext cx="209520" cy="7848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136" h="63">
                    <a:moveTo>
                      <a:pt x="136" y="46"/>
                    </a:moveTo>
                    <a:cubicBezTo>
                      <a:pt x="136" y="46"/>
                      <a:pt x="135" y="45"/>
                      <a:pt x="132" y="44"/>
                    </a:cubicBezTo>
                    <a:cubicBezTo>
                      <a:pt x="131" y="43"/>
                      <a:pt x="129" y="43"/>
                      <a:pt x="127" y="42"/>
                    </a:cubicBezTo>
                    <a:cubicBezTo>
                      <a:pt x="125" y="42"/>
                      <a:pt x="123" y="41"/>
                      <a:pt x="120" y="41"/>
                    </a:cubicBezTo>
                    <a:cubicBezTo>
                      <a:pt x="118" y="41"/>
                      <a:pt x="115" y="41"/>
                      <a:pt x="112" y="41"/>
                    </a:cubicBezTo>
                    <a:cubicBezTo>
                      <a:pt x="109" y="42"/>
                      <a:pt x="106" y="43"/>
                      <a:pt x="103" y="43"/>
                    </a:cubicBezTo>
                    <a:cubicBezTo>
                      <a:pt x="77" y="49"/>
                      <a:pt x="43" y="57"/>
                      <a:pt x="20" y="62"/>
                    </a:cubicBezTo>
                    <a:cubicBezTo>
                      <a:pt x="17" y="62"/>
                      <a:pt x="14" y="63"/>
                      <a:pt x="12" y="63"/>
                    </a:cubicBezTo>
                    <a:cubicBezTo>
                      <a:pt x="9" y="63"/>
                      <a:pt x="7" y="62"/>
                      <a:pt x="5" y="61"/>
                    </a:cubicBezTo>
                    <a:cubicBezTo>
                      <a:pt x="2" y="59"/>
                      <a:pt x="0" y="57"/>
                      <a:pt x="0" y="57"/>
                    </a:cubicBezTo>
                    <a:cubicBezTo>
                      <a:pt x="0" y="57"/>
                      <a:pt x="0" y="56"/>
                      <a:pt x="0" y="54"/>
                    </a:cubicBezTo>
                    <a:cubicBezTo>
                      <a:pt x="0" y="51"/>
                      <a:pt x="0" y="48"/>
                      <a:pt x="0" y="45"/>
                    </a:cubicBezTo>
                    <a:cubicBezTo>
                      <a:pt x="0" y="43"/>
                      <a:pt x="0" y="42"/>
                      <a:pt x="0" y="40"/>
                    </a:cubicBezTo>
                    <a:cubicBezTo>
                      <a:pt x="0" y="38"/>
                      <a:pt x="0" y="37"/>
                      <a:pt x="0" y="35"/>
                    </a:cubicBezTo>
                    <a:cubicBezTo>
                      <a:pt x="0" y="33"/>
                      <a:pt x="0" y="32"/>
                      <a:pt x="0" y="30"/>
                    </a:cubicBezTo>
                    <a:cubicBezTo>
                      <a:pt x="0" y="29"/>
                      <a:pt x="0" y="27"/>
                      <a:pt x="0" y="26"/>
                    </a:cubicBezTo>
                    <a:cubicBezTo>
                      <a:pt x="0" y="23"/>
                      <a:pt x="0" y="21"/>
                      <a:pt x="0" y="19"/>
                    </a:cubicBezTo>
                    <a:cubicBezTo>
                      <a:pt x="0" y="17"/>
                      <a:pt x="0" y="16"/>
                      <a:pt x="0" y="16"/>
                    </a:cubicBezTo>
                    <a:cubicBezTo>
                      <a:pt x="0" y="16"/>
                      <a:pt x="2" y="18"/>
                      <a:pt x="5" y="20"/>
                    </a:cubicBezTo>
                    <a:cubicBezTo>
                      <a:pt x="7" y="21"/>
                      <a:pt x="9" y="21"/>
                      <a:pt x="12" y="21"/>
                    </a:cubicBezTo>
                    <a:cubicBezTo>
                      <a:pt x="14" y="21"/>
                      <a:pt x="17" y="21"/>
                      <a:pt x="20" y="20"/>
                    </a:cubicBezTo>
                    <a:cubicBezTo>
                      <a:pt x="22" y="20"/>
                      <a:pt x="24" y="20"/>
                      <a:pt x="25" y="19"/>
                    </a:cubicBezTo>
                    <a:cubicBezTo>
                      <a:pt x="48" y="14"/>
                      <a:pt x="81" y="7"/>
                      <a:pt x="105" y="2"/>
                    </a:cubicBezTo>
                    <a:cubicBezTo>
                      <a:pt x="108" y="1"/>
                      <a:pt x="111" y="0"/>
                      <a:pt x="114" y="0"/>
                    </a:cubicBezTo>
                    <a:cubicBezTo>
                      <a:pt x="117" y="0"/>
                      <a:pt x="119" y="0"/>
                      <a:pt x="121" y="0"/>
                    </a:cubicBezTo>
                    <a:cubicBezTo>
                      <a:pt x="124" y="0"/>
                      <a:pt x="126" y="0"/>
                      <a:pt x="128" y="1"/>
                    </a:cubicBezTo>
                    <a:cubicBezTo>
                      <a:pt x="129" y="1"/>
                      <a:pt x="131" y="2"/>
                      <a:pt x="132" y="3"/>
                    </a:cubicBezTo>
                    <a:cubicBezTo>
                      <a:pt x="135" y="4"/>
                      <a:pt x="136" y="4"/>
                      <a:pt x="136" y="4"/>
                    </a:cubicBezTo>
                    <a:cubicBezTo>
                      <a:pt x="136" y="4"/>
                      <a:pt x="136" y="6"/>
                      <a:pt x="136" y="8"/>
                    </a:cubicBezTo>
                    <a:cubicBezTo>
                      <a:pt x="136" y="10"/>
                      <a:pt x="136" y="13"/>
                      <a:pt x="136" y="16"/>
                    </a:cubicBezTo>
                    <a:cubicBezTo>
                      <a:pt x="136" y="19"/>
                      <a:pt x="136" y="22"/>
                      <a:pt x="136" y="26"/>
                    </a:cubicBezTo>
                    <a:cubicBezTo>
                      <a:pt x="136" y="29"/>
                      <a:pt x="136" y="32"/>
                      <a:pt x="136" y="35"/>
                    </a:cubicBezTo>
                    <a:cubicBezTo>
                      <a:pt x="136" y="38"/>
                      <a:pt x="136" y="41"/>
                      <a:pt x="136" y="43"/>
                    </a:cubicBezTo>
                    <a:cubicBezTo>
                      <a:pt x="136" y="44"/>
                      <a:pt x="136" y="46"/>
                      <a:pt x="136" y="46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1" name="AutoShape 16"/>
              <p:cNvSpPr/>
              <p:nvPr/>
            </p:nvSpPr>
            <p:spPr>
              <a:xfrm>
                <a:off x="4734720" y="1230840"/>
                <a:ext cx="604440" cy="374760"/>
              </a:xfrm>
              <a:custGeom>
                <a:avLst/>
                <a:gdLst>
                  <a:gd name="textAreaLeft" fmla="*/ 0 w 604440"/>
                  <a:gd name="textAreaRight" fmla="*/ 604800 w 60444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392" h="303">
                    <a:moveTo>
                      <a:pt x="321" y="96"/>
                    </a:moveTo>
                    <a:cubicBezTo>
                      <a:pt x="320" y="96"/>
                      <a:pt x="317" y="96"/>
                      <a:pt x="317" y="96"/>
                    </a:cubicBezTo>
                    <a:cubicBezTo>
                      <a:pt x="269" y="96"/>
                      <a:pt x="269" y="96"/>
                      <a:pt x="269" y="96"/>
                    </a:cubicBezTo>
                    <a:cubicBezTo>
                      <a:pt x="263" y="67"/>
                      <a:pt x="241" y="45"/>
                      <a:pt x="213" y="39"/>
                    </a:cubicBezTo>
                    <a:cubicBezTo>
                      <a:pt x="213" y="0"/>
                      <a:pt x="213" y="0"/>
                      <a:pt x="213" y="0"/>
                    </a:cubicBezTo>
                    <a:cubicBezTo>
                      <a:pt x="178" y="0"/>
                      <a:pt x="178" y="0"/>
                      <a:pt x="178" y="0"/>
                    </a:cubicBezTo>
                    <a:cubicBezTo>
                      <a:pt x="178" y="39"/>
                      <a:pt x="178" y="39"/>
                      <a:pt x="178" y="39"/>
                    </a:cubicBezTo>
                    <a:cubicBezTo>
                      <a:pt x="150" y="46"/>
                      <a:pt x="129" y="68"/>
                      <a:pt x="123" y="96"/>
                    </a:cubicBezTo>
                    <a:cubicBezTo>
                      <a:pt x="75" y="96"/>
                      <a:pt x="75" y="96"/>
                      <a:pt x="75" y="96"/>
                    </a:cubicBezTo>
                    <a:cubicBezTo>
                      <a:pt x="74" y="96"/>
                      <a:pt x="74" y="96"/>
                      <a:pt x="74" y="96"/>
                    </a:cubicBezTo>
                    <a:cubicBezTo>
                      <a:pt x="74" y="96"/>
                      <a:pt x="73" y="96"/>
                      <a:pt x="72" y="96"/>
                    </a:cubicBezTo>
                    <a:cubicBezTo>
                      <a:pt x="32" y="96"/>
                      <a:pt x="0" y="129"/>
                      <a:pt x="0" y="169"/>
                    </a:cubicBezTo>
                    <a:cubicBezTo>
                      <a:pt x="0" y="205"/>
                      <a:pt x="26" y="235"/>
                      <a:pt x="60" y="242"/>
                    </a:cubicBezTo>
                    <a:cubicBezTo>
                      <a:pt x="60" y="211"/>
                      <a:pt x="60" y="211"/>
                      <a:pt x="60" y="211"/>
                    </a:cubicBezTo>
                    <a:cubicBezTo>
                      <a:pt x="43" y="205"/>
                      <a:pt x="30" y="189"/>
                      <a:pt x="30" y="169"/>
                    </a:cubicBezTo>
                    <a:cubicBezTo>
                      <a:pt x="30" y="145"/>
                      <a:pt x="49" y="125"/>
                      <a:pt x="74" y="125"/>
                    </a:cubicBezTo>
                    <a:cubicBezTo>
                      <a:pt x="74" y="125"/>
                      <a:pt x="74" y="126"/>
                      <a:pt x="74" y="126"/>
                    </a:cubicBezTo>
                    <a:cubicBezTo>
                      <a:pt x="74" y="279"/>
                      <a:pt x="74" y="279"/>
                      <a:pt x="74" y="279"/>
                    </a:cubicBezTo>
                    <a:cubicBezTo>
                      <a:pt x="105" y="279"/>
                      <a:pt x="105" y="279"/>
                      <a:pt x="105" y="279"/>
                    </a:cubicBezTo>
                    <a:cubicBezTo>
                      <a:pt x="105" y="126"/>
                      <a:pt x="105" y="126"/>
                      <a:pt x="105" y="126"/>
                    </a:cubicBezTo>
                    <a:cubicBezTo>
                      <a:pt x="118" y="126"/>
                      <a:pt x="118" y="126"/>
                      <a:pt x="118" y="126"/>
                    </a:cubicBezTo>
                    <a:cubicBezTo>
                      <a:pt x="118" y="279"/>
                      <a:pt x="118" y="279"/>
                      <a:pt x="118" y="279"/>
                    </a:cubicBezTo>
                    <a:cubicBezTo>
                      <a:pt x="150" y="279"/>
                      <a:pt x="150" y="279"/>
                      <a:pt x="150" y="279"/>
                    </a:cubicBezTo>
                    <a:cubicBezTo>
                      <a:pt x="150" y="170"/>
                      <a:pt x="150" y="170"/>
                      <a:pt x="150" y="170"/>
                    </a:cubicBezTo>
                    <a:cubicBezTo>
                      <a:pt x="158" y="177"/>
                      <a:pt x="167" y="181"/>
                      <a:pt x="178" y="184"/>
                    </a:cubicBezTo>
                    <a:cubicBezTo>
                      <a:pt x="178" y="303"/>
                      <a:pt x="178" y="303"/>
                      <a:pt x="178" y="303"/>
                    </a:cubicBezTo>
                    <a:cubicBezTo>
                      <a:pt x="213" y="303"/>
                      <a:pt x="213" y="303"/>
                      <a:pt x="213" y="303"/>
                    </a:cubicBezTo>
                    <a:cubicBezTo>
                      <a:pt x="213" y="184"/>
                      <a:pt x="213" y="184"/>
                      <a:pt x="213" y="184"/>
                    </a:cubicBezTo>
                    <a:cubicBezTo>
                      <a:pt x="224" y="181"/>
                      <a:pt x="234" y="176"/>
                      <a:pt x="243" y="169"/>
                    </a:cubicBezTo>
                    <a:cubicBezTo>
                      <a:pt x="243" y="279"/>
                      <a:pt x="243" y="279"/>
                      <a:pt x="243" y="279"/>
                    </a:cubicBezTo>
                    <a:cubicBezTo>
                      <a:pt x="274" y="279"/>
                      <a:pt x="274" y="279"/>
                      <a:pt x="274" y="279"/>
                    </a:cubicBezTo>
                    <a:cubicBezTo>
                      <a:pt x="274" y="125"/>
                      <a:pt x="274" y="125"/>
                      <a:pt x="274" y="125"/>
                    </a:cubicBezTo>
                    <a:cubicBezTo>
                      <a:pt x="317" y="125"/>
                      <a:pt x="317" y="125"/>
                      <a:pt x="317" y="125"/>
                    </a:cubicBezTo>
                    <a:cubicBezTo>
                      <a:pt x="317" y="125"/>
                      <a:pt x="320" y="125"/>
                      <a:pt x="320" y="125"/>
                    </a:cubicBezTo>
                    <a:cubicBezTo>
                      <a:pt x="344" y="127"/>
                      <a:pt x="362" y="146"/>
                      <a:pt x="362" y="169"/>
                    </a:cubicBezTo>
                    <a:cubicBezTo>
                      <a:pt x="362" y="193"/>
                      <a:pt x="342" y="213"/>
                      <a:pt x="318" y="213"/>
                    </a:cubicBezTo>
                    <a:cubicBezTo>
                      <a:pt x="318" y="213"/>
                      <a:pt x="318" y="213"/>
                      <a:pt x="318" y="213"/>
                    </a:cubicBezTo>
                    <a:cubicBezTo>
                      <a:pt x="287" y="213"/>
                      <a:pt x="287" y="213"/>
                      <a:pt x="287" y="213"/>
                    </a:cubicBezTo>
                    <a:cubicBezTo>
                      <a:pt x="287" y="279"/>
                      <a:pt x="287" y="279"/>
                      <a:pt x="287" y="279"/>
                    </a:cubicBezTo>
                    <a:cubicBezTo>
                      <a:pt x="318" y="279"/>
                      <a:pt x="318" y="279"/>
                      <a:pt x="318" y="279"/>
                    </a:cubicBezTo>
                    <a:cubicBezTo>
                      <a:pt x="318" y="243"/>
                      <a:pt x="318" y="243"/>
                      <a:pt x="318" y="243"/>
                    </a:cubicBezTo>
                    <a:cubicBezTo>
                      <a:pt x="359" y="243"/>
                      <a:pt x="392" y="210"/>
                      <a:pt x="392" y="169"/>
                    </a:cubicBezTo>
                    <a:cubicBezTo>
                      <a:pt x="392" y="130"/>
                      <a:pt x="360" y="97"/>
                      <a:pt x="321" y="96"/>
                    </a:cubicBezTo>
                    <a:close/>
                    <a:moveTo>
                      <a:pt x="178" y="152"/>
                    </a:moveTo>
                    <a:cubicBezTo>
                      <a:pt x="166" y="147"/>
                      <a:pt x="158" y="138"/>
                      <a:pt x="154" y="126"/>
                    </a:cubicBezTo>
                    <a:cubicBezTo>
                      <a:pt x="169" y="126"/>
                      <a:pt x="169" y="126"/>
                      <a:pt x="169" y="126"/>
                    </a:cubicBezTo>
                    <a:cubicBezTo>
                      <a:pt x="169" y="96"/>
                      <a:pt x="169" y="96"/>
                      <a:pt x="169" y="96"/>
                    </a:cubicBezTo>
                    <a:cubicBezTo>
                      <a:pt x="154" y="96"/>
                      <a:pt x="154" y="96"/>
                      <a:pt x="154" y="96"/>
                    </a:cubicBezTo>
                    <a:cubicBezTo>
                      <a:pt x="158" y="84"/>
                      <a:pt x="167" y="76"/>
                      <a:pt x="178" y="71"/>
                    </a:cubicBezTo>
                    <a:lnTo>
                      <a:pt x="178" y="152"/>
                    </a:lnTo>
                    <a:close/>
                    <a:moveTo>
                      <a:pt x="213" y="152"/>
                    </a:moveTo>
                    <a:cubicBezTo>
                      <a:pt x="213" y="70"/>
                      <a:pt x="213" y="70"/>
                      <a:pt x="213" y="70"/>
                    </a:cubicBezTo>
                    <a:cubicBezTo>
                      <a:pt x="229" y="77"/>
                      <a:pt x="240" y="93"/>
                      <a:pt x="240" y="111"/>
                    </a:cubicBezTo>
                    <a:cubicBezTo>
                      <a:pt x="240" y="130"/>
                      <a:pt x="229" y="146"/>
                      <a:pt x="213" y="1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AutoShape 17"/>
              <p:cNvSpPr/>
              <p:nvPr/>
            </p:nvSpPr>
            <p:spPr>
              <a:xfrm>
                <a:off x="4766400" y="1518840"/>
                <a:ext cx="476280" cy="1231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309" h="100">
                    <a:moveTo>
                      <a:pt x="309" y="47"/>
                    </a:moveTo>
                    <a:cubicBezTo>
                      <a:pt x="309" y="47"/>
                      <a:pt x="308" y="46"/>
                      <a:pt x="306" y="45"/>
                    </a:cubicBezTo>
                    <a:cubicBezTo>
                      <a:pt x="304" y="43"/>
                      <a:pt x="301" y="42"/>
                      <a:pt x="297" y="42"/>
                    </a:cubicBezTo>
                    <a:cubicBezTo>
                      <a:pt x="295" y="42"/>
                      <a:pt x="293" y="43"/>
                      <a:pt x="291" y="43"/>
                    </a:cubicBezTo>
                    <a:cubicBezTo>
                      <a:pt x="239" y="54"/>
                      <a:pt x="91" y="85"/>
                      <a:pt x="28" y="98"/>
                    </a:cubicBezTo>
                    <a:cubicBezTo>
                      <a:pt x="26" y="99"/>
                      <a:pt x="23" y="99"/>
                      <a:pt x="21" y="99"/>
                    </a:cubicBezTo>
                    <a:cubicBezTo>
                      <a:pt x="19" y="100"/>
                      <a:pt x="17" y="99"/>
                      <a:pt x="15" y="99"/>
                    </a:cubicBezTo>
                    <a:cubicBezTo>
                      <a:pt x="13" y="99"/>
                      <a:pt x="11" y="99"/>
                      <a:pt x="10" y="98"/>
                    </a:cubicBezTo>
                    <a:cubicBezTo>
                      <a:pt x="6" y="97"/>
                      <a:pt x="4" y="97"/>
                      <a:pt x="2" y="96"/>
                    </a:cubicBezTo>
                    <a:cubicBezTo>
                      <a:pt x="1" y="95"/>
                      <a:pt x="0" y="95"/>
                      <a:pt x="0" y="95"/>
                    </a:cubicBezTo>
                    <a:cubicBezTo>
                      <a:pt x="0" y="95"/>
                      <a:pt x="0" y="91"/>
                      <a:pt x="0" y="85"/>
                    </a:cubicBezTo>
                    <a:cubicBezTo>
                      <a:pt x="0" y="82"/>
                      <a:pt x="0" y="79"/>
                      <a:pt x="0" y="76"/>
                    </a:cubicBezTo>
                    <a:cubicBezTo>
                      <a:pt x="0" y="74"/>
                      <a:pt x="0" y="72"/>
                      <a:pt x="0" y="70"/>
                    </a:cubicBezTo>
                    <a:cubicBezTo>
                      <a:pt x="0" y="68"/>
                      <a:pt x="0" y="66"/>
                      <a:pt x="0" y="64"/>
                    </a:cubicBezTo>
                    <a:cubicBezTo>
                      <a:pt x="0" y="60"/>
                      <a:pt x="0" y="57"/>
                      <a:pt x="0" y="55"/>
                    </a:cubicBezTo>
                    <a:cubicBezTo>
                      <a:pt x="0" y="53"/>
                      <a:pt x="0" y="52"/>
                      <a:pt x="0" y="52"/>
                    </a:cubicBezTo>
                    <a:cubicBezTo>
                      <a:pt x="0" y="52"/>
                      <a:pt x="1" y="52"/>
                      <a:pt x="3" y="53"/>
                    </a:cubicBezTo>
                    <a:cubicBezTo>
                      <a:pt x="5" y="53"/>
                      <a:pt x="6" y="54"/>
                      <a:pt x="8" y="54"/>
                    </a:cubicBezTo>
                    <a:cubicBezTo>
                      <a:pt x="10" y="55"/>
                      <a:pt x="12" y="55"/>
                      <a:pt x="14" y="56"/>
                    </a:cubicBezTo>
                    <a:cubicBezTo>
                      <a:pt x="16" y="56"/>
                      <a:pt x="18" y="56"/>
                      <a:pt x="21" y="56"/>
                    </a:cubicBezTo>
                    <a:cubicBezTo>
                      <a:pt x="24" y="56"/>
                      <a:pt x="27" y="55"/>
                      <a:pt x="30" y="55"/>
                    </a:cubicBezTo>
                    <a:cubicBezTo>
                      <a:pt x="33" y="54"/>
                      <a:pt x="36" y="53"/>
                      <a:pt x="39" y="53"/>
                    </a:cubicBezTo>
                    <a:cubicBezTo>
                      <a:pt x="118" y="36"/>
                      <a:pt x="286" y="1"/>
                      <a:pt x="286" y="1"/>
                    </a:cubicBezTo>
                    <a:cubicBezTo>
                      <a:pt x="286" y="1"/>
                      <a:pt x="287" y="1"/>
                      <a:pt x="290" y="0"/>
                    </a:cubicBezTo>
                    <a:cubicBezTo>
                      <a:pt x="292" y="0"/>
                      <a:pt x="295" y="0"/>
                      <a:pt x="298" y="1"/>
                    </a:cubicBezTo>
                    <a:cubicBezTo>
                      <a:pt x="301" y="2"/>
                      <a:pt x="303" y="3"/>
                      <a:pt x="306" y="6"/>
                    </a:cubicBezTo>
                    <a:cubicBezTo>
                      <a:pt x="308" y="8"/>
                      <a:pt x="309" y="10"/>
                      <a:pt x="309" y="10"/>
                    </a:cubicBezTo>
                    <a:cubicBezTo>
                      <a:pt x="309" y="10"/>
                      <a:pt x="309" y="11"/>
                      <a:pt x="309" y="13"/>
                    </a:cubicBezTo>
                    <a:cubicBezTo>
                      <a:pt x="309" y="14"/>
                      <a:pt x="309" y="17"/>
                      <a:pt x="309" y="19"/>
                    </a:cubicBezTo>
                    <a:cubicBezTo>
                      <a:pt x="309" y="20"/>
                      <a:pt x="309" y="22"/>
                      <a:pt x="309" y="23"/>
                    </a:cubicBezTo>
                    <a:cubicBezTo>
                      <a:pt x="309" y="24"/>
                      <a:pt x="309" y="26"/>
                      <a:pt x="309" y="27"/>
                    </a:cubicBezTo>
                    <a:cubicBezTo>
                      <a:pt x="309" y="28"/>
                      <a:pt x="309" y="30"/>
                      <a:pt x="309" y="32"/>
                    </a:cubicBezTo>
                    <a:cubicBezTo>
                      <a:pt x="309" y="33"/>
                      <a:pt x="309" y="35"/>
                      <a:pt x="309" y="36"/>
                    </a:cubicBezTo>
                    <a:cubicBezTo>
                      <a:pt x="309" y="40"/>
                      <a:pt x="309" y="42"/>
                      <a:pt x="309" y="44"/>
                    </a:cubicBezTo>
                    <a:cubicBezTo>
                      <a:pt x="309" y="46"/>
                      <a:pt x="309" y="47"/>
                      <a:pt x="309" y="47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AutoShape 18"/>
              <p:cNvSpPr/>
              <p:nvPr/>
            </p:nvSpPr>
            <p:spPr>
              <a:xfrm>
                <a:off x="4766400" y="1569600"/>
                <a:ext cx="476280" cy="12564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309" h="101">
                    <a:moveTo>
                      <a:pt x="309" y="48"/>
                    </a:moveTo>
                    <a:cubicBezTo>
                      <a:pt x="309" y="48"/>
                      <a:pt x="308" y="48"/>
                      <a:pt x="306" y="46"/>
                    </a:cubicBezTo>
                    <a:cubicBezTo>
                      <a:pt x="304" y="45"/>
                      <a:pt x="301" y="44"/>
                      <a:pt x="297" y="43"/>
                    </a:cubicBezTo>
                    <a:cubicBezTo>
                      <a:pt x="295" y="43"/>
                      <a:pt x="293" y="44"/>
                      <a:pt x="291" y="44"/>
                    </a:cubicBezTo>
                    <a:cubicBezTo>
                      <a:pt x="288" y="44"/>
                      <a:pt x="286" y="45"/>
                      <a:pt x="283" y="46"/>
                    </a:cubicBezTo>
                    <a:cubicBezTo>
                      <a:pt x="227" y="57"/>
                      <a:pt x="90" y="86"/>
                      <a:pt x="30" y="99"/>
                    </a:cubicBezTo>
                    <a:cubicBezTo>
                      <a:pt x="27" y="99"/>
                      <a:pt x="25" y="100"/>
                      <a:pt x="22" y="100"/>
                    </a:cubicBezTo>
                    <a:cubicBezTo>
                      <a:pt x="20" y="101"/>
                      <a:pt x="18" y="101"/>
                      <a:pt x="16" y="101"/>
                    </a:cubicBezTo>
                    <a:cubicBezTo>
                      <a:pt x="14" y="100"/>
                      <a:pt x="12" y="100"/>
                      <a:pt x="10" y="100"/>
                    </a:cubicBezTo>
                    <a:cubicBezTo>
                      <a:pt x="7" y="99"/>
                      <a:pt x="4" y="98"/>
                      <a:pt x="3" y="98"/>
                    </a:cubicBezTo>
                    <a:cubicBezTo>
                      <a:pt x="1" y="97"/>
                      <a:pt x="0" y="96"/>
                      <a:pt x="0" y="96"/>
                    </a:cubicBezTo>
                    <a:cubicBezTo>
                      <a:pt x="0" y="96"/>
                      <a:pt x="0" y="95"/>
                      <a:pt x="0" y="93"/>
                    </a:cubicBezTo>
                    <a:cubicBezTo>
                      <a:pt x="0" y="91"/>
                      <a:pt x="0" y="88"/>
                      <a:pt x="0" y="85"/>
                    </a:cubicBezTo>
                    <a:cubicBezTo>
                      <a:pt x="0" y="82"/>
                      <a:pt x="0" y="78"/>
                      <a:pt x="0" y="75"/>
                    </a:cubicBezTo>
                    <a:cubicBezTo>
                      <a:pt x="0" y="73"/>
                      <a:pt x="0" y="71"/>
                      <a:pt x="0" y="70"/>
                    </a:cubicBezTo>
                    <a:cubicBezTo>
                      <a:pt x="0" y="68"/>
                      <a:pt x="0" y="66"/>
                      <a:pt x="0" y="64"/>
                    </a:cubicBezTo>
                    <a:cubicBezTo>
                      <a:pt x="0" y="61"/>
                      <a:pt x="0" y="58"/>
                      <a:pt x="0" y="56"/>
                    </a:cubicBezTo>
                    <a:cubicBezTo>
                      <a:pt x="0" y="54"/>
                      <a:pt x="0" y="53"/>
                      <a:pt x="0" y="53"/>
                    </a:cubicBezTo>
                    <a:cubicBezTo>
                      <a:pt x="0" y="53"/>
                      <a:pt x="1" y="53"/>
                      <a:pt x="2" y="54"/>
                    </a:cubicBezTo>
                    <a:cubicBezTo>
                      <a:pt x="4" y="55"/>
                      <a:pt x="6" y="55"/>
                      <a:pt x="10" y="56"/>
                    </a:cubicBezTo>
                    <a:cubicBezTo>
                      <a:pt x="11" y="57"/>
                      <a:pt x="13" y="57"/>
                      <a:pt x="15" y="57"/>
                    </a:cubicBezTo>
                    <a:cubicBezTo>
                      <a:pt x="17" y="57"/>
                      <a:pt x="19" y="58"/>
                      <a:pt x="21" y="57"/>
                    </a:cubicBezTo>
                    <a:cubicBezTo>
                      <a:pt x="23" y="57"/>
                      <a:pt x="26" y="57"/>
                      <a:pt x="28" y="56"/>
                    </a:cubicBezTo>
                    <a:cubicBezTo>
                      <a:pt x="91" y="43"/>
                      <a:pt x="239" y="12"/>
                      <a:pt x="291" y="1"/>
                    </a:cubicBezTo>
                    <a:cubicBezTo>
                      <a:pt x="293" y="1"/>
                      <a:pt x="295" y="0"/>
                      <a:pt x="297" y="0"/>
                    </a:cubicBezTo>
                    <a:cubicBezTo>
                      <a:pt x="301" y="0"/>
                      <a:pt x="304" y="1"/>
                      <a:pt x="306" y="3"/>
                    </a:cubicBezTo>
                    <a:cubicBezTo>
                      <a:pt x="308" y="4"/>
                      <a:pt x="309" y="5"/>
                      <a:pt x="309" y="5"/>
                    </a:cubicBezTo>
                    <a:cubicBezTo>
                      <a:pt x="309" y="5"/>
                      <a:pt x="309" y="9"/>
                      <a:pt x="309" y="14"/>
                    </a:cubicBezTo>
                    <a:cubicBezTo>
                      <a:pt x="309" y="15"/>
                      <a:pt x="309" y="17"/>
                      <a:pt x="309" y="18"/>
                    </a:cubicBezTo>
                    <a:cubicBezTo>
                      <a:pt x="309" y="20"/>
                      <a:pt x="309" y="22"/>
                      <a:pt x="309" y="24"/>
                    </a:cubicBezTo>
                    <a:cubicBezTo>
                      <a:pt x="309" y="26"/>
                      <a:pt x="309" y="28"/>
                      <a:pt x="309" y="30"/>
                    </a:cubicBezTo>
                    <a:cubicBezTo>
                      <a:pt x="309" y="32"/>
                      <a:pt x="309" y="34"/>
                      <a:pt x="309" y="36"/>
                    </a:cubicBezTo>
                    <a:cubicBezTo>
                      <a:pt x="309" y="40"/>
                      <a:pt x="309" y="43"/>
                      <a:pt x="309" y="45"/>
                    </a:cubicBezTo>
                    <a:cubicBezTo>
                      <a:pt x="309" y="47"/>
                      <a:pt x="309" y="48"/>
                      <a:pt x="309" y="48"/>
                    </a:cubicBezTo>
                    <a:close/>
                  </a:path>
                </a:pathLst>
              </a:custGeom>
              <a:solidFill>
                <a:srgbClr val="0a50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4" name="AutoShape 19"/>
              <p:cNvSpPr/>
              <p:nvPr/>
            </p:nvSpPr>
            <p:spPr>
              <a:xfrm>
                <a:off x="4766400" y="1622880"/>
                <a:ext cx="476280" cy="12564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309" h="101">
                    <a:moveTo>
                      <a:pt x="309" y="53"/>
                    </a:moveTo>
                    <a:cubicBezTo>
                      <a:pt x="309" y="53"/>
                      <a:pt x="308" y="49"/>
                      <a:pt x="306" y="47"/>
                    </a:cubicBezTo>
                    <a:cubicBezTo>
                      <a:pt x="304" y="46"/>
                      <a:pt x="301" y="44"/>
                      <a:pt x="297" y="43"/>
                    </a:cubicBezTo>
                    <a:cubicBezTo>
                      <a:pt x="295" y="43"/>
                      <a:pt x="293" y="44"/>
                      <a:pt x="291" y="44"/>
                    </a:cubicBezTo>
                    <a:cubicBezTo>
                      <a:pt x="288" y="44"/>
                      <a:pt x="286" y="45"/>
                      <a:pt x="283" y="46"/>
                    </a:cubicBezTo>
                    <a:cubicBezTo>
                      <a:pt x="227" y="57"/>
                      <a:pt x="90" y="86"/>
                      <a:pt x="30" y="99"/>
                    </a:cubicBezTo>
                    <a:cubicBezTo>
                      <a:pt x="27" y="99"/>
                      <a:pt x="25" y="100"/>
                      <a:pt x="22" y="100"/>
                    </a:cubicBezTo>
                    <a:cubicBezTo>
                      <a:pt x="20" y="101"/>
                      <a:pt x="18" y="101"/>
                      <a:pt x="16" y="101"/>
                    </a:cubicBezTo>
                    <a:cubicBezTo>
                      <a:pt x="14" y="101"/>
                      <a:pt x="12" y="100"/>
                      <a:pt x="10" y="100"/>
                    </a:cubicBezTo>
                    <a:cubicBezTo>
                      <a:pt x="7" y="99"/>
                      <a:pt x="4" y="98"/>
                      <a:pt x="3" y="97"/>
                    </a:cubicBezTo>
                    <a:cubicBezTo>
                      <a:pt x="1" y="97"/>
                      <a:pt x="0" y="96"/>
                      <a:pt x="0" y="96"/>
                    </a:cubicBezTo>
                    <a:cubicBezTo>
                      <a:pt x="0" y="96"/>
                      <a:pt x="0" y="95"/>
                      <a:pt x="0" y="93"/>
                    </a:cubicBezTo>
                    <a:cubicBezTo>
                      <a:pt x="0" y="91"/>
                      <a:pt x="0" y="88"/>
                      <a:pt x="0" y="85"/>
                    </a:cubicBezTo>
                    <a:cubicBezTo>
                      <a:pt x="0" y="83"/>
                      <a:pt x="0" y="81"/>
                      <a:pt x="0" y="79"/>
                    </a:cubicBezTo>
                    <a:cubicBezTo>
                      <a:pt x="0" y="78"/>
                      <a:pt x="0" y="76"/>
                      <a:pt x="0" y="74"/>
                    </a:cubicBezTo>
                    <a:cubicBezTo>
                      <a:pt x="0" y="72"/>
                      <a:pt x="0" y="70"/>
                      <a:pt x="0" y="69"/>
                    </a:cubicBezTo>
                    <a:cubicBezTo>
                      <a:pt x="0" y="67"/>
                      <a:pt x="0" y="66"/>
                      <a:pt x="0" y="64"/>
                    </a:cubicBezTo>
                    <a:cubicBezTo>
                      <a:pt x="0" y="62"/>
                      <a:pt x="0" y="59"/>
                      <a:pt x="0" y="57"/>
                    </a:cubicBezTo>
                    <a:cubicBezTo>
                      <a:pt x="0" y="55"/>
                      <a:pt x="0" y="54"/>
                      <a:pt x="0" y="54"/>
                    </a:cubicBezTo>
                    <a:cubicBezTo>
                      <a:pt x="0" y="54"/>
                      <a:pt x="1" y="54"/>
                      <a:pt x="3" y="55"/>
                    </a:cubicBezTo>
                    <a:cubicBezTo>
                      <a:pt x="4" y="55"/>
                      <a:pt x="7" y="56"/>
                      <a:pt x="10" y="57"/>
                    </a:cubicBezTo>
                    <a:cubicBezTo>
                      <a:pt x="12" y="57"/>
                      <a:pt x="14" y="57"/>
                      <a:pt x="16" y="58"/>
                    </a:cubicBezTo>
                    <a:cubicBezTo>
                      <a:pt x="18" y="58"/>
                      <a:pt x="20" y="58"/>
                      <a:pt x="22" y="57"/>
                    </a:cubicBezTo>
                    <a:cubicBezTo>
                      <a:pt x="25" y="57"/>
                      <a:pt x="27" y="56"/>
                      <a:pt x="30" y="56"/>
                    </a:cubicBezTo>
                    <a:cubicBezTo>
                      <a:pt x="90" y="43"/>
                      <a:pt x="227" y="14"/>
                      <a:pt x="283" y="3"/>
                    </a:cubicBezTo>
                    <a:cubicBezTo>
                      <a:pt x="286" y="2"/>
                      <a:pt x="288" y="1"/>
                      <a:pt x="291" y="1"/>
                    </a:cubicBezTo>
                    <a:cubicBezTo>
                      <a:pt x="293" y="1"/>
                      <a:pt x="295" y="0"/>
                      <a:pt x="297" y="0"/>
                    </a:cubicBezTo>
                    <a:cubicBezTo>
                      <a:pt x="301" y="1"/>
                      <a:pt x="304" y="2"/>
                      <a:pt x="306" y="3"/>
                    </a:cubicBezTo>
                    <a:cubicBezTo>
                      <a:pt x="308" y="5"/>
                      <a:pt x="309" y="5"/>
                      <a:pt x="309" y="5"/>
                    </a:cubicBezTo>
                    <a:cubicBezTo>
                      <a:pt x="309" y="5"/>
                      <a:pt x="309" y="7"/>
                      <a:pt x="309" y="9"/>
                    </a:cubicBezTo>
                    <a:cubicBezTo>
                      <a:pt x="309" y="11"/>
                      <a:pt x="309" y="13"/>
                      <a:pt x="309" y="17"/>
                    </a:cubicBezTo>
                    <a:cubicBezTo>
                      <a:pt x="309" y="19"/>
                      <a:pt x="309" y="20"/>
                      <a:pt x="309" y="22"/>
                    </a:cubicBezTo>
                    <a:cubicBezTo>
                      <a:pt x="309" y="24"/>
                      <a:pt x="309" y="26"/>
                      <a:pt x="309" y="28"/>
                    </a:cubicBezTo>
                    <a:cubicBezTo>
                      <a:pt x="309" y="30"/>
                      <a:pt x="309" y="32"/>
                      <a:pt x="309" y="33"/>
                    </a:cubicBezTo>
                    <a:cubicBezTo>
                      <a:pt x="309" y="35"/>
                      <a:pt x="309" y="37"/>
                      <a:pt x="309" y="38"/>
                    </a:cubicBezTo>
                    <a:cubicBezTo>
                      <a:pt x="309" y="42"/>
                      <a:pt x="309" y="44"/>
                      <a:pt x="309" y="46"/>
                    </a:cubicBezTo>
                    <a:cubicBezTo>
                      <a:pt x="309" y="48"/>
                      <a:pt x="309" y="53"/>
                      <a:pt x="309" y="53"/>
                    </a:cubicBez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5" name="AutoShape 20"/>
              <p:cNvSpPr/>
              <p:nvPr/>
            </p:nvSpPr>
            <p:spPr>
              <a:xfrm>
                <a:off x="4766400" y="1569600"/>
                <a:ext cx="476280" cy="12564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309" h="101">
                    <a:moveTo>
                      <a:pt x="309" y="48"/>
                    </a:moveTo>
                    <a:cubicBezTo>
                      <a:pt x="309" y="48"/>
                      <a:pt x="308" y="48"/>
                      <a:pt x="306" y="46"/>
                    </a:cubicBezTo>
                    <a:cubicBezTo>
                      <a:pt x="304" y="45"/>
                      <a:pt x="301" y="44"/>
                      <a:pt x="297" y="43"/>
                    </a:cubicBezTo>
                    <a:cubicBezTo>
                      <a:pt x="295" y="43"/>
                      <a:pt x="293" y="44"/>
                      <a:pt x="291" y="44"/>
                    </a:cubicBezTo>
                    <a:cubicBezTo>
                      <a:pt x="288" y="44"/>
                      <a:pt x="286" y="45"/>
                      <a:pt x="283" y="46"/>
                    </a:cubicBezTo>
                    <a:cubicBezTo>
                      <a:pt x="227" y="57"/>
                      <a:pt x="90" y="86"/>
                      <a:pt x="30" y="99"/>
                    </a:cubicBezTo>
                    <a:cubicBezTo>
                      <a:pt x="27" y="99"/>
                      <a:pt x="25" y="100"/>
                      <a:pt x="22" y="100"/>
                    </a:cubicBezTo>
                    <a:cubicBezTo>
                      <a:pt x="20" y="101"/>
                      <a:pt x="18" y="101"/>
                      <a:pt x="16" y="101"/>
                    </a:cubicBezTo>
                    <a:cubicBezTo>
                      <a:pt x="14" y="100"/>
                      <a:pt x="12" y="100"/>
                      <a:pt x="10" y="100"/>
                    </a:cubicBezTo>
                    <a:cubicBezTo>
                      <a:pt x="7" y="99"/>
                      <a:pt x="4" y="98"/>
                      <a:pt x="3" y="98"/>
                    </a:cubicBezTo>
                    <a:cubicBezTo>
                      <a:pt x="1" y="97"/>
                      <a:pt x="0" y="96"/>
                      <a:pt x="0" y="96"/>
                    </a:cubicBezTo>
                    <a:cubicBezTo>
                      <a:pt x="0" y="96"/>
                      <a:pt x="0" y="95"/>
                      <a:pt x="0" y="93"/>
                    </a:cubicBezTo>
                    <a:cubicBezTo>
                      <a:pt x="0" y="91"/>
                      <a:pt x="0" y="88"/>
                      <a:pt x="0" y="85"/>
                    </a:cubicBezTo>
                    <a:cubicBezTo>
                      <a:pt x="0" y="82"/>
                      <a:pt x="0" y="78"/>
                      <a:pt x="0" y="75"/>
                    </a:cubicBezTo>
                    <a:cubicBezTo>
                      <a:pt x="0" y="73"/>
                      <a:pt x="0" y="71"/>
                      <a:pt x="0" y="70"/>
                    </a:cubicBezTo>
                    <a:cubicBezTo>
                      <a:pt x="0" y="68"/>
                      <a:pt x="0" y="66"/>
                      <a:pt x="0" y="64"/>
                    </a:cubicBezTo>
                    <a:cubicBezTo>
                      <a:pt x="0" y="61"/>
                      <a:pt x="0" y="58"/>
                      <a:pt x="0" y="56"/>
                    </a:cubicBezTo>
                    <a:cubicBezTo>
                      <a:pt x="0" y="54"/>
                      <a:pt x="0" y="53"/>
                      <a:pt x="0" y="53"/>
                    </a:cubicBezTo>
                    <a:cubicBezTo>
                      <a:pt x="0" y="53"/>
                      <a:pt x="1" y="53"/>
                      <a:pt x="2" y="54"/>
                    </a:cubicBezTo>
                    <a:cubicBezTo>
                      <a:pt x="4" y="55"/>
                      <a:pt x="6" y="55"/>
                      <a:pt x="10" y="56"/>
                    </a:cubicBezTo>
                    <a:cubicBezTo>
                      <a:pt x="11" y="57"/>
                      <a:pt x="13" y="57"/>
                      <a:pt x="15" y="57"/>
                    </a:cubicBezTo>
                    <a:cubicBezTo>
                      <a:pt x="17" y="57"/>
                      <a:pt x="19" y="58"/>
                      <a:pt x="21" y="57"/>
                    </a:cubicBezTo>
                    <a:cubicBezTo>
                      <a:pt x="23" y="57"/>
                      <a:pt x="26" y="57"/>
                      <a:pt x="28" y="56"/>
                    </a:cubicBezTo>
                    <a:cubicBezTo>
                      <a:pt x="91" y="43"/>
                      <a:pt x="239" y="12"/>
                      <a:pt x="291" y="1"/>
                    </a:cubicBezTo>
                    <a:cubicBezTo>
                      <a:pt x="293" y="1"/>
                      <a:pt x="295" y="0"/>
                      <a:pt x="297" y="0"/>
                    </a:cubicBezTo>
                    <a:cubicBezTo>
                      <a:pt x="301" y="0"/>
                      <a:pt x="304" y="1"/>
                      <a:pt x="306" y="3"/>
                    </a:cubicBezTo>
                    <a:cubicBezTo>
                      <a:pt x="308" y="4"/>
                      <a:pt x="309" y="5"/>
                      <a:pt x="309" y="5"/>
                    </a:cubicBezTo>
                    <a:cubicBezTo>
                      <a:pt x="309" y="5"/>
                      <a:pt x="309" y="9"/>
                      <a:pt x="309" y="14"/>
                    </a:cubicBezTo>
                    <a:cubicBezTo>
                      <a:pt x="309" y="15"/>
                      <a:pt x="309" y="17"/>
                      <a:pt x="309" y="18"/>
                    </a:cubicBezTo>
                    <a:cubicBezTo>
                      <a:pt x="309" y="20"/>
                      <a:pt x="309" y="22"/>
                      <a:pt x="309" y="24"/>
                    </a:cubicBezTo>
                    <a:cubicBezTo>
                      <a:pt x="309" y="26"/>
                      <a:pt x="309" y="28"/>
                      <a:pt x="309" y="30"/>
                    </a:cubicBezTo>
                    <a:cubicBezTo>
                      <a:pt x="309" y="32"/>
                      <a:pt x="309" y="34"/>
                      <a:pt x="309" y="36"/>
                    </a:cubicBezTo>
                    <a:cubicBezTo>
                      <a:pt x="309" y="40"/>
                      <a:pt x="309" y="43"/>
                      <a:pt x="309" y="45"/>
                    </a:cubicBezTo>
                    <a:cubicBezTo>
                      <a:pt x="309" y="47"/>
                      <a:pt x="309" y="48"/>
                      <a:pt x="309" y="48"/>
                    </a:cubicBezTo>
                    <a:close/>
                  </a:path>
                </a:pathLst>
              </a:custGeom>
              <a:solidFill>
                <a:srgbClr val="0a5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6" name="AutoShape 21"/>
              <p:cNvSpPr/>
              <p:nvPr/>
            </p:nvSpPr>
            <p:spPr>
              <a:xfrm>
                <a:off x="4766400" y="1622880"/>
                <a:ext cx="476280" cy="12564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309" h="101">
                    <a:moveTo>
                      <a:pt x="309" y="50"/>
                    </a:moveTo>
                    <a:cubicBezTo>
                      <a:pt x="309" y="50"/>
                      <a:pt x="308" y="49"/>
                      <a:pt x="306" y="47"/>
                    </a:cubicBezTo>
                    <a:cubicBezTo>
                      <a:pt x="304" y="46"/>
                      <a:pt x="301" y="44"/>
                      <a:pt x="297" y="43"/>
                    </a:cubicBezTo>
                    <a:cubicBezTo>
                      <a:pt x="295" y="43"/>
                      <a:pt x="293" y="44"/>
                      <a:pt x="291" y="44"/>
                    </a:cubicBezTo>
                    <a:cubicBezTo>
                      <a:pt x="288" y="44"/>
                      <a:pt x="286" y="45"/>
                      <a:pt x="283" y="46"/>
                    </a:cubicBezTo>
                    <a:cubicBezTo>
                      <a:pt x="227" y="57"/>
                      <a:pt x="90" y="86"/>
                      <a:pt x="30" y="99"/>
                    </a:cubicBezTo>
                    <a:cubicBezTo>
                      <a:pt x="27" y="99"/>
                      <a:pt x="25" y="100"/>
                      <a:pt x="22" y="100"/>
                    </a:cubicBezTo>
                    <a:cubicBezTo>
                      <a:pt x="20" y="101"/>
                      <a:pt x="18" y="101"/>
                      <a:pt x="16" y="101"/>
                    </a:cubicBezTo>
                    <a:cubicBezTo>
                      <a:pt x="14" y="101"/>
                      <a:pt x="12" y="100"/>
                      <a:pt x="10" y="100"/>
                    </a:cubicBezTo>
                    <a:cubicBezTo>
                      <a:pt x="7" y="99"/>
                      <a:pt x="4" y="98"/>
                      <a:pt x="3" y="97"/>
                    </a:cubicBezTo>
                    <a:cubicBezTo>
                      <a:pt x="1" y="97"/>
                      <a:pt x="0" y="96"/>
                      <a:pt x="0" y="96"/>
                    </a:cubicBezTo>
                    <a:cubicBezTo>
                      <a:pt x="0" y="96"/>
                      <a:pt x="0" y="95"/>
                      <a:pt x="0" y="93"/>
                    </a:cubicBezTo>
                    <a:cubicBezTo>
                      <a:pt x="0" y="91"/>
                      <a:pt x="0" y="88"/>
                      <a:pt x="0" y="85"/>
                    </a:cubicBezTo>
                    <a:cubicBezTo>
                      <a:pt x="0" y="83"/>
                      <a:pt x="0" y="81"/>
                      <a:pt x="0" y="79"/>
                    </a:cubicBezTo>
                    <a:cubicBezTo>
                      <a:pt x="0" y="78"/>
                      <a:pt x="0" y="76"/>
                      <a:pt x="0" y="74"/>
                    </a:cubicBezTo>
                    <a:cubicBezTo>
                      <a:pt x="0" y="72"/>
                      <a:pt x="0" y="70"/>
                      <a:pt x="0" y="69"/>
                    </a:cubicBezTo>
                    <a:cubicBezTo>
                      <a:pt x="0" y="67"/>
                      <a:pt x="0" y="66"/>
                      <a:pt x="0" y="64"/>
                    </a:cubicBezTo>
                    <a:cubicBezTo>
                      <a:pt x="0" y="62"/>
                      <a:pt x="0" y="59"/>
                      <a:pt x="0" y="57"/>
                    </a:cubicBezTo>
                    <a:cubicBezTo>
                      <a:pt x="0" y="55"/>
                      <a:pt x="0" y="54"/>
                      <a:pt x="0" y="54"/>
                    </a:cubicBezTo>
                    <a:cubicBezTo>
                      <a:pt x="0" y="54"/>
                      <a:pt x="1" y="54"/>
                      <a:pt x="3" y="55"/>
                    </a:cubicBezTo>
                    <a:cubicBezTo>
                      <a:pt x="4" y="55"/>
                      <a:pt x="7" y="56"/>
                      <a:pt x="10" y="57"/>
                    </a:cubicBezTo>
                    <a:cubicBezTo>
                      <a:pt x="12" y="57"/>
                      <a:pt x="14" y="57"/>
                      <a:pt x="16" y="58"/>
                    </a:cubicBezTo>
                    <a:cubicBezTo>
                      <a:pt x="18" y="58"/>
                      <a:pt x="20" y="58"/>
                      <a:pt x="22" y="57"/>
                    </a:cubicBezTo>
                    <a:cubicBezTo>
                      <a:pt x="25" y="57"/>
                      <a:pt x="27" y="56"/>
                      <a:pt x="30" y="56"/>
                    </a:cubicBezTo>
                    <a:cubicBezTo>
                      <a:pt x="90" y="43"/>
                      <a:pt x="227" y="14"/>
                      <a:pt x="283" y="3"/>
                    </a:cubicBezTo>
                    <a:cubicBezTo>
                      <a:pt x="286" y="2"/>
                      <a:pt x="288" y="1"/>
                      <a:pt x="291" y="1"/>
                    </a:cubicBezTo>
                    <a:cubicBezTo>
                      <a:pt x="293" y="1"/>
                      <a:pt x="295" y="0"/>
                      <a:pt x="297" y="0"/>
                    </a:cubicBezTo>
                    <a:cubicBezTo>
                      <a:pt x="301" y="1"/>
                      <a:pt x="304" y="2"/>
                      <a:pt x="306" y="3"/>
                    </a:cubicBezTo>
                    <a:cubicBezTo>
                      <a:pt x="308" y="5"/>
                      <a:pt x="309" y="5"/>
                      <a:pt x="309" y="5"/>
                    </a:cubicBezTo>
                    <a:cubicBezTo>
                      <a:pt x="309" y="5"/>
                      <a:pt x="309" y="7"/>
                      <a:pt x="309" y="9"/>
                    </a:cubicBezTo>
                    <a:cubicBezTo>
                      <a:pt x="309" y="11"/>
                      <a:pt x="309" y="13"/>
                      <a:pt x="309" y="17"/>
                    </a:cubicBezTo>
                    <a:cubicBezTo>
                      <a:pt x="309" y="19"/>
                      <a:pt x="309" y="20"/>
                      <a:pt x="309" y="22"/>
                    </a:cubicBezTo>
                    <a:cubicBezTo>
                      <a:pt x="309" y="24"/>
                      <a:pt x="309" y="26"/>
                      <a:pt x="309" y="28"/>
                    </a:cubicBezTo>
                    <a:cubicBezTo>
                      <a:pt x="309" y="30"/>
                      <a:pt x="309" y="32"/>
                      <a:pt x="309" y="33"/>
                    </a:cubicBezTo>
                    <a:cubicBezTo>
                      <a:pt x="309" y="35"/>
                      <a:pt x="309" y="37"/>
                      <a:pt x="309" y="38"/>
                    </a:cubicBezTo>
                    <a:cubicBezTo>
                      <a:pt x="309" y="42"/>
                      <a:pt x="309" y="44"/>
                      <a:pt x="309" y="46"/>
                    </a:cubicBezTo>
                    <a:cubicBezTo>
                      <a:pt x="309" y="48"/>
                      <a:pt x="309" y="50"/>
                      <a:pt x="309" y="5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AutoShape 22"/>
              <p:cNvSpPr/>
              <p:nvPr/>
            </p:nvSpPr>
            <p:spPr>
              <a:xfrm>
                <a:off x="5036400" y="1654200"/>
                <a:ext cx="1440" cy="36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0"/>
                    </a:moveTo>
                    <a:cubicBezTo>
                      <a:pt x="1" y="1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AutoShape 23"/>
              <p:cNvSpPr/>
              <p:nvPr/>
            </p:nvSpPr>
            <p:spPr>
              <a:xfrm>
                <a:off x="5036400" y="1662480"/>
                <a:ext cx="1440" cy="57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" h="5">
                    <a:moveTo>
                      <a:pt x="1" y="0"/>
                    </a:moveTo>
                    <a:cubicBezTo>
                      <a:pt x="1" y="3"/>
                      <a:pt x="1" y="5"/>
                      <a:pt x="1" y="5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3"/>
                      <a:pt x="0" y="3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AutoShape 24"/>
              <p:cNvSpPr/>
              <p:nvPr/>
            </p:nvSpPr>
            <p:spPr>
              <a:xfrm>
                <a:off x="5164560" y="1678320"/>
                <a:ext cx="84240" cy="7488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55" h="60">
                    <a:moveTo>
                      <a:pt x="18" y="4"/>
                    </a:moveTo>
                    <a:cubicBezTo>
                      <a:pt x="39" y="0"/>
                      <a:pt x="39" y="0"/>
                      <a:pt x="39" y="0"/>
                    </a:cubicBezTo>
                    <a:cubicBezTo>
                      <a:pt x="54" y="7"/>
                      <a:pt x="54" y="7"/>
                      <a:pt x="54" y="7"/>
                    </a:cubicBezTo>
                    <a:cubicBezTo>
                      <a:pt x="54" y="14"/>
                      <a:pt x="54" y="14"/>
                      <a:pt x="54" y="14"/>
                    </a:cubicBezTo>
                    <a:cubicBezTo>
                      <a:pt x="54" y="14"/>
                      <a:pt x="55" y="19"/>
                      <a:pt x="43" y="25"/>
                    </a:cubicBezTo>
                    <a:cubicBezTo>
                      <a:pt x="37" y="29"/>
                      <a:pt x="10" y="42"/>
                      <a:pt x="6" y="47"/>
                    </a:cubicBezTo>
                    <a:cubicBezTo>
                      <a:pt x="2" y="51"/>
                      <a:pt x="1" y="60"/>
                      <a:pt x="1" y="60"/>
                    </a:cubicBezTo>
                    <a:cubicBezTo>
                      <a:pt x="2" y="38"/>
                      <a:pt x="2" y="38"/>
                      <a:pt x="2" y="38"/>
                    </a:cubicBezTo>
                    <a:cubicBezTo>
                      <a:pt x="0" y="8"/>
                      <a:pt x="0" y="8"/>
                      <a:pt x="0" y="8"/>
                    </a:cubicBez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AutoShape 25"/>
              <p:cNvSpPr/>
              <p:nvPr/>
            </p:nvSpPr>
            <p:spPr>
              <a:xfrm>
                <a:off x="5199120" y="1469160"/>
                <a:ext cx="1440" cy="10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AutoShape 26"/>
              <p:cNvSpPr/>
              <p:nvPr/>
            </p:nvSpPr>
            <p:spPr>
              <a:xfrm>
                <a:off x="5199120" y="1472760"/>
                <a:ext cx="1440" cy="21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732" name="Picture 7" descr=""/>
          <p:cNvPicPr/>
          <p:nvPr/>
        </p:nvPicPr>
        <p:blipFill>
          <a:blip r:embed="rId3"/>
          <a:stretch/>
        </p:blipFill>
        <p:spPr>
          <a:xfrm>
            <a:off x="5099040" y="2346480"/>
            <a:ext cx="1150920" cy="1147680"/>
          </a:xfrm>
          <a:prstGeom prst="rect">
            <a:avLst/>
          </a:prstGeom>
          <a:ln w="0">
            <a:noFill/>
          </a:ln>
        </p:spPr>
      </p:pic>
      <p:cxnSp>
        <p:nvCxnSpPr>
          <p:cNvPr id="733" name="Прямая со стрелкой 42"/>
          <p:cNvCxnSpPr/>
          <p:nvPr/>
        </p:nvCxnSpPr>
        <p:spPr>
          <a:xfrm flipH="1" flipV="1">
            <a:off x="2085480" y="3385440"/>
            <a:ext cx="1324800" cy="1075320"/>
          </a:xfrm>
          <a:prstGeom prst="straightConnector1">
            <a:avLst/>
          </a:prstGeom>
          <a:ln w="38160">
            <a:solidFill>
              <a:srgbClr val="376092"/>
            </a:solidFill>
            <a:prstDash val="dash"/>
            <a:miter/>
            <a:tailEnd len="med" type="triangle" w="med"/>
          </a:ln>
        </p:spPr>
      </p:cxnSp>
      <p:cxnSp>
        <p:nvCxnSpPr>
          <p:cNvPr id="734" name="Прямая со стрелкой 44"/>
          <p:cNvCxnSpPr/>
          <p:nvPr/>
        </p:nvCxnSpPr>
        <p:spPr>
          <a:xfrm flipV="1">
            <a:off x="7020000" y="3922200"/>
            <a:ext cx="581400" cy="613440"/>
          </a:xfrm>
          <a:prstGeom prst="straightConnector1">
            <a:avLst/>
          </a:prstGeom>
          <a:ln w="38160">
            <a:solidFill>
              <a:srgbClr val="376092"/>
            </a:solidFill>
            <a:prstDash val="dash"/>
            <a:miter/>
            <a:tailEnd len="med" type="triangle" w="med"/>
          </a:ln>
        </p:spPr>
      </p:cxnSp>
      <p:cxnSp>
        <p:nvCxnSpPr>
          <p:cNvPr id="735" name="Прямая со стрелкой 45"/>
          <p:cNvCxnSpPr/>
          <p:nvPr/>
        </p:nvCxnSpPr>
        <p:spPr>
          <a:xfrm flipH="1" flipV="1">
            <a:off x="5212800" y="4004640"/>
            <a:ext cx="6840" cy="648360"/>
          </a:xfrm>
          <a:prstGeom prst="straightConnector1">
            <a:avLst/>
          </a:prstGeom>
          <a:ln w="38160">
            <a:solidFill>
              <a:srgbClr val="376092"/>
            </a:solidFill>
            <a:prstDash val="dash"/>
            <a:miter/>
            <a:tailEnd len="med" type="triangle" w="med"/>
          </a:ln>
        </p:spPr>
      </p:cxnSp>
      <p:cxnSp>
        <p:nvCxnSpPr>
          <p:cNvPr id="736" name="Прямая со стрелкой 47"/>
          <p:cNvCxnSpPr/>
          <p:nvPr/>
        </p:nvCxnSpPr>
        <p:spPr>
          <a:xfrm flipH="1" flipV="1">
            <a:off x="3852000" y="3747600"/>
            <a:ext cx="499320" cy="804240"/>
          </a:xfrm>
          <a:prstGeom prst="straightConnector1">
            <a:avLst/>
          </a:prstGeom>
          <a:ln w="38160">
            <a:solidFill>
              <a:srgbClr val="376092"/>
            </a:solidFill>
            <a:prstDash val="dash"/>
            <a:miter/>
            <a:tailEnd len="med" type="triangle" w="med"/>
          </a:ln>
        </p:spPr>
      </p:cxnSp>
      <p:cxnSp>
        <p:nvCxnSpPr>
          <p:cNvPr id="737" name="Прямая со стрелкой 56"/>
          <p:cNvCxnSpPr/>
          <p:nvPr/>
        </p:nvCxnSpPr>
        <p:spPr>
          <a:xfrm flipH="1">
            <a:off x="2709000" y="1733400"/>
            <a:ext cx="1288440" cy="370800"/>
          </a:xfrm>
          <a:prstGeom prst="straightConnector1">
            <a:avLst/>
          </a:prstGeom>
          <a:ln w="38160">
            <a:solidFill>
              <a:srgbClr val="00b050"/>
            </a:solidFill>
            <a:prstDash val="dash"/>
            <a:miter/>
            <a:tailEnd len="med" type="triangle" w="med"/>
          </a:ln>
        </p:spPr>
      </p:cxnSp>
      <p:cxnSp>
        <p:nvCxnSpPr>
          <p:cNvPr id="738" name="Прямая со стрелкой 57"/>
          <p:cNvCxnSpPr/>
          <p:nvPr/>
        </p:nvCxnSpPr>
        <p:spPr>
          <a:xfrm flipH="1">
            <a:off x="4360320" y="2323800"/>
            <a:ext cx="338760" cy="516600"/>
          </a:xfrm>
          <a:prstGeom prst="straightConnector1">
            <a:avLst/>
          </a:prstGeom>
          <a:ln w="38160">
            <a:solidFill>
              <a:srgbClr val="00b050"/>
            </a:solidFill>
            <a:prstDash val="dash"/>
            <a:miter/>
            <a:tailEnd len="med" type="triangle" w="med"/>
          </a:ln>
        </p:spPr>
      </p:cxnSp>
      <p:cxnSp>
        <p:nvCxnSpPr>
          <p:cNvPr id="739" name="Прямая со стрелкой 58"/>
          <p:cNvCxnSpPr/>
          <p:nvPr/>
        </p:nvCxnSpPr>
        <p:spPr>
          <a:xfrm>
            <a:off x="5297400" y="2292120"/>
            <a:ext cx="354960" cy="345240"/>
          </a:xfrm>
          <a:prstGeom prst="straightConnector1">
            <a:avLst/>
          </a:prstGeom>
          <a:ln w="38160">
            <a:solidFill>
              <a:srgbClr val="00b050"/>
            </a:solidFill>
            <a:prstDash val="dash"/>
            <a:miter/>
            <a:tailEnd len="med" type="triangle" w="med"/>
          </a:ln>
        </p:spPr>
      </p:cxnSp>
      <p:cxnSp>
        <p:nvCxnSpPr>
          <p:cNvPr id="740" name="Прямая со стрелкой 59"/>
          <p:cNvCxnSpPr/>
          <p:nvPr/>
        </p:nvCxnSpPr>
        <p:spPr>
          <a:xfrm>
            <a:off x="5578560" y="1641600"/>
            <a:ext cx="1048320" cy="396000"/>
          </a:xfrm>
          <a:prstGeom prst="straightConnector1">
            <a:avLst/>
          </a:prstGeom>
          <a:ln w="38160">
            <a:solidFill>
              <a:srgbClr val="00b050"/>
            </a:solidFill>
            <a:prstDash val="dash"/>
            <a:miter/>
            <a:tailEnd len="med" type="triangle" w="med"/>
          </a:ln>
        </p:spPr>
      </p:cxnSp>
      <p:cxnSp>
        <p:nvCxnSpPr>
          <p:cNvPr id="741" name="Прямая со стрелкой 64"/>
          <p:cNvCxnSpPr/>
          <p:nvPr/>
        </p:nvCxnSpPr>
        <p:spPr>
          <a:xfrm>
            <a:off x="1882800" y="3416040"/>
            <a:ext cx="1448640" cy="1135800"/>
          </a:xfrm>
          <a:prstGeom prst="straightConnector1">
            <a:avLst/>
          </a:prstGeom>
          <a:ln w="38160">
            <a:solidFill>
              <a:srgbClr val="00b050"/>
            </a:solidFill>
            <a:prstDash val="dash"/>
            <a:miter/>
            <a:tailEnd len="med" type="triangle" w="med"/>
          </a:ln>
        </p:spPr>
      </p:cxnSp>
      <p:cxnSp>
        <p:nvCxnSpPr>
          <p:cNvPr id="742" name="Прямая со стрелкой 68"/>
          <p:cNvCxnSpPr/>
          <p:nvPr/>
        </p:nvCxnSpPr>
        <p:spPr>
          <a:xfrm>
            <a:off x="3696840" y="3771720"/>
            <a:ext cx="561240" cy="881640"/>
          </a:xfrm>
          <a:prstGeom prst="straightConnector1">
            <a:avLst/>
          </a:prstGeom>
          <a:ln w="38160">
            <a:solidFill>
              <a:srgbClr val="00b050"/>
            </a:solidFill>
            <a:prstDash val="dash"/>
            <a:miter/>
            <a:tailEnd len="med" type="triangle" w="med"/>
          </a:ln>
        </p:spPr>
      </p:cxnSp>
      <p:cxnSp>
        <p:nvCxnSpPr>
          <p:cNvPr id="743" name="Прямая со стрелкой 71"/>
          <p:cNvCxnSpPr/>
          <p:nvPr/>
        </p:nvCxnSpPr>
        <p:spPr>
          <a:xfrm>
            <a:off x="5076360" y="4076280"/>
            <a:ext cx="1080" cy="577080"/>
          </a:xfrm>
          <a:prstGeom prst="straightConnector1">
            <a:avLst/>
          </a:prstGeom>
          <a:ln w="38160">
            <a:solidFill>
              <a:srgbClr val="00b050"/>
            </a:solidFill>
            <a:prstDash val="dash"/>
            <a:miter/>
            <a:tailEnd len="med" type="triangle" w="med"/>
          </a:ln>
        </p:spPr>
      </p:cxnSp>
      <p:cxnSp>
        <p:nvCxnSpPr>
          <p:cNvPr id="744" name="Прямая со стрелкой 82"/>
          <p:cNvCxnSpPr/>
          <p:nvPr/>
        </p:nvCxnSpPr>
        <p:spPr>
          <a:xfrm flipH="1">
            <a:off x="6793920" y="3865680"/>
            <a:ext cx="611640" cy="622800"/>
          </a:xfrm>
          <a:prstGeom prst="straightConnector1">
            <a:avLst/>
          </a:prstGeom>
          <a:ln w="38160">
            <a:solidFill>
              <a:srgbClr val="00b050"/>
            </a:solidFill>
            <a:prstDash val="dash"/>
            <a:miter/>
            <a:tailEnd len="med" type="triangle" w="med"/>
          </a:ln>
        </p:spPr>
      </p:cxnSp>
      <p:cxnSp>
        <p:nvCxnSpPr>
          <p:cNvPr id="745" name="Прямая со стрелкой 86"/>
          <p:cNvCxnSpPr/>
          <p:nvPr/>
        </p:nvCxnSpPr>
        <p:spPr>
          <a:xfrm flipH="1" flipV="1">
            <a:off x="939600" y="3790080"/>
            <a:ext cx="1443600" cy="686520"/>
          </a:xfrm>
          <a:prstGeom prst="straightConnector1">
            <a:avLst/>
          </a:prstGeom>
          <a:ln w="38160">
            <a:solidFill>
              <a:srgbClr val="376092"/>
            </a:solidFill>
            <a:prstDash val="dash"/>
            <a:miter/>
            <a:tailEnd len="med" type="triangle" w="med"/>
          </a:ln>
        </p:spPr>
      </p:cxnSp>
      <p:cxnSp>
        <p:nvCxnSpPr>
          <p:cNvPr id="746" name="Прямая со стрелкой 88"/>
          <p:cNvCxnSpPr/>
          <p:nvPr/>
        </p:nvCxnSpPr>
        <p:spPr>
          <a:xfrm>
            <a:off x="931680" y="3968640"/>
            <a:ext cx="1392840" cy="626040"/>
          </a:xfrm>
          <a:prstGeom prst="straightConnector1">
            <a:avLst/>
          </a:prstGeom>
          <a:ln w="38160">
            <a:solidFill>
              <a:srgbClr val="00b050"/>
            </a:solidFill>
            <a:prstDash val="dash"/>
            <a:miter/>
            <a:tailEnd len="med" type="triangle" w="med"/>
          </a:ln>
        </p:spPr>
      </p:cxnSp>
      <p:sp>
        <p:nvSpPr>
          <p:cNvPr id="747" name="object 5"/>
          <p:cNvSpPr/>
          <p:nvPr/>
        </p:nvSpPr>
        <p:spPr>
          <a:xfrm>
            <a:off x="3541680" y="216000"/>
            <a:ext cx="5602320" cy="612720"/>
          </a:xfrm>
          <a:prstGeom prst="rect">
            <a:avLst/>
          </a:prstGeom>
          <a:solidFill>
            <a:srgbClr val="537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marL="363600"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собы получения работником выписк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Электронной трудовой книж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Номер слайда 1"/>
          <p:cNvSpPr/>
          <p:nvPr/>
        </p:nvSpPr>
        <p:spPr>
          <a:xfrm>
            <a:off x="8748720" y="6481800"/>
            <a:ext cx="34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8FD1-2AE1-45F6-A21E-54B788C818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9" name="Группа 61"/>
          <p:cNvGrpSpPr/>
          <p:nvPr/>
        </p:nvGrpSpPr>
        <p:grpSpPr>
          <a:xfrm>
            <a:off x="184320" y="117360"/>
            <a:ext cx="2871720" cy="555840"/>
            <a:chOff x="184320" y="117360"/>
            <a:chExt cx="2871720" cy="555840"/>
          </a:xfrm>
        </p:grpSpPr>
        <p:sp>
          <p:nvSpPr>
            <p:cNvPr id="750" name="object 31"/>
            <p:cNvSpPr/>
            <p:nvPr/>
          </p:nvSpPr>
          <p:spPr>
            <a:xfrm>
              <a:off x="212760" y="220320"/>
              <a:ext cx="463320" cy="3859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559435" h="503555">
                  <a:moveTo>
                    <a:pt x="221945" y="93395"/>
                  </a:moveTo>
                  <a:lnTo>
                    <a:pt x="0" y="0"/>
                  </a:lnTo>
                  <a:lnTo>
                    <a:pt x="0" y="377190"/>
                  </a:lnTo>
                  <a:lnTo>
                    <a:pt x="281368" y="503326"/>
                  </a:lnTo>
                  <a:lnTo>
                    <a:pt x="281368" y="120078"/>
                  </a:lnTo>
                  <a:lnTo>
                    <a:pt x="559104" y="0"/>
                  </a:lnTo>
                  <a:lnTo>
                    <a:pt x="559104" y="54203"/>
                  </a:lnTo>
                </a:path>
              </a:pathLst>
            </a:custGeom>
            <a:noFill/>
            <a:ln w="28800">
              <a:solidFill>
                <a:srgbClr val="1b7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object 32"/>
            <p:cNvSpPr/>
            <p:nvPr/>
          </p:nvSpPr>
          <p:spPr>
            <a:xfrm>
              <a:off x="209520" y="147240"/>
              <a:ext cx="414360" cy="12204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467359" h="99695">
                  <a:moveTo>
                    <a:pt x="0" y="2425"/>
                  </a:moveTo>
                  <a:lnTo>
                    <a:pt x="228015" y="99453"/>
                  </a:lnTo>
                  <a:lnTo>
                    <a:pt x="466940" y="0"/>
                  </a:lnTo>
                </a:path>
              </a:pathLst>
            </a:custGeom>
            <a:noFill/>
            <a:ln w="28800">
              <a:solidFill>
                <a:srgbClr val="1b7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object 33"/>
            <p:cNvSpPr/>
            <p:nvPr/>
          </p:nvSpPr>
          <p:spPr>
            <a:xfrm>
              <a:off x="461880" y="57960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object 34"/>
            <p:cNvSpPr/>
            <p:nvPr/>
          </p:nvSpPr>
          <p:spPr>
            <a:xfrm>
              <a:off x="461880" y="53208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object 35"/>
            <p:cNvSpPr/>
            <p:nvPr/>
          </p:nvSpPr>
          <p:spPr>
            <a:xfrm>
              <a:off x="461880" y="48420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object 36"/>
            <p:cNvSpPr/>
            <p:nvPr/>
          </p:nvSpPr>
          <p:spPr>
            <a:xfrm>
              <a:off x="461880" y="43668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object 37"/>
            <p:cNvSpPr/>
            <p:nvPr/>
          </p:nvSpPr>
          <p:spPr>
            <a:xfrm>
              <a:off x="461880" y="38880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object 38"/>
            <p:cNvSpPr/>
            <p:nvPr/>
          </p:nvSpPr>
          <p:spPr>
            <a:xfrm>
              <a:off x="461880" y="3412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object 39"/>
            <p:cNvSpPr/>
            <p:nvPr/>
          </p:nvSpPr>
          <p:spPr>
            <a:xfrm>
              <a:off x="461880" y="29340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object 40"/>
            <p:cNvSpPr/>
            <p:nvPr/>
          </p:nvSpPr>
          <p:spPr>
            <a:xfrm>
              <a:off x="498600" y="56052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object 41"/>
            <p:cNvSpPr/>
            <p:nvPr/>
          </p:nvSpPr>
          <p:spPr>
            <a:xfrm>
              <a:off x="498600" y="5144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object 42"/>
            <p:cNvSpPr/>
            <p:nvPr/>
          </p:nvSpPr>
          <p:spPr>
            <a:xfrm>
              <a:off x="498600" y="46692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object 43"/>
            <p:cNvSpPr/>
            <p:nvPr/>
          </p:nvSpPr>
          <p:spPr>
            <a:xfrm>
              <a:off x="498600" y="42084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object 44"/>
            <p:cNvSpPr/>
            <p:nvPr/>
          </p:nvSpPr>
          <p:spPr>
            <a:xfrm>
              <a:off x="498600" y="37296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object 45"/>
            <p:cNvSpPr/>
            <p:nvPr/>
          </p:nvSpPr>
          <p:spPr>
            <a:xfrm>
              <a:off x="498600" y="32544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object 46"/>
            <p:cNvSpPr/>
            <p:nvPr/>
          </p:nvSpPr>
          <p:spPr>
            <a:xfrm>
              <a:off x="498600" y="27756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object 47"/>
            <p:cNvSpPr/>
            <p:nvPr/>
          </p:nvSpPr>
          <p:spPr>
            <a:xfrm>
              <a:off x="804960" y="4190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object 48"/>
            <p:cNvSpPr/>
            <p:nvPr/>
          </p:nvSpPr>
          <p:spPr>
            <a:xfrm>
              <a:off x="534960" y="49716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object 49"/>
            <p:cNvSpPr/>
            <p:nvPr/>
          </p:nvSpPr>
          <p:spPr>
            <a:xfrm>
              <a:off x="534960" y="4492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object 50"/>
            <p:cNvSpPr/>
            <p:nvPr/>
          </p:nvSpPr>
          <p:spPr>
            <a:xfrm>
              <a:off x="534960" y="40176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object 51"/>
            <p:cNvSpPr/>
            <p:nvPr/>
          </p:nvSpPr>
          <p:spPr>
            <a:xfrm>
              <a:off x="534960" y="3556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object 53"/>
            <p:cNvSpPr/>
            <p:nvPr/>
          </p:nvSpPr>
          <p:spPr>
            <a:xfrm>
              <a:off x="534960" y="2602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object 54"/>
            <p:cNvSpPr/>
            <p:nvPr/>
          </p:nvSpPr>
          <p:spPr>
            <a:xfrm>
              <a:off x="571680" y="52704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object 55"/>
            <p:cNvSpPr/>
            <p:nvPr/>
          </p:nvSpPr>
          <p:spPr>
            <a:xfrm>
              <a:off x="571680" y="47952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object 56"/>
            <p:cNvSpPr/>
            <p:nvPr/>
          </p:nvSpPr>
          <p:spPr>
            <a:xfrm>
              <a:off x="571680" y="43200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object 57"/>
            <p:cNvSpPr/>
            <p:nvPr/>
          </p:nvSpPr>
          <p:spPr>
            <a:xfrm>
              <a:off x="773280" y="291960"/>
              <a:ext cx="33120" cy="61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object 58"/>
            <p:cNvSpPr/>
            <p:nvPr/>
          </p:nvSpPr>
          <p:spPr>
            <a:xfrm>
              <a:off x="571680" y="3380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object 59"/>
            <p:cNvSpPr/>
            <p:nvPr/>
          </p:nvSpPr>
          <p:spPr>
            <a:xfrm>
              <a:off x="571680" y="29052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object 60"/>
            <p:cNvSpPr/>
            <p:nvPr/>
          </p:nvSpPr>
          <p:spPr>
            <a:xfrm>
              <a:off x="571680" y="2426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object 61"/>
            <p:cNvSpPr/>
            <p:nvPr/>
          </p:nvSpPr>
          <p:spPr>
            <a:xfrm>
              <a:off x="731880" y="45252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object 62"/>
            <p:cNvSpPr/>
            <p:nvPr/>
          </p:nvSpPr>
          <p:spPr>
            <a:xfrm>
              <a:off x="608040" y="463680"/>
              <a:ext cx="36360" cy="60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object 63"/>
            <p:cNvSpPr/>
            <p:nvPr/>
          </p:nvSpPr>
          <p:spPr>
            <a:xfrm>
              <a:off x="608040" y="415800"/>
              <a:ext cx="36360" cy="60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object 64"/>
            <p:cNvSpPr/>
            <p:nvPr/>
          </p:nvSpPr>
          <p:spPr>
            <a:xfrm>
              <a:off x="608040" y="368280"/>
              <a:ext cx="36360" cy="619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object 65"/>
            <p:cNvSpPr/>
            <p:nvPr/>
          </p:nvSpPr>
          <p:spPr>
            <a:xfrm>
              <a:off x="839880" y="215640"/>
              <a:ext cx="33120" cy="586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object 66"/>
            <p:cNvSpPr/>
            <p:nvPr/>
          </p:nvSpPr>
          <p:spPr>
            <a:xfrm>
              <a:off x="608040" y="272880"/>
              <a:ext cx="36360" cy="619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object 67"/>
            <p:cNvSpPr/>
            <p:nvPr/>
          </p:nvSpPr>
          <p:spPr>
            <a:xfrm>
              <a:off x="608040" y="226800"/>
              <a:ext cx="36360" cy="60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object 68"/>
            <p:cNvSpPr/>
            <p:nvPr/>
          </p:nvSpPr>
          <p:spPr>
            <a:xfrm>
              <a:off x="644400" y="49392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object 69"/>
            <p:cNvSpPr/>
            <p:nvPr/>
          </p:nvSpPr>
          <p:spPr>
            <a:xfrm>
              <a:off x="644400" y="4460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object 70"/>
            <p:cNvSpPr/>
            <p:nvPr/>
          </p:nvSpPr>
          <p:spPr>
            <a:xfrm>
              <a:off x="723960" y="363600"/>
              <a:ext cx="33120" cy="586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object 71"/>
            <p:cNvSpPr/>
            <p:nvPr/>
          </p:nvSpPr>
          <p:spPr>
            <a:xfrm>
              <a:off x="644400" y="35244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object 72"/>
            <p:cNvSpPr/>
            <p:nvPr/>
          </p:nvSpPr>
          <p:spPr>
            <a:xfrm>
              <a:off x="720720" y="26964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object 73"/>
            <p:cNvSpPr/>
            <p:nvPr/>
          </p:nvSpPr>
          <p:spPr>
            <a:xfrm>
              <a:off x="781200" y="19332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object 74"/>
            <p:cNvSpPr/>
            <p:nvPr/>
          </p:nvSpPr>
          <p:spPr>
            <a:xfrm>
              <a:off x="749520" y="16020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object 75"/>
            <p:cNvSpPr/>
            <p:nvPr/>
          </p:nvSpPr>
          <p:spPr>
            <a:xfrm>
              <a:off x="681120" y="47808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object 76"/>
            <p:cNvSpPr/>
            <p:nvPr/>
          </p:nvSpPr>
          <p:spPr>
            <a:xfrm>
              <a:off x="762120" y="393840"/>
              <a:ext cx="33120" cy="586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object 77"/>
            <p:cNvSpPr/>
            <p:nvPr/>
          </p:nvSpPr>
          <p:spPr>
            <a:xfrm>
              <a:off x="681120" y="38268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object 78"/>
            <p:cNvSpPr/>
            <p:nvPr/>
          </p:nvSpPr>
          <p:spPr>
            <a:xfrm>
              <a:off x="681120" y="33480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object 79"/>
            <p:cNvSpPr/>
            <p:nvPr/>
          </p:nvSpPr>
          <p:spPr>
            <a:xfrm>
              <a:off x="681120" y="2872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object 80"/>
            <p:cNvSpPr/>
            <p:nvPr/>
          </p:nvSpPr>
          <p:spPr>
            <a:xfrm>
              <a:off x="719280" y="222120"/>
              <a:ext cx="36360" cy="60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object 81"/>
            <p:cNvSpPr/>
            <p:nvPr/>
          </p:nvSpPr>
          <p:spPr>
            <a:xfrm>
              <a:off x="681120" y="19332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Прямоугольник 121"/>
            <p:cNvSpPr/>
            <p:nvPr/>
          </p:nvSpPr>
          <p:spPr>
            <a:xfrm>
              <a:off x="1104480" y="117360"/>
              <a:ext cx="18662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1a75bd"/>
                  </a:solidFill>
                  <a:latin typeface="Arial Nova Cond"/>
                </a:rPr>
                <a:t>ЭЛЕКТРОННАЯ 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Прямоугольник 122"/>
            <p:cNvSpPr/>
            <p:nvPr/>
          </p:nvSpPr>
          <p:spPr>
            <a:xfrm>
              <a:off x="1108800" y="350640"/>
              <a:ext cx="1557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1a75bd"/>
                  </a:solidFill>
                  <a:latin typeface="Arial Narrow"/>
                </a:rPr>
                <a:t>ТРУДОВАЯ  КНИЖКА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Прямая соединительная линия 123"/>
            <p:cNvSpPr/>
            <p:nvPr/>
          </p:nvSpPr>
          <p:spPr>
            <a:xfrm flipV="1">
              <a:off x="184320" y="648000"/>
              <a:ext cx="2871720" cy="25200"/>
            </a:xfrm>
            <a:prstGeom prst="line">
              <a:avLst/>
            </a:prstGeom>
            <a:ln w="316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03" name="Рисунок 124" descr=""/>
          <p:cNvPicPr/>
          <p:nvPr/>
        </p:nvPicPr>
        <p:blipFill>
          <a:blip r:embed="rId4"/>
          <a:stretch/>
        </p:blipFill>
        <p:spPr>
          <a:xfrm>
            <a:off x="8101080" y="6080040"/>
            <a:ext cx="736560" cy="758880"/>
          </a:xfrm>
          <a:prstGeom prst="rect">
            <a:avLst/>
          </a:prstGeom>
          <a:ln w="0">
            <a:noFill/>
          </a:ln>
        </p:spPr>
      </p:pic>
      <p:pic>
        <p:nvPicPr>
          <p:cNvPr id="804" name="Рисунок 125" descr=""/>
          <p:cNvPicPr/>
          <p:nvPr/>
        </p:nvPicPr>
        <p:blipFill>
          <a:blip r:embed="rId5"/>
          <a:stretch/>
        </p:blipFill>
        <p:spPr>
          <a:xfrm>
            <a:off x="395280" y="2565360"/>
            <a:ext cx="571680" cy="2121120"/>
          </a:xfrm>
          <a:prstGeom prst="rect">
            <a:avLst/>
          </a:prstGeom>
          <a:ln w="0">
            <a:noFill/>
          </a:ln>
        </p:spPr>
      </p:pic>
      <p:pic>
        <p:nvPicPr>
          <p:cNvPr id="805" name="Рисунок 126" descr=""/>
          <p:cNvPicPr/>
          <p:nvPr/>
        </p:nvPicPr>
        <p:blipFill>
          <a:blip r:embed="rId6"/>
          <a:stretch/>
        </p:blipFill>
        <p:spPr>
          <a:xfrm>
            <a:off x="4175280" y="4797360"/>
            <a:ext cx="1309680" cy="1646280"/>
          </a:xfrm>
          <a:prstGeom prst="rect">
            <a:avLst/>
          </a:prstGeom>
          <a:ln w="0">
            <a:noFill/>
          </a:ln>
        </p:spPr>
      </p:pic>
      <p:grpSp>
        <p:nvGrpSpPr>
          <p:cNvPr id="806" name="TextBox 127"/>
          <p:cNvGrpSpPr/>
          <p:nvPr/>
        </p:nvGrpSpPr>
        <p:grpSpPr>
          <a:xfrm>
            <a:off x="103320" y="4681440"/>
            <a:ext cx="1439640" cy="420840"/>
            <a:chOff x="103320" y="4681440"/>
            <a:chExt cx="1439640" cy="420840"/>
          </a:xfrm>
        </p:grpSpPr>
        <p:pic>
          <p:nvPicPr>
            <p:cNvPr id="807" name="TextBox 127" descr=""/>
            <p:cNvPicPr/>
            <p:nvPr/>
          </p:nvPicPr>
          <p:blipFill>
            <a:blip r:embed="rId7"/>
            <a:stretch/>
          </p:blipFill>
          <p:spPr>
            <a:xfrm>
              <a:off x="103320" y="4681440"/>
              <a:ext cx="14396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8" name=""/>
            <p:cNvSpPr/>
            <p:nvPr/>
          </p:nvSpPr>
          <p:spPr>
            <a:xfrm>
              <a:off x="127080" y="4708440"/>
              <a:ext cx="13888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Работодатель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9" name="TextBox 128"/>
          <p:cNvGrpSpPr/>
          <p:nvPr/>
        </p:nvGrpSpPr>
        <p:grpSpPr>
          <a:xfrm>
            <a:off x="4280040" y="6364440"/>
            <a:ext cx="1103040" cy="414360"/>
            <a:chOff x="4280040" y="6364440"/>
            <a:chExt cx="1103040" cy="414360"/>
          </a:xfrm>
        </p:grpSpPr>
        <p:pic>
          <p:nvPicPr>
            <p:cNvPr id="810" name="TextBox 128" descr=""/>
            <p:cNvPicPr/>
            <p:nvPr/>
          </p:nvPicPr>
          <p:blipFill>
            <a:blip r:embed="rId8"/>
            <a:stretch/>
          </p:blipFill>
          <p:spPr>
            <a:xfrm>
              <a:off x="4280040" y="6364440"/>
              <a:ext cx="110304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"/>
            <p:cNvSpPr/>
            <p:nvPr/>
          </p:nvSpPr>
          <p:spPr>
            <a:xfrm>
              <a:off x="4302000" y="6391440"/>
              <a:ext cx="1054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Работни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2" name="TextBox 129"/>
          <p:cNvGrpSpPr/>
          <p:nvPr/>
        </p:nvGrpSpPr>
        <p:grpSpPr>
          <a:xfrm>
            <a:off x="4084560" y="3309840"/>
            <a:ext cx="2584440" cy="603360"/>
            <a:chOff x="4084560" y="3309840"/>
            <a:chExt cx="2584440" cy="603360"/>
          </a:xfrm>
        </p:grpSpPr>
        <p:pic>
          <p:nvPicPr>
            <p:cNvPr id="813" name="TextBox 129" descr=""/>
            <p:cNvPicPr/>
            <p:nvPr/>
          </p:nvPicPr>
          <p:blipFill>
            <a:blip r:embed="rId9"/>
            <a:stretch/>
          </p:blipFill>
          <p:spPr>
            <a:xfrm>
              <a:off x="4084560" y="3309840"/>
              <a:ext cx="258444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"/>
            <p:cNvSpPr/>
            <p:nvPr/>
          </p:nvSpPr>
          <p:spPr>
            <a:xfrm>
              <a:off x="4121280" y="3344760"/>
              <a:ext cx="25095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Специалист</a:t>
              </a:r>
              <a:br>
                <a:rPr sz="1600"/>
              </a:b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клиентской службы УПФР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5" name="TextBox 130"/>
          <p:cNvGrpSpPr/>
          <p:nvPr/>
        </p:nvGrpSpPr>
        <p:grpSpPr>
          <a:xfrm>
            <a:off x="7095960" y="3230640"/>
            <a:ext cx="1749600" cy="603000"/>
            <a:chOff x="7095960" y="3230640"/>
            <a:chExt cx="1749600" cy="603000"/>
          </a:xfrm>
        </p:grpSpPr>
        <p:pic>
          <p:nvPicPr>
            <p:cNvPr id="816" name="TextBox 130" descr=""/>
            <p:cNvPicPr/>
            <p:nvPr/>
          </p:nvPicPr>
          <p:blipFill>
            <a:blip r:embed="rId10"/>
            <a:stretch/>
          </p:blipFill>
          <p:spPr>
            <a:xfrm>
              <a:off x="7095960" y="3230640"/>
              <a:ext cx="174960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7" name=""/>
            <p:cNvSpPr/>
            <p:nvPr/>
          </p:nvSpPr>
          <p:spPr>
            <a:xfrm>
              <a:off x="7134120" y="3263760"/>
              <a:ext cx="1675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Личный кабине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гражданин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18" name="Рисунок 31" descr=""/>
          <p:cNvPicPr/>
          <p:nvPr/>
        </p:nvPicPr>
        <p:blipFill>
          <a:blip r:embed="rId11"/>
          <a:stretch/>
        </p:blipFill>
        <p:spPr>
          <a:xfrm>
            <a:off x="3110040" y="2362320"/>
            <a:ext cx="1251000" cy="955440"/>
          </a:xfrm>
          <a:prstGeom prst="rect">
            <a:avLst/>
          </a:prstGeom>
          <a:ln w="0">
            <a:noFill/>
          </a:ln>
        </p:spPr>
      </p:pic>
      <p:grpSp>
        <p:nvGrpSpPr>
          <p:cNvPr id="819" name="TextBox 131"/>
          <p:cNvGrpSpPr/>
          <p:nvPr/>
        </p:nvGrpSpPr>
        <p:grpSpPr>
          <a:xfrm>
            <a:off x="1212840" y="2955960"/>
            <a:ext cx="1719360" cy="415800"/>
            <a:chOff x="1212840" y="2955960"/>
            <a:chExt cx="1719360" cy="415800"/>
          </a:xfrm>
        </p:grpSpPr>
        <p:pic>
          <p:nvPicPr>
            <p:cNvPr id="820" name="TextBox 131" descr=""/>
            <p:cNvPicPr/>
            <p:nvPr/>
          </p:nvPicPr>
          <p:blipFill>
            <a:blip r:embed="rId12"/>
            <a:stretch/>
          </p:blipFill>
          <p:spPr>
            <a:xfrm>
              <a:off x="1212840" y="2955960"/>
              <a:ext cx="171936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"/>
            <p:cNvSpPr/>
            <p:nvPr/>
          </p:nvSpPr>
          <p:spPr>
            <a:xfrm>
              <a:off x="1239840" y="2982960"/>
              <a:ext cx="16635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ортал госуслуг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2" name="TextBox 132"/>
          <p:cNvGrpSpPr/>
          <p:nvPr/>
        </p:nvGrpSpPr>
        <p:grpSpPr>
          <a:xfrm>
            <a:off x="3181320" y="3316320"/>
            <a:ext cx="781200" cy="414360"/>
            <a:chOff x="3181320" y="3316320"/>
            <a:chExt cx="781200" cy="414360"/>
          </a:xfrm>
        </p:grpSpPr>
        <p:pic>
          <p:nvPicPr>
            <p:cNvPr id="823" name="TextBox 132" descr=""/>
            <p:cNvPicPr/>
            <p:nvPr/>
          </p:nvPicPr>
          <p:blipFill>
            <a:blip r:embed="rId13"/>
            <a:stretch/>
          </p:blipFill>
          <p:spPr>
            <a:xfrm>
              <a:off x="3181320" y="3316320"/>
              <a:ext cx="78120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4" name=""/>
            <p:cNvSpPr/>
            <p:nvPr/>
          </p:nvSpPr>
          <p:spPr>
            <a:xfrm>
              <a:off x="3209760" y="3340080"/>
              <a:ext cx="729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МФЦ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5" name="TextBox 133"/>
          <p:cNvSpPr/>
          <p:nvPr/>
        </p:nvSpPr>
        <p:spPr>
          <a:xfrm>
            <a:off x="2436840" y="450864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Запрос на получение выписки из ЭТ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TextBox 134"/>
          <p:cNvSpPr/>
          <p:nvPr/>
        </p:nvSpPr>
        <p:spPr>
          <a:xfrm>
            <a:off x="3911760" y="190656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Выписка из ЭТ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Рисунок 155" descr=""/>
          <p:cNvPicPr/>
          <p:nvPr/>
        </p:nvPicPr>
        <p:blipFill>
          <a:blip r:embed="rId14"/>
          <a:stretch/>
        </p:blipFill>
        <p:spPr>
          <a:xfrm>
            <a:off x="6661080" y="1967040"/>
            <a:ext cx="23367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Box 1"/>
          <p:cNvSpPr/>
          <p:nvPr/>
        </p:nvSpPr>
        <p:spPr>
          <a:xfrm>
            <a:off x="179280" y="79200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МЕРОПРИЯТИЯ, ПРОВОДИМЫЕ ПФР В ЦЕЛЯХ РЕАЛИЗАЦИИ ГОСУСЛУГИ ПО ПРЕДСТАВЛЕНИЮ СВЕДЕНИЙ О ТРУДОВОЙ ДЕЯТЕЛЬНОСТИ РАБОТ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object 5"/>
          <p:cNvSpPr/>
          <p:nvPr/>
        </p:nvSpPr>
        <p:spPr>
          <a:xfrm>
            <a:off x="4716360" y="216000"/>
            <a:ext cx="4392720" cy="612720"/>
          </a:xfrm>
          <a:prstGeom prst="rect">
            <a:avLst/>
          </a:prstGeom>
          <a:solidFill>
            <a:srgbClr val="537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marL="363600"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роприятия по реализ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Номер слайда 1"/>
          <p:cNvSpPr/>
          <p:nvPr/>
        </p:nvSpPr>
        <p:spPr>
          <a:xfrm>
            <a:off x="8748720" y="6481800"/>
            <a:ext cx="34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0BFD-8751-4456-AC64-C6C155A867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1" name="Группа 10"/>
          <p:cNvGrpSpPr/>
          <p:nvPr/>
        </p:nvGrpSpPr>
        <p:grpSpPr>
          <a:xfrm>
            <a:off x="184320" y="117360"/>
            <a:ext cx="2871720" cy="555840"/>
            <a:chOff x="184320" y="117360"/>
            <a:chExt cx="2871720" cy="555840"/>
          </a:xfrm>
        </p:grpSpPr>
        <p:sp>
          <p:nvSpPr>
            <p:cNvPr id="832" name="object 31"/>
            <p:cNvSpPr/>
            <p:nvPr/>
          </p:nvSpPr>
          <p:spPr>
            <a:xfrm>
              <a:off x="212760" y="220320"/>
              <a:ext cx="463320" cy="3859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559435" h="503555">
                  <a:moveTo>
                    <a:pt x="221945" y="93395"/>
                  </a:moveTo>
                  <a:lnTo>
                    <a:pt x="0" y="0"/>
                  </a:lnTo>
                  <a:lnTo>
                    <a:pt x="0" y="377190"/>
                  </a:lnTo>
                  <a:lnTo>
                    <a:pt x="281368" y="503326"/>
                  </a:lnTo>
                  <a:lnTo>
                    <a:pt x="281368" y="120078"/>
                  </a:lnTo>
                  <a:lnTo>
                    <a:pt x="559104" y="0"/>
                  </a:lnTo>
                  <a:lnTo>
                    <a:pt x="559104" y="54203"/>
                  </a:lnTo>
                </a:path>
              </a:pathLst>
            </a:custGeom>
            <a:noFill/>
            <a:ln w="28800">
              <a:solidFill>
                <a:srgbClr val="1b7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object 32"/>
            <p:cNvSpPr/>
            <p:nvPr/>
          </p:nvSpPr>
          <p:spPr>
            <a:xfrm>
              <a:off x="209520" y="147240"/>
              <a:ext cx="414360" cy="12204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467359" h="99695">
                  <a:moveTo>
                    <a:pt x="0" y="2425"/>
                  </a:moveTo>
                  <a:lnTo>
                    <a:pt x="228015" y="99453"/>
                  </a:lnTo>
                  <a:lnTo>
                    <a:pt x="466940" y="0"/>
                  </a:lnTo>
                </a:path>
              </a:pathLst>
            </a:custGeom>
            <a:noFill/>
            <a:ln w="28800">
              <a:solidFill>
                <a:srgbClr val="1b7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object 33"/>
            <p:cNvSpPr/>
            <p:nvPr/>
          </p:nvSpPr>
          <p:spPr>
            <a:xfrm>
              <a:off x="461880" y="57960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object 34"/>
            <p:cNvSpPr/>
            <p:nvPr/>
          </p:nvSpPr>
          <p:spPr>
            <a:xfrm>
              <a:off x="461880" y="53208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object 35"/>
            <p:cNvSpPr/>
            <p:nvPr/>
          </p:nvSpPr>
          <p:spPr>
            <a:xfrm>
              <a:off x="461880" y="48420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object 36"/>
            <p:cNvSpPr/>
            <p:nvPr/>
          </p:nvSpPr>
          <p:spPr>
            <a:xfrm>
              <a:off x="461880" y="43668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object 37"/>
            <p:cNvSpPr/>
            <p:nvPr/>
          </p:nvSpPr>
          <p:spPr>
            <a:xfrm>
              <a:off x="461880" y="38880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object 38"/>
            <p:cNvSpPr/>
            <p:nvPr/>
          </p:nvSpPr>
          <p:spPr>
            <a:xfrm>
              <a:off x="461880" y="3412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object 39"/>
            <p:cNvSpPr/>
            <p:nvPr/>
          </p:nvSpPr>
          <p:spPr>
            <a:xfrm>
              <a:off x="461880" y="29340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object 40"/>
            <p:cNvSpPr/>
            <p:nvPr/>
          </p:nvSpPr>
          <p:spPr>
            <a:xfrm>
              <a:off x="498600" y="56052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object 41"/>
            <p:cNvSpPr/>
            <p:nvPr/>
          </p:nvSpPr>
          <p:spPr>
            <a:xfrm>
              <a:off x="498600" y="5144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object 42"/>
            <p:cNvSpPr/>
            <p:nvPr/>
          </p:nvSpPr>
          <p:spPr>
            <a:xfrm>
              <a:off x="498600" y="46692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object 43"/>
            <p:cNvSpPr/>
            <p:nvPr/>
          </p:nvSpPr>
          <p:spPr>
            <a:xfrm>
              <a:off x="498600" y="42084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object 44"/>
            <p:cNvSpPr/>
            <p:nvPr/>
          </p:nvSpPr>
          <p:spPr>
            <a:xfrm>
              <a:off x="498600" y="37296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object 45"/>
            <p:cNvSpPr/>
            <p:nvPr/>
          </p:nvSpPr>
          <p:spPr>
            <a:xfrm>
              <a:off x="498600" y="32544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object 46"/>
            <p:cNvSpPr/>
            <p:nvPr/>
          </p:nvSpPr>
          <p:spPr>
            <a:xfrm>
              <a:off x="498600" y="27756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object 47"/>
            <p:cNvSpPr/>
            <p:nvPr/>
          </p:nvSpPr>
          <p:spPr>
            <a:xfrm>
              <a:off x="804960" y="4190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object 48"/>
            <p:cNvSpPr/>
            <p:nvPr/>
          </p:nvSpPr>
          <p:spPr>
            <a:xfrm>
              <a:off x="534960" y="49716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object 49"/>
            <p:cNvSpPr/>
            <p:nvPr/>
          </p:nvSpPr>
          <p:spPr>
            <a:xfrm>
              <a:off x="534960" y="4492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object 50"/>
            <p:cNvSpPr/>
            <p:nvPr/>
          </p:nvSpPr>
          <p:spPr>
            <a:xfrm>
              <a:off x="534960" y="40176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object 51"/>
            <p:cNvSpPr/>
            <p:nvPr/>
          </p:nvSpPr>
          <p:spPr>
            <a:xfrm>
              <a:off x="534960" y="3556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object 53"/>
            <p:cNvSpPr/>
            <p:nvPr/>
          </p:nvSpPr>
          <p:spPr>
            <a:xfrm>
              <a:off x="534960" y="2602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object 54"/>
            <p:cNvSpPr/>
            <p:nvPr/>
          </p:nvSpPr>
          <p:spPr>
            <a:xfrm>
              <a:off x="571680" y="52704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object 55"/>
            <p:cNvSpPr/>
            <p:nvPr/>
          </p:nvSpPr>
          <p:spPr>
            <a:xfrm>
              <a:off x="571680" y="47952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object 56"/>
            <p:cNvSpPr/>
            <p:nvPr/>
          </p:nvSpPr>
          <p:spPr>
            <a:xfrm>
              <a:off x="571680" y="43200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object 57"/>
            <p:cNvSpPr/>
            <p:nvPr/>
          </p:nvSpPr>
          <p:spPr>
            <a:xfrm>
              <a:off x="773280" y="291960"/>
              <a:ext cx="33120" cy="61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object 58"/>
            <p:cNvSpPr/>
            <p:nvPr/>
          </p:nvSpPr>
          <p:spPr>
            <a:xfrm>
              <a:off x="571680" y="3380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object 59"/>
            <p:cNvSpPr/>
            <p:nvPr/>
          </p:nvSpPr>
          <p:spPr>
            <a:xfrm>
              <a:off x="571680" y="29052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object 60"/>
            <p:cNvSpPr/>
            <p:nvPr/>
          </p:nvSpPr>
          <p:spPr>
            <a:xfrm>
              <a:off x="571680" y="2426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object 61"/>
            <p:cNvSpPr/>
            <p:nvPr/>
          </p:nvSpPr>
          <p:spPr>
            <a:xfrm>
              <a:off x="731880" y="45252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object 62"/>
            <p:cNvSpPr/>
            <p:nvPr/>
          </p:nvSpPr>
          <p:spPr>
            <a:xfrm>
              <a:off x="608040" y="463680"/>
              <a:ext cx="36360" cy="60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object 63"/>
            <p:cNvSpPr/>
            <p:nvPr/>
          </p:nvSpPr>
          <p:spPr>
            <a:xfrm>
              <a:off x="608040" y="415800"/>
              <a:ext cx="36360" cy="60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object 64"/>
            <p:cNvSpPr/>
            <p:nvPr/>
          </p:nvSpPr>
          <p:spPr>
            <a:xfrm>
              <a:off x="608040" y="368280"/>
              <a:ext cx="36360" cy="619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object 65"/>
            <p:cNvSpPr/>
            <p:nvPr/>
          </p:nvSpPr>
          <p:spPr>
            <a:xfrm>
              <a:off x="839880" y="215640"/>
              <a:ext cx="33120" cy="586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object 66"/>
            <p:cNvSpPr/>
            <p:nvPr/>
          </p:nvSpPr>
          <p:spPr>
            <a:xfrm>
              <a:off x="608040" y="272880"/>
              <a:ext cx="36360" cy="619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object 67"/>
            <p:cNvSpPr/>
            <p:nvPr/>
          </p:nvSpPr>
          <p:spPr>
            <a:xfrm>
              <a:off x="608040" y="226800"/>
              <a:ext cx="36360" cy="60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object 68"/>
            <p:cNvSpPr/>
            <p:nvPr/>
          </p:nvSpPr>
          <p:spPr>
            <a:xfrm>
              <a:off x="644400" y="49392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object 69"/>
            <p:cNvSpPr/>
            <p:nvPr/>
          </p:nvSpPr>
          <p:spPr>
            <a:xfrm>
              <a:off x="644400" y="4460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object 70"/>
            <p:cNvSpPr/>
            <p:nvPr/>
          </p:nvSpPr>
          <p:spPr>
            <a:xfrm>
              <a:off x="723960" y="363600"/>
              <a:ext cx="33120" cy="586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object 71"/>
            <p:cNvSpPr/>
            <p:nvPr/>
          </p:nvSpPr>
          <p:spPr>
            <a:xfrm>
              <a:off x="644400" y="35244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object 72"/>
            <p:cNvSpPr/>
            <p:nvPr/>
          </p:nvSpPr>
          <p:spPr>
            <a:xfrm>
              <a:off x="720720" y="26964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object 73"/>
            <p:cNvSpPr/>
            <p:nvPr/>
          </p:nvSpPr>
          <p:spPr>
            <a:xfrm>
              <a:off x="781200" y="19332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object 74"/>
            <p:cNvSpPr/>
            <p:nvPr/>
          </p:nvSpPr>
          <p:spPr>
            <a:xfrm>
              <a:off x="749520" y="16020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object 75"/>
            <p:cNvSpPr/>
            <p:nvPr/>
          </p:nvSpPr>
          <p:spPr>
            <a:xfrm>
              <a:off x="681120" y="47808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object 76"/>
            <p:cNvSpPr/>
            <p:nvPr/>
          </p:nvSpPr>
          <p:spPr>
            <a:xfrm>
              <a:off x="762120" y="393840"/>
              <a:ext cx="33120" cy="586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object 77"/>
            <p:cNvSpPr/>
            <p:nvPr/>
          </p:nvSpPr>
          <p:spPr>
            <a:xfrm>
              <a:off x="681120" y="38268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object 78"/>
            <p:cNvSpPr/>
            <p:nvPr/>
          </p:nvSpPr>
          <p:spPr>
            <a:xfrm>
              <a:off x="681120" y="33480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object 79"/>
            <p:cNvSpPr/>
            <p:nvPr/>
          </p:nvSpPr>
          <p:spPr>
            <a:xfrm>
              <a:off x="681120" y="2872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object 80"/>
            <p:cNvSpPr/>
            <p:nvPr/>
          </p:nvSpPr>
          <p:spPr>
            <a:xfrm>
              <a:off x="719280" y="222120"/>
              <a:ext cx="36360" cy="60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object 81"/>
            <p:cNvSpPr/>
            <p:nvPr/>
          </p:nvSpPr>
          <p:spPr>
            <a:xfrm>
              <a:off x="681120" y="19332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Прямоугольник 63"/>
            <p:cNvSpPr/>
            <p:nvPr/>
          </p:nvSpPr>
          <p:spPr>
            <a:xfrm>
              <a:off x="1104480" y="117360"/>
              <a:ext cx="18662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1a75bd"/>
                  </a:solidFill>
                  <a:latin typeface="Arial Nova Cond"/>
                </a:rPr>
                <a:t>ЭЛЕКТРОННАЯ 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Прямоугольник 64"/>
            <p:cNvSpPr/>
            <p:nvPr/>
          </p:nvSpPr>
          <p:spPr>
            <a:xfrm>
              <a:off x="1108800" y="350640"/>
              <a:ext cx="1557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1a75bd"/>
                  </a:solidFill>
                  <a:latin typeface="Arial Narrow"/>
                </a:rPr>
                <a:t>ТРУДОВАЯ  КНИЖКА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Прямая соединительная линия 65"/>
            <p:cNvSpPr/>
            <p:nvPr/>
          </p:nvSpPr>
          <p:spPr>
            <a:xfrm flipV="1">
              <a:off x="184320" y="648000"/>
              <a:ext cx="2871720" cy="25200"/>
            </a:xfrm>
            <a:prstGeom prst="line">
              <a:avLst/>
            </a:prstGeom>
            <a:ln w="316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85" name="Рисунок 66" descr=""/>
          <p:cNvPicPr/>
          <p:nvPr/>
        </p:nvPicPr>
        <p:blipFill>
          <a:blip r:embed="rId1"/>
          <a:stretch/>
        </p:blipFill>
        <p:spPr>
          <a:xfrm>
            <a:off x="8101080" y="6080040"/>
            <a:ext cx="736560" cy="758880"/>
          </a:xfrm>
          <a:prstGeom prst="rect">
            <a:avLst/>
          </a:prstGeom>
          <a:ln w="0">
            <a:noFill/>
          </a:ln>
        </p:spPr>
      </p:pic>
      <p:sp>
        <p:nvSpPr>
          <p:cNvPr id="886" name="TextBox 1"/>
          <p:cNvSpPr/>
          <p:nvPr/>
        </p:nvSpPr>
        <p:spPr>
          <a:xfrm>
            <a:off x="1136520" y="6138720"/>
            <a:ext cx="588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C 1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февраля 2020 года осуществляется прием свед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о трудовой деятельности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в электронном вид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7" name="TextBox 68"/>
          <p:cNvGrpSpPr/>
          <p:nvPr/>
        </p:nvGrpSpPr>
        <p:grpSpPr>
          <a:xfrm>
            <a:off x="438120" y="1457280"/>
            <a:ext cx="5438880" cy="1189080"/>
            <a:chOff x="438120" y="1457280"/>
            <a:chExt cx="5438880" cy="1189080"/>
          </a:xfrm>
        </p:grpSpPr>
        <p:pic>
          <p:nvPicPr>
            <p:cNvPr id="888" name="TextBox 68" descr=""/>
            <p:cNvPicPr/>
            <p:nvPr/>
          </p:nvPicPr>
          <p:blipFill>
            <a:blip r:embed="rId2"/>
            <a:stretch/>
          </p:blipFill>
          <p:spPr>
            <a:xfrm>
              <a:off x="438120" y="1457280"/>
              <a:ext cx="543888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>
              <a:off x="501480" y="1521000"/>
              <a:ext cx="5308920" cy="10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Разработана форма сведений о трудовой деятельности,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выдаваемая гражданину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0" name="TextBox 69"/>
          <p:cNvGrpSpPr/>
          <p:nvPr/>
        </p:nvGrpSpPr>
        <p:grpSpPr>
          <a:xfrm>
            <a:off x="438120" y="2670120"/>
            <a:ext cx="6730920" cy="1195560"/>
            <a:chOff x="438120" y="2670120"/>
            <a:chExt cx="6730920" cy="1195560"/>
          </a:xfrm>
        </p:grpSpPr>
        <p:pic>
          <p:nvPicPr>
            <p:cNvPr id="891" name="TextBox 69" descr=""/>
            <p:cNvPicPr/>
            <p:nvPr/>
          </p:nvPicPr>
          <p:blipFill>
            <a:blip r:embed="rId3"/>
            <a:stretch/>
          </p:blipFill>
          <p:spPr>
            <a:xfrm>
              <a:off x="438120" y="2670120"/>
              <a:ext cx="673092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503280" y="2732040"/>
              <a:ext cx="66024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Разработан проект Административного регламент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редоставления ПФР госуслуги по предоставлению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сведений о трудовой деятельности работника,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содержащихся в его индивидуальном лицевом счете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93" name="Рисунок 2" descr=""/>
          <p:cNvPicPr/>
          <p:nvPr/>
        </p:nvPicPr>
        <p:blipFill>
          <a:blip r:embed="rId4"/>
          <a:stretch/>
        </p:blipFill>
        <p:spPr>
          <a:xfrm>
            <a:off x="5867280" y="2833560"/>
            <a:ext cx="1152720" cy="992160"/>
          </a:xfrm>
          <a:prstGeom prst="rect">
            <a:avLst/>
          </a:prstGeom>
          <a:ln w="0">
            <a:noFill/>
          </a:ln>
        </p:spPr>
      </p:pic>
      <p:grpSp>
        <p:nvGrpSpPr>
          <p:cNvPr id="894" name="TextBox 70"/>
          <p:cNvGrpSpPr/>
          <p:nvPr/>
        </p:nvGrpSpPr>
        <p:grpSpPr>
          <a:xfrm>
            <a:off x="463680" y="3852720"/>
            <a:ext cx="7527960" cy="1163880"/>
            <a:chOff x="463680" y="3852720"/>
            <a:chExt cx="7527960" cy="1163880"/>
          </a:xfrm>
        </p:grpSpPr>
        <p:pic>
          <p:nvPicPr>
            <p:cNvPr id="895" name="TextBox 70" descr=""/>
            <p:cNvPicPr/>
            <p:nvPr/>
          </p:nvPicPr>
          <p:blipFill>
            <a:blip r:embed="rId5"/>
            <a:stretch/>
          </p:blipFill>
          <p:spPr>
            <a:xfrm>
              <a:off x="463680" y="3852720"/>
              <a:ext cx="7527960" cy="116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6" name=""/>
            <p:cNvSpPr/>
            <p:nvPr/>
          </p:nvSpPr>
          <p:spPr>
            <a:xfrm>
              <a:off x="523800" y="3917880"/>
              <a:ext cx="7407360" cy="10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Разработан прототип электронного сервиса в личном кабинете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на сайте ПФР, позволяющий гражданину онлайн сформировать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сведения о его трудовой деятельности. На сайте ПФР размещена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основная информация об электронной трудовой книжке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7" name="TextBox 71"/>
          <p:cNvGrpSpPr/>
          <p:nvPr/>
        </p:nvGrpSpPr>
        <p:grpSpPr>
          <a:xfrm>
            <a:off x="463680" y="5005440"/>
            <a:ext cx="8150040" cy="1054080"/>
            <a:chOff x="463680" y="5005440"/>
            <a:chExt cx="8150040" cy="1054080"/>
          </a:xfrm>
        </p:grpSpPr>
        <p:pic>
          <p:nvPicPr>
            <p:cNvPr id="898" name="TextBox 71" descr=""/>
            <p:cNvPicPr/>
            <p:nvPr/>
          </p:nvPicPr>
          <p:blipFill>
            <a:blip r:embed="rId6"/>
            <a:stretch/>
          </p:blipFill>
          <p:spPr>
            <a:xfrm>
              <a:off x="463680" y="5005440"/>
              <a:ext cx="815004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9" name=""/>
            <p:cNvSpPr/>
            <p:nvPr/>
          </p:nvSpPr>
          <p:spPr>
            <a:xfrm>
              <a:off x="519120" y="5064120"/>
              <a:ext cx="803916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Осуществлена постановка задач на реализацию процесса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редоставления госуслуги на ЕПГУ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00" name="Рисунок 5" descr=""/>
          <p:cNvPicPr/>
          <p:nvPr/>
        </p:nvPicPr>
        <p:blipFill>
          <a:blip r:embed="rId7"/>
          <a:stretch/>
        </p:blipFill>
        <p:spPr>
          <a:xfrm>
            <a:off x="7308720" y="5084640"/>
            <a:ext cx="917640" cy="901800"/>
          </a:xfrm>
          <a:prstGeom prst="rect">
            <a:avLst/>
          </a:prstGeom>
          <a:ln w="0">
            <a:noFill/>
          </a:ln>
        </p:spPr>
      </p:pic>
      <p:pic>
        <p:nvPicPr>
          <p:cNvPr id="901" name="Рисунок 72" descr=""/>
          <p:cNvPicPr/>
          <p:nvPr/>
        </p:nvPicPr>
        <p:blipFill>
          <a:blip r:embed="rId8"/>
          <a:stretch/>
        </p:blipFill>
        <p:spPr>
          <a:xfrm>
            <a:off x="6443640" y="4005360"/>
            <a:ext cx="1308240" cy="826920"/>
          </a:xfrm>
          <a:prstGeom prst="rect">
            <a:avLst/>
          </a:prstGeom>
          <a:ln w="0">
            <a:noFill/>
          </a:ln>
        </p:spPr>
      </p:pic>
      <p:pic>
        <p:nvPicPr>
          <p:cNvPr id="902" name="Picture 77" descr=""/>
          <p:cNvPicPr/>
          <p:nvPr/>
        </p:nvPicPr>
        <p:blipFill>
          <a:blip r:embed="rId9"/>
          <a:srcRect l="34201" t="34527" r="34125" b="30986"/>
          <a:stretch/>
        </p:blipFill>
        <p:spPr>
          <a:xfrm>
            <a:off x="4527720" y="1916280"/>
            <a:ext cx="105228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680080" y="216000"/>
            <a:ext cx="3411360" cy="612720"/>
          </a:xfrm>
          <a:prstGeom prst="rect">
            <a:avLst/>
          </a:prstGeom>
          <a:solidFill>
            <a:srgbClr val="537cad"/>
          </a:solidFill>
          <a:ln w="0">
            <a:noFill/>
          </a:ln>
        </p:spPr>
        <p:txBody>
          <a:bodyPr lIns="72000" rIns="72000" tIns="72000" bIns="72000" anchor="ctr">
            <a:noAutofit/>
          </a:bodyPr>
          <a:p>
            <a:pPr marL="9360" indent="0">
              <a:lnSpc>
                <a:spcPct val="10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Yu Gothic UI"/>
              </a:rPr>
              <a:t>Правовая ба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83"/>
          <p:cNvSpPr/>
          <p:nvPr/>
        </p:nvSpPr>
        <p:spPr>
          <a:xfrm>
            <a:off x="3808440" y="3271680"/>
            <a:ext cx="1839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0" y="30240"/>
            <a:ext cx="184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82"/>
          <p:cNvSpPr/>
          <p:nvPr/>
        </p:nvSpPr>
        <p:spPr>
          <a:xfrm>
            <a:off x="662040" y="1212840"/>
            <a:ext cx="7885080" cy="49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 1 января 2020 года в России начался постепенный переход к формированию информации о трудовой деятельности граждан в электронном виде. Все сведения, которые ранее вносились в трудовую книжку, будут вестись работодателями в электронном виде - в так называемой «электронной трудовой книжке»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яты следующие </a:t>
            </a:r>
            <a:r>
              <a:rPr b="1" lang="ru-RU" sz="17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законы и подзаконные акты</a:t>
            </a:r>
            <a:r>
              <a:rPr b="1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направленные на реализацию проекта «Электронная трудовая книжка»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</a:t>
            </a: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39-ФЗ</a:t>
            </a:r>
            <a:r>
              <a:rPr b="1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«О внесении изменений </a:t>
            </a: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Трудовой кодекс Российской Федерации </a:t>
            </a:r>
            <a:r>
              <a:rPr b="0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</a:t>
            </a:r>
            <a:r>
              <a:rPr b="0" lang="ru-RU" sz="1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части  формирования и ведения сведений о трудовой деятельности работника в электронном виде»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</a:t>
            </a: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36-ФЗ </a:t>
            </a:r>
            <a:r>
              <a:rPr b="1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«</a:t>
            </a:r>
            <a:r>
              <a:rPr b="0" lang="ru-RU" sz="1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 внесении изменений</a:t>
            </a:r>
            <a:r>
              <a:rPr b="0" lang="ru-RU" sz="17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Федеральный закон</a:t>
            </a:r>
            <a:r>
              <a:rPr b="0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«</a:t>
            </a:r>
            <a:r>
              <a:rPr b="0" lang="ru-RU" sz="1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б индивидуальном (персонифицированном) учете в системе обязательного пенсионного страхования»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тановление Правления ПФР от 25.12.2019 №730п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б утверждении формы и формата сведений о трудовой деятельности зарегистрированного лица, а также порядка заполнения форм указанных сведений»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омер слайда 1"/>
          <p:cNvSpPr/>
          <p:nvPr/>
        </p:nvSpPr>
        <p:spPr>
          <a:xfrm>
            <a:off x="8748720" y="6481800"/>
            <a:ext cx="34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5DAF-B8A2-4EFD-979B-3E614E8E08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7"/>
          <p:cNvGrpSpPr/>
          <p:nvPr/>
        </p:nvGrpSpPr>
        <p:grpSpPr>
          <a:xfrm>
            <a:off x="184320" y="117360"/>
            <a:ext cx="2871720" cy="555840"/>
            <a:chOff x="184320" y="117360"/>
            <a:chExt cx="2871720" cy="555840"/>
          </a:xfrm>
        </p:grpSpPr>
        <p:sp>
          <p:nvSpPr>
            <p:cNvPr id="56" name="object 31"/>
            <p:cNvSpPr/>
            <p:nvPr/>
          </p:nvSpPr>
          <p:spPr>
            <a:xfrm>
              <a:off x="212760" y="220320"/>
              <a:ext cx="463320" cy="3859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559435" h="503555">
                  <a:moveTo>
                    <a:pt x="221945" y="93395"/>
                  </a:moveTo>
                  <a:lnTo>
                    <a:pt x="0" y="0"/>
                  </a:lnTo>
                  <a:lnTo>
                    <a:pt x="0" y="377190"/>
                  </a:lnTo>
                  <a:lnTo>
                    <a:pt x="281368" y="503326"/>
                  </a:lnTo>
                  <a:lnTo>
                    <a:pt x="281368" y="120078"/>
                  </a:lnTo>
                  <a:lnTo>
                    <a:pt x="559104" y="0"/>
                  </a:lnTo>
                  <a:lnTo>
                    <a:pt x="559104" y="54203"/>
                  </a:lnTo>
                </a:path>
              </a:pathLst>
            </a:custGeom>
            <a:noFill/>
            <a:ln w="28800">
              <a:solidFill>
                <a:srgbClr val="1b7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object 32"/>
            <p:cNvSpPr/>
            <p:nvPr/>
          </p:nvSpPr>
          <p:spPr>
            <a:xfrm>
              <a:off x="209520" y="147240"/>
              <a:ext cx="414360" cy="12204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467359" h="99695">
                  <a:moveTo>
                    <a:pt x="0" y="2425"/>
                  </a:moveTo>
                  <a:lnTo>
                    <a:pt x="228015" y="99453"/>
                  </a:lnTo>
                  <a:lnTo>
                    <a:pt x="466940" y="0"/>
                  </a:lnTo>
                </a:path>
              </a:pathLst>
            </a:custGeom>
            <a:noFill/>
            <a:ln w="28800">
              <a:solidFill>
                <a:srgbClr val="1b7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object 33"/>
            <p:cNvSpPr/>
            <p:nvPr/>
          </p:nvSpPr>
          <p:spPr>
            <a:xfrm>
              <a:off x="461880" y="57960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object 34"/>
            <p:cNvSpPr/>
            <p:nvPr/>
          </p:nvSpPr>
          <p:spPr>
            <a:xfrm>
              <a:off x="461880" y="53208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object 35"/>
            <p:cNvSpPr/>
            <p:nvPr/>
          </p:nvSpPr>
          <p:spPr>
            <a:xfrm>
              <a:off x="461880" y="48420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object 36"/>
            <p:cNvSpPr/>
            <p:nvPr/>
          </p:nvSpPr>
          <p:spPr>
            <a:xfrm>
              <a:off x="461880" y="43668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object 37"/>
            <p:cNvSpPr/>
            <p:nvPr/>
          </p:nvSpPr>
          <p:spPr>
            <a:xfrm>
              <a:off x="461880" y="38880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object 38"/>
            <p:cNvSpPr/>
            <p:nvPr/>
          </p:nvSpPr>
          <p:spPr>
            <a:xfrm>
              <a:off x="461880" y="3412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object 39"/>
            <p:cNvSpPr/>
            <p:nvPr/>
          </p:nvSpPr>
          <p:spPr>
            <a:xfrm>
              <a:off x="461880" y="29340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object 40"/>
            <p:cNvSpPr/>
            <p:nvPr/>
          </p:nvSpPr>
          <p:spPr>
            <a:xfrm>
              <a:off x="498600" y="56052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object 41"/>
            <p:cNvSpPr/>
            <p:nvPr/>
          </p:nvSpPr>
          <p:spPr>
            <a:xfrm>
              <a:off x="498600" y="5144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object 42"/>
            <p:cNvSpPr/>
            <p:nvPr/>
          </p:nvSpPr>
          <p:spPr>
            <a:xfrm>
              <a:off x="498600" y="46692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object 43"/>
            <p:cNvSpPr/>
            <p:nvPr/>
          </p:nvSpPr>
          <p:spPr>
            <a:xfrm>
              <a:off x="498600" y="42084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object 44"/>
            <p:cNvSpPr/>
            <p:nvPr/>
          </p:nvSpPr>
          <p:spPr>
            <a:xfrm>
              <a:off x="498600" y="37296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object 45"/>
            <p:cNvSpPr/>
            <p:nvPr/>
          </p:nvSpPr>
          <p:spPr>
            <a:xfrm>
              <a:off x="498600" y="32544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object 46"/>
            <p:cNvSpPr/>
            <p:nvPr/>
          </p:nvSpPr>
          <p:spPr>
            <a:xfrm>
              <a:off x="498600" y="27756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object 47"/>
            <p:cNvSpPr/>
            <p:nvPr/>
          </p:nvSpPr>
          <p:spPr>
            <a:xfrm>
              <a:off x="804960" y="4190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object 48"/>
            <p:cNvSpPr/>
            <p:nvPr/>
          </p:nvSpPr>
          <p:spPr>
            <a:xfrm>
              <a:off x="534960" y="49716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object 49"/>
            <p:cNvSpPr/>
            <p:nvPr/>
          </p:nvSpPr>
          <p:spPr>
            <a:xfrm>
              <a:off x="534960" y="4492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object 50"/>
            <p:cNvSpPr/>
            <p:nvPr/>
          </p:nvSpPr>
          <p:spPr>
            <a:xfrm>
              <a:off x="534960" y="40176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object 51"/>
            <p:cNvSpPr/>
            <p:nvPr/>
          </p:nvSpPr>
          <p:spPr>
            <a:xfrm>
              <a:off x="534960" y="3556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object 53"/>
            <p:cNvSpPr/>
            <p:nvPr/>
          </p:nvSpPr>
          <p:spPr>
            <a:xfrm>
              <a:off x="534960" y="2602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object 54"/>
            <p:cNvSpPr/>
            <p:nvPr/>
          </p:nvSpPr>
          <p:spPr>
            <a:xfrm>
              <a:off x="571680" y="52704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object 55"/>
            <p:cNvSpPr/>
            <p:nvPr/>
          </p:nvSpPr>
          <p:spPr>
            <a:xfrm>
              <a:off x="571680" y="47952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object 56"/>
            <p:cNvSpPr/>
            <p:nvPr/>
          </p:nvSpPr>
          <p:spPr>
            <a:xfrm>
              <a:off x="571680" y="43200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object 57"/>
            <p:cNvSpPr/>
            <p:nvPr/>
          </p:nvSpPr>
          <p:spPr>
            <a:xfrm>
              <a:off x="773280" y="291960"/>
              <a:ext cx="33120" cy="61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object 58"/>
            <p:cNvSpPr/>
            <p:nvPr/>
          </p:nvSpPr>
          <p:spPr>
            <a:xfrm>
              <a:off x="571680" y="3380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object 59"/>
            <p:cNvSpPr/>
            <p:nvPr/>
          </p:nvSpPr>
          <p:spPr>
            <a:xfrm>
              <a:off x="571680" y="29052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object 60"/>
            <p:cNvSpPr/>
            <p:nvPr/>
          </p:nvSpPr>
          <p:spPr>
            <a:xfrm>
              <a:off x="571680" y="2426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object 61"/>
            <p:cNvSpPr/>
            <p:nvPr/>
          </p:nvSpPr>
          <p:spPr>
            <a:xfrm>
              <a:off x="731880" y="45252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object 62"/>
            <p:cNvSpPr/>
            <p:nvPr/>
          </p:nvSpPr>
          <p:spPr>
            <a:xfrm>
              <a:off x="608040" y="463680"/>
              <a:ext cx="36360" cy="60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object 63"/>
            <p:cNvSpPr/>
            <p:nvPr/>
          </p:nvSpPr>
          <p:spPr>
            <a:xfrm>
              <a:off x="608040" y="415800"/>
              <a:ext cx="36360" cy="60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object 64"/>
            <p:cNvSpPr/>
            <p:nvPr/>
          </p:nvSpPr>
          <p:spPr>
            <a:xfrm>
              <a:off x="608040" y="368280"/>
              <a:ext cx="36360" cy="619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object 65"/>
            <p:cNvSpPr/>
            <p:nvPr/>
          </p:nvSpPr>
          <p:spPr>
            <a:xfrm>
              <a:off x="839880" y="215640"/>
              <a:ext cx="33120" cy="586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object 66"/>
            <p:cNvSpPr/>
            <p:nvPr/>
          </p:nvSpPr>
          <p:spPr>
            <a:xfrm>
              <a:off x="608040" y="272880"/>
              <a:ext cx="36360" cy="619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object 67"/>
            <p:cNvSpPr/>
            <p:nvPr/>
          </p:nvSpPr>
          <p:spPr>
            <a:xfrm>
              <a:off x="608040" y="226800"/>
              <a:ext cx="36360" cy="60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object 68"/>
            <p:cNvSpPr/>
            <p:nvPr/>
          </p:nvSpPr>
          <p:spPr>
            <a:xfrm>
              <a:off x="644400" y="49392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object 69"/>
            <p:cNvSpPr/>
            <p:nvPr/>
          </p:nvSpPr>
          <p:spPr>
            <a:xfrm>
              <a:off x="644400" y="4460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object 70"/>
            <p:cNvSpPr/>
            <p:nvPr/>
          </p:nvSpPr>
          <p:spPr>
            <a:xfrm>
              <a:off x="723960" y="363600"/>
              <a:ext cx="33120" cy="586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object 71"/>
            <p:cNvSpPr/>
            <p:nvPr/>
          </p:nvSpPr>
          <p:spPr>
            <a:xfrm>
              <a:off x="644400" y="35244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object 72"/>
            <p:cNvSpPr/>
            <p:nvPr/>
          </p:nvSpPr>
          <p:spPr>
            <a:xfrm>
              <a:off x="720720" y="26964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object 73"/>
            <p:cNvSpPr/>
            <p:nvPr/>
          </p:nvSpPr>
          <p:spPr>
            <a:xfrm>
              <a:off x="781200" y="19332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object 74"/>
            <p:cNvSpPr/>
            <p:nvPr/>
          </p:nvSpPr>
          <p:spPr>
            <a:xfrm>
              <a:off x="749520" y="16020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object 75"/>
            <p:cNvSpPr/>
            <p:nvPr/>
          </p:nvSpPr>
          <p:spPr>
            <a:xfrm>
              <a:off x="681120" y="47808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object 76"/>
            <p:cNvSpPr/>
            <p:nvPr/>
          </p:nvSpPr>
          <p:spPr>
            <a:xfrm>
              <a:off x="762120" y="393840"/>
              <a:ext cx="33120" cy="586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object 77"/>
            <p:cNvSpPr/>
            <p:nvPr/>
          </p:nvSpPr>
          <p:spPr>
            <a:xfrm>
              <a:off x="681120" y="38268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object 78"/>
            <p:cNvSpPr/>
            <p:nvPr/>
          </p:nvSpPr>
          <p:spPr>
            <a:xfrm>
              <a:off x="681120" y="33480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object 79"/>
            <p:cNvSpPr/>
            <p:nvPr/>
          </p:nvSpPr>
          <p:spPr>
            <a:xfrm>
              <a:off x="681120" y="2872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object 80"/>
            <p:cNvSpPr/>
            <p:nvPr/>
          </p:nvSpPr>
          <p:spPr>
            <a:xfrm>
              <a:off x="719280" y="222120"/>
              <a:ext cx="36360" cy="60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object 81"/>
            <p:cNvSpPr/>
            <p:nvPr/>
          </p:nvSpPr>
          <p:spPr>
            <a:xfrm>
              <a:off x="681120" y="19332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Прямоугольник 84"/>
            <p:cNvSpPr/>
            <p:nvPr/>
          </p:nvSpPr>
          <p:spPr>
            <a:xfrm>
              <a:off x="1104480" y="117360"/>
              <a:ext cx="18662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1a75bd"/>
                  </a:solidFill>
                  <a:latin typeface="Arial Nova Cond"/>
                </a:rPr>
                <a:t>ЭЛЕКТРОННАЯ 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Прямоугольник 85"/>
            <p:cNvSpPr/>
            <p:nvPr/>
          </p:nvSpPr>
          <p:spPr>
            <a:xfrm>
              <a:off x="1108800" y="350640"/>
              <a:ext cx="1557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1a75bd"/>
                  </a:solidFill>
                  <a:latin typeface="Arial Narrow"/>
                </a:rPr>
                <a:t>ТРУДОВАЯ  КНИЖКА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Прямая соединительная линия 4"/>
            <p:cNvSpPr/>
            <p:nvPr/>
          </p:nvSpPr>
          <p:spPr>
            <a:xfrm flipV="1">
              <a:off x="184320" y="648000"/>
              <a:ext cx="2871720" cy="25200"/>
            </a:xfrm>
            <a:prstGeom prst="line">
              <a:avLst/>
            </a:prstGeom>
            <a:ln w="316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9" name="Рисунок 2" descr=""/>
          <p:cNvPicPr/>
          <p:nvPr/>
        </p:nvPicPr>
        <p:blipFill>
          <a:blip r:embed="rId1"/>
          <a:stretch/>
        </p:blipFill>
        <p:spPr>
          <a:xfrm>
            <a:off x="8101080" y="6080040"/>
            <a:ext cx="73656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58" descr=""/>
          <p:cNvPicPr/>
          <p:nvPr/>
        </p:nvPicPr>
        <p:blipFill>
          <a:blip r:embed="rId1"/>
          <a:stretch/>
        </p:blipFill>
        <p:spPr>
          <a:xfrm>
            <a:off x="219240" y="689040"/>
            <a:ext cx="571320" cy="2120760"/>
          </a:xfrm>
          <a:prstGeom prst="rect">
            <a:avLst/>
          </a:prstGeom>
          <a:ln w="0">
            <a:noFill/>
          </a:ln>
        </p:spPr>
      </p:pic>
      <p:grpSp>
        <p:nvGrpSpPr>
          <p:cNvPr id="111" name="TextBox 8"/>
          <p:cNvGrpSpPr/>
          <p:nvPr/>
        </p:nvGrpSpPr>
        <p:grpSpPr>
          <a:xfrm>
            <a:off x="895320" y="1352520"/>
            <a:ext cx="3610080" cy="1293840"/>
            <a:chOff x="895320" y="1352520"/>
            <a:chExt cx="3610080" cy="1293840"/>
          </a:xfrm>
        </p:grpSpPr>
        <p:pic>
          <p:nvPicPr>
            <p:cNvPr id="112" name="TextBox 8" descr=""/>
            <p:cNvPicPr/>
            <p:nvPr/>
          </p:nvPicPr>
          <p:blipFill>
            <a:blip r:embed="rId2"/>
            <a:stretch/>
          </p:blipFill>
          <p:spPr>
            <a:xfrm>
              <a:off x="895320" y="1352520"/>
              <a:ext cx="3610080" cy="12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961920" y="1422360"/>
              <a:ext cx="347508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Минимизация ошибочных, неточных и недостоверных сведений о трудовой деятельност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TextBox 10"/>
          <p:cNvGrpSpPr/>
          <p:nvPr/>
        </p:nvGrpSpPr>
        <p:grpSpPr>
          <a:xfrm>
            <a:off x="176040" y="2895480"/>
            <a:ext cx="4329360" cy="1189080"/>
            <a:chOff x="176040" y="2895480"/>
            <a:chExt cx="4329360" cy="1189080"/>
          </a:xfrm>
        </p:grpSpPr>
        <p:pic>
          <p:nvPicPr>
            <p:cNvPr id="115" name="TextBox 10" descr=""/>
            <p:cNvPicPr/>
            <p:nvPr/>
          </p:nvPicPr>
          <p:blipFill>
            <a:blip r:embed="rId3"/>
            <a:stretch/>
          </p:blipFill>
          <p:spPr>
            <a:xfrm>
              <a:off x="176040" y="2895480"/>
              <a:ext cx="432936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241200" y="2960640"/>
              <a:ext cx="4202280" cy="10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Снижение издерже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на приобретение, ведение и хранение бумажных трудовых книже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TextBox 13"/>
          <p:cNvGrpSpPr/>
          <p:nvPr/>
        </p:nvGrpSpPr>
        <p:grpSpPr>
          <a:xfrm>
            <a:off x="212760" y="4334040"/>
            <a:ext cx="4280040" cy="1182600"/>
            <a:chOff x="212760" y="4334040"/>
            <a:chExt cx="4280040" cy="1182600"/>
          </a:xfrm>
        </p:grpSpPr>
        <p:pic>
          <p:nvPicPr>
            <p:cNvPr id="118" name="TextBox 13" descr=""/>
            <p:cNvPicPr/>
            <p:nvPr/>
          </p:nvPicPr>
          <p:blipFill>
            <a:blip r:embed="rId4"/>
            <a:stretch/>
          </p:blipFill>
          <p:spPr>
            <a:xfrm>
              <a:off x="212760" y="4334040"/>
              <a:ext cx="428004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276120" y="4394160"/>
              <a:ext cx="4156200" cy="10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Новые возможност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аналитической обработки</a:t>
              </a:r>
              <a:r>
                <a:rPr b="0" lang="en-US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данных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о трудовой деятельност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object 5"/>
          <p:cNvSpPr/>
          <p:nvPr/>
        </p:nvSpPr>
        <p:spPr>
          <a:xfrm>
            <a:off x="5680080" y="216000"/>
            <a:ext cx="3463920" cy="612720"/>
          </a:xfrm>
          <a:prstGeom prst="rect">
            <a:avLst/>
          </a:prstGeom>
          <a:solidFill>
            <a:srgbClr val="537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marL="9360" indent="354240"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Yu Gothic UI"/>
              </a:rPr>
              <a:t>Преимущества ЭТ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1"/>
          <p:cNvSpPr/>
          <p:nvPr/>
        </p:nvSpPr>
        <p:spPr>
          <a:xfrm>
            <a:off x="8748720" y="6481800"/>
            <a:ext cx="34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4752-1C40-4116-AB8F-B028999A95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Группа 74"/>
          <p:cNvGrpSpPr/>
          <p:nvPr/>
        </p:nvGrpSpPr>
        <p:grpSpPr>
          <a:xfrm>
            <a:off x="184320" y="117360"/>
            <a:ext cx="2871720" cy="555840"/>
            <a:chOff x="184320" y="117360"/>
            <a:chExt cx="2871720" cy="555840"/>
          </a:xfrm>
        </p:grpSpPr>
        <p:sp>
          <p:nvSpPr>
            <p:cNvPr id="123" name="object 31"/>
            <p:cNvSpPr/>
            <p:nvPr/>
          </p:nvSpPr>
          <p:spPr>
            <a:xfrm>
              <a:off x="212760" y="220320"/>
              <a:ext cx="463320" cy="3859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559435" h="503555">
                  <a:moveTo>
                    <a:pt x="221945" y="93395"/>
                  </a:moveTo>
                  <a:lnTo>
                    <a:pt x="0" y="0"/>
                  </a:lnTo>
                  <a:lnTo>
                    <a:pt x="0" y="377190"/>
                  </a:lnTo>
                  <a:lnTo>
                    <a:pt x="281368" y="503326"/>
                  </a:lnTo>
                  <a:lnTo>
                    <a:pt x="281368" y="120078"/>
                  </a:lnTo>
                  <a:lnTo>
                    <a:pt x="559104" y="0"/>
                  </a:lnTo>
                  <a:lnTo>
                    <a:pt x="559104" y="54203"/>
                  </a:lnTo>
                </a:path>
              </a:pathLst>
            </a:custGeom>
            <a:noFill/>
            <a:ln w="28800">
              <a:solidFill>
                <a:srgbClr val="1b7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object 32"/>
            <p:cNvSpPr/>
            <p:nvPr/>
          </p:nvSpPr>
          <p:spPr>
            <a:xfrm>
              <a:off x="209520" y="147240"/>
              <a:ext cx="414360" cy="12204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467359" h="99695">
                  <a:moveTo>
                    <a:pt x="0" y="2425"/>
                  </a:moveTo>
                  <a:lnTo>
                    <a:pt x="228015" y="99453"/>
                  </a:lnTo>
                  <a:lnTo>
                    <a:pt x="466940" y="0"/>
                  </a:lnTo>
                </a:path>
              </a:pathLst>
            </a:custGeom>
            <a:noFill/>
            <a:ln w="28800">
              <a:solidFill>
                <a:srgbClr val="1b7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object 33"/>
            <p:cNvSpPr/>
            <p:nvPr/>
          </p:nvSpPr>
          <p:spPr>
            <a:xfrm>
              <a:off x="461880" y="57960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object 34"/>
            <p:cNvSpPr/>
            <p:nvPr/>
          </p:nvSpPr>
          <p:spPr>
            <a:xfrm>
              <a:off x="461880" y="53208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object 35"/>
            <p:cNvSpPr/>
            <p:nvPr/>
          </p:nvSpPr>
          <p:spPr>
            <a:xfrm>
              <a:off x="461880" y="48420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object 36"/>
            <p:cNvSpPr/>
            <p:nvPr/>
          </p:nvSpPr>
          <p:spPr>
            <a:xfrm>
              <a:off x="461880" y="43668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object 37"/>
            <p:cNvSpPr/>
            <p:nvPr/>
          </p:nvSpPr>
          <p:spPr>
            <a:xfrm>
              <a:off x="461880" y="38880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object 38"/>
            <p:cNvSpPr/>
            <p:nvPr/>
          </p:nvSpPr>
          <p:spPr>
            <a:xfrm>
              <a:off x="461880" y="3412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object 39"/>
            <p:cNvSpPr/>
            <p:nvPr/>
          </p:nvSpPr>
          <p:spPr>
            <a:xfrm>
              <a:off x="461880" y="29340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object 40"/>
            <p:cNvSpPr/>
            <p:nvPr/>
          </p:nvSpPr>
          <p:spPr>
            <a:xfrm>
              <a:off x="498600" y="56052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object 41"/>
            <p:cNvSpPr/>
            <p:nvPr/>
          </p:nvSpPr>
          <p:spPr>
            <a:xfrm>
              <a:off x="498600" y="5144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object 42"/>
            <p:cNvSpPr/>
            <p:nvPr/>
          </p:nvSpPr>
          <p:spPr>
            <a:xfrm>
              <a:off x="498600" y="46692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object 43"/>
            <p:cNvSpPr/>
            <p:nvPr/>
          </p:nvSpPr>
          <p:spPr>
            <a:xfrm>
              <a:off x="498600" y="42084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object 44"/>
            <p:cNvSpPr/>
            <p:nvPr/>
          </p:nvSpPr>
          <p:spPr>
            <a:xfrm>
              <a:off x="498600" y="37296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object 45"/>
            <p:cNvSpPr/>
            <p:nvPr/>
          </p:nvSpPr>
          <p:spPr>
            <a:xfrm>
              <a:off x="498600" y="32544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object 46"/>
            <p:cNvSpPr/>
            <p:nvPr/>
          </p:nvSpPr>
          <p:spPr>
            <a:xfrm>
              <a:off x="498600" y="27756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object 47"/>
            <p:cNvSpPr/>
            <p:nvPr/>
          </p:nvSpPr>
          <p:spPr>
            <a:xfrm>
              <a:off x="804960" y="4190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object 48"/>
            <p:cNvSpPr/>
            <p:nvPr/>
          </p:nvSpPr>
          <p:spPr>
            <a:xfrm>
              <a:off x="534960" y="49716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object 49"/>
            <p:cNvSpPr/>
            <p:nvPr/>
          </p:nvSpPr>
          <p:spPr>
            <a:xfrm>
              <a:off x="534960" y="4492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object 50"/>
            <p:cNvSpPr/>
            <p:nvPr/>
          </p:nvSpPr>
          <p:spPr>
            <a:xfrm>
              <a:off x="534960" y="40176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object 51"/>
            <p:cNvSpPr/>
            <p:nvPr/>
          </p:nvSpPr>
          <p:spPr>
            <a:xfrm>
              <a:off x="534960" y="3556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object 53"/>
            <p:cNvSpPr/>
            <p:nvPr/>
          </p:nvSpPr>
          <p:spPr>
            <a:xfrm>
              <a:off x="534960" y="2602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object 54"/>
            <p:cNvSpPr/>
            <p:nvPr/>
          </p:nvSpPr>
          <p:spPr>
            <a:xfrm>
              <a:off x="571680" y="52704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object 55"/>
            <p:cNvSpPr/>
            <p:nvPr/>
          </p:nvSpPr>
          <p:spPr>
            <a:xfrm>
              <a:off x="571680" y="47952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object 56"/>
            <p:cNvSpPr/>
            <p:nvPr/>
          </p:nvSpPr>
          <p:spPr>
            <a:xfrm>
              <a:off x="571680" y="43200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object 57"/>
            <p:cNvSpPr/>
            <p:nvPr/>
          </p:nvSpPr>
          <p:spPr>
            <a:xfrm>
              <a:off x="773280" y="291960"/>
              <a:ext cx="33120" cy="61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object 58"/>
            <p:cNvSpPr/>
            <p:nvPr/>
          </p:nvSpPr>
          <p:spPr>
            <a:xfrm>
              <a:off x="571680" y="3380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object 59"/>
            <p:cNvSpPr/>
            <p:nvPr/>
          </p:nvSpPr>
          <p:spPr>
            <a:xfrm>
              <a:off x="571680" y="29052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object 60"/>
            <p:cNvSpPr/>
            <p:nvPr/>
          </p:nvSpPr>
          <p:spPr>
            <a:xfrm>
              <a:off x="571680" y="2426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object 61"/>
            <p:cNvSpPr/>
            <p:nvPr/>
          </p:nvSpPr>
          <p:spPr>
            <a:xfrm>
              <a:off x="731880" y="45252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object 62"/>
            <p:cNvSpPr/>
            <p:nvPr/>
          </p:nvSpPr>
          <p:spPr>
            <a:xfrm>
              <a:off x="608040" y="463680"/>
              <a:ext cx="36360" cy="60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object 63"/>
            <p:cNvSpPr/>
            <p:nvPr/>
          </p:nvSpPr>
          <p:spPr>
            <a:xfrm>
              <a:off x="608040" y="415800"/>
              <a:ext cx="36360" cy="60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object 64"/>
            <p:cNvSpPr/>
            <p:nvPr/>
          </p:nvSpPr>
          <p:spPr>
            <a:xfrm>
              <a:off x="608040" y="368280"/>
              <a:ext cx="36360" cy="619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object 65"/>
            <p:cNvSpPr/>
            <p:nvPr/>
          </p:nvSpPr>
          <p:spPr>
            <a:xfrm>
              <a:off x="839880" y="215640"/>
              <a:ext cx="33120" cy="586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object 66"/>
            <p:cNvSpPr/>
            <p:nvPr/>
          </p:nvSpPr>
          <p:spPr>
            <a:xfrm>
              <a:off x="608040" y="272880"/>
              <a:ext cx="36360" cy="619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object 67"/>
            <p:cNvSpPr/>
            <p:nvPr/>
          </p:nvSpPr>
          <p:spPr>
            <a:xfrm>
              <a:off x="608040" y="226800"/>
              <a:ext cx="36360" cy="60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object 68"/>
            <p:cNvSpPr/>
            <p:nvPr/>
          </p:nvSpPr>
          <p:spPr>
            <a:xfrm>
              <a:off x="644400" y="49392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object 69"/>
            <p:cNvSpPr/>
            <p:nvPr/>
          </p:nvSpPr>
          <p:spPr>
            <a:xfrm>
              <a:off x="644400" y="4460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object 70"/>
            <p:cNvSpPr/>
            <p:nvPr/>
          </p:nvSpPr>
          <p:spPr>
            <a:xfrm>
              <a:off x="723960" y="363600"/>
              <a:ext cx="33120" cy="586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object 71"/>
            <p:cNvSpPr/>
            <p:nvPr/>
          </p:nvSpPr>
          <p:spPr>
            <a:xfrm>
              <a:off x="644400" y="35244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object 72"/>
            <p:cNvSpPr/>
            <p:nvPr/>
          </p:nvSpPr>
          <p:spPr>
            <a:xfrm>
              <a:off x="720720" y="26964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object 73"/>
            <p:cNvSpPr/>
            <p:nvPr/>
          </p:nvSpPr>
          <p:spPr>
            <a:xfrm>
              <a:off x="781200" y="19332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object 74"/>
            <p:cNvSpPr/>
            <p:nvPr/>
          </p:nvSpPr>
          <p:spPr>
            <a:xfrm>
              <a:off x="749520" y="16020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bject 75"/>
            <p:cNvSpPr/>
            <p:nvPr/>
          </p:nvSpPr>
          <p:spPr>
            <a:xfrm>
              <a:off x="681120" y="47808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bject 76"/>
            <p:cNvSpPr/>
            <p:nvPr/>
          </p:nvSpPr>
          <p:spPr>
            <a:xfrm>
              <a:off x="762120" y="393840"/>
              <a:ext cx="33120" cy="586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object 77"/>
            <p:cNvSpPr/>
            <p:nvPr/>
          </p:nvSpPr>
          <p:spPr>
            <a:xfrm>
              <a:off x="681120" y="38268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bject 78"/>
            <p:cNvSpPr/>
            <p:nvPr/>
          </p:nvSpPr>
          <p:spPr>
            <a:xfrm>
              <a:off x="681120" y="33480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bject 79"/>
            <p:cNvSpPr/>
            <p:nvPr/>
          </p:nvSpPr>
          <p:spPr>
            <a:xfrm>
              <a:off x="681120" y="2872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object 80"/>
            <p:cNvSpPr/>
            <p:nvPr/>
          </p:nvSpPr>
          <p:spPr>
            <a:xfrm>
              <a:off x="719280" y="222120"/>
              <a:ext cx="36360" cy="60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object 81"/>
            <p:cNvSpPr/>
            <p:nvPr/>
          </p:nvSpPr>
          <p:spPr>
            <a:xfrm>
              <a:off x="681120" y="19332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Прямоугольник 125"/>
            <p:cNvSpPr/>
            <p:nvPr/>
          </p:nvSpPr>
          <p:spPr>
            <a:xfrm>
              <a:off x="1104480" y="117360"/>
              <a:ext cx="18662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1a75bd"/>
                  </a:solidFill>
                  <a:latin typeface="Arial Nova Cond"/>
                </a:rPr>
                <a:t>ЭЛЕКТРОННАЯ 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Прямоугольник 126"/>
            <p:cNvSpPr/>
            <p:nvPr/>
          </p:nvSpPr>
          <p:spPr>
            <a:xfrm>
              <a:off x="1108800" y="350640"/>
              <a:ext cx="1557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1a75bd"/>
                  </a:solidFill>
                  <a:latin typeface="Arial Narrow"/>
                </a:rPr>
                <a:t>ТРУДОВАЯ  КНИЖКА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Прямая соединительная линия 127"/>
            <p:cNvSpPr/>
            <p:nvPr/>
          </p:nvSpPr>
          <p:spPr>
            <a:xfrm flipV="1">
              <a:off x="184320" y="648000"/>
              <a:ext cx="2871720" cy="25200"/>
            </a:xfrm>
            <a:prstGeom prst="line">
              <a:avLst/>
            </a:prstGeom>
            <a:ln w="316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6" name="Рисунок 128" descr=""/>
          <p:cNvPicPr/>
          <p:nvPr/>
        </p:nvPicPr>
        <p:blipFill>
          <a:blip r:embed="rId5"/>
          <a:stretch/>
        </p:blipFill>
        <p:spPr>
          <a:xfrm>
            <a:off x="8101080" y="6080040"/>
            <a:ext cx="736560" cy="7588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5" descr=""/>
          <p:cNvPicPr/>
          <p:nvPr/>
        </p:nvPicPr>
        <p:blipFill>
          <a:blip r:embed="rId6"/>
          <a:stretch/>
        </p:blipFill>
        <p:spPr>
          <a:xfrm>
            <a:off x="3532320" y="1811160"/>
            <a:ext cx="691920" cy="73692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ая соединительная линия 129"/>
          <p:cNvSpPr/>
          <p:nvPr/>
        </p:nvSpPr>
        <p:spPr>
          <a:xfrm flipH="1" flipV="1">
            <a:off x="3564000" y="1844640"/>
            <a:ext cx="619200" cy="62568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ямая соединительная линия 131"/>
          <p:cNvSpPr/>
          <p:nvPr/>
        </p:nvSpPr>
        <p:spPr>
          <a:xfrm flipH="1">
            <a:off x="3564000" y="1844640"/>
            <a:ext cx="619200" cy="62568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36"/>
          <p:cNvSpPr/>
          <p:nvPr/>
        </p:nvSpPr>
        <p:spPr>
          <a:xfrm>
            <a:off x="928800" y="787320"/>
            <a:ext cx="30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Для работодат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Рисунок 137" descr=""/>
          <p:cNvPicPr/>
          <p:nvPr/>
        </p:nvPicPr>
        <p:blipFill>
          <a:blip r:embed="rId7"/>
          <a:stretch/>
        </p:blipFill>
        <p:spPr>
          <a:xfrm>
            <a:off x="3495600" y="3246480"/>
            <a:ext cx="765360" cy="74772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140" descr=""/>
          <p:cNvPicPr/>
          <p:nvPr/>
        </p:nvPicPr>
        <p:blipFill>
          <a:blip r:embed="rId8"/>
          <a:stretch/>
        </p:blipFill>
        <p:spPr>
          <a:xfrm>
            <a:off x="3430440" y="4740120"/>
            <a:ext cx="895320" cy="77004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141" descr=""/>
          <p:cNvPicPr/>
          <p:nvPr/>
        </p:nvPicPr>
        <p:blipFill>
          <a:blip r:embed="rId9"/>
          <a:stretch/>
        </p:blipFill>
        <p:spPr>
          <a:xfrm>
            <a:off x="7726320" y="1168560"/>
            <a:ext cx="1309680" cy="1645920"/>
          </a:xfrm>
          <a:prstGeom prst="rect">
            <a:avLst/>
          </a:prstGeom>
          <a:ln w="0">
            <a:noFill/>
          </a:ln>
        </p:spPr>
      </p:pic>
      <p:grpSp>
        <p:nvGrpSpPr>
          <p:cNvPr id="184" name="TextBox 142"/>
          <p:cNvGrpSpPr/>
          <p:nvPr/>
        </p:nvGrpSpPr>
        <p:grpSpPr>
          <a:xfrm>
            <a:off x="4968720" y="1335240"/>
            <a:ext cx="2767320" cy="1311120"/>
            <a:chOff x="4968720" y="1335240"/>
            <a:chExt cx="2767320" cy="1311120"/>
          </a:xfrm>
        </p:grpSpPr>
        <p:pic>
          <p:nvPicPr>
            <p:cNvPr id="185" name="TextBox 142" descr=""/>
            <p:cNvPicPr/>
            <p:nvPr/>
          </p:nvPicPr>
          <p:blipFill>
            <a:blip r:embed="rId10"/>
            <a:stretch/>
          </p:blipFill>
          <p:spPr>
            <a:xfrm>
              <a:off x="4968720" y="1335240"/>
              <a:ext cx="276732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5038560" y="1401840"/>
              <a:ext cx="2625840" cy="11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Минимизация ошибочных, неточных и недостоверных сведений о трудовой деятельност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7" name="Рисунок 145" descr=""/>
          <p:cNvPicPr/>
          <p:nvPr/>
        </p:nvPicPr>
        <p:blipFill>
          <a:blip r:embed="rId11"/>
          <a:stretch/>
        </p:blipFill>
        <p:spPr>
          <a:xfrm>
            <a:off x="6853320" y="1987560"/>
            <a:ext cx="696960" cy="573120"/>
          </a:xfrm>
          <a:prstGeom prst="rect">
            <a:avLst/>
          </a:prstGeom>
          <a:ln w="0">
            <a:noFill/>
          </a:ln>
        </p:spPr>
      </p:pic>
      <p:grpSp>
        <p:nvGrpSpPr>
          <p:cNvPr id="188" name="TextBox 146"/>
          <p:cNvGrpSpPr/>
          <p:nvPr/>
        </p:nvGrpSpPr>
        <p:grpSpPr>
          <a:xfrm>
            <a:off x="4932360" y="2773440"/>
            <a:ext cx="4078440" cy="1085760"/>
            <a:chOff x="4932360" y="2773440"/>
            <a:chExt cx="4078440" cy="1085760"/>
          </a:xfrm>
        </p:grpSpPr>
        <p:pic>
          <p:nvPicPr>
            <p:cNvPr id="189" name="TextBox 146" descr=""/>
            <p:cNvPicPr/>
            <p:nvPr/>
          </p:nvPicPr>
          <p:blipFill>
            <a:blip r:embed="rId12"/>
            <a:stretch/>
          </p:blipFill>
          <p:spPr>
            <a:xfrm>
              <a:off x="4932360" y="2773440"/>
              <a:ext cx="407844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4989600" y="2833560"/>
              <a:ext cx="396072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Удобный и быстры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Доступ к информаци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о трудовой деятельност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1" name="Рисунок 149" descr=""/>
          <p:cNvPicPr/>
          <p:nvPr/>
        </p:nvPicPr>
        <p:blipFill>
          <a:blip r:embed="rId13"/>
          <a:stretch/>
        </p:blipFill>
        <p:spPr>
          <a:xfrm>
            <a:off x="7980480" y="2824200"/>
            <a:ext cx="984240" cy="1008000"/>
          </a:xfrm>
          <a:prstGeom prst="rect">
            <a:avLst/>
          </a:prstGeom>
          <a:ln w="0">
            <a:noFill/>
          </a:ln>
        </p:spPr>
      </p:pic>
      <p:grpSp>
        <p:nvGrpSpPr>
          <p:cNvPr id="192" name="TextBox 150"/>
          <p:cNvGrpSpPr/>
          <p:nvPr/>
        </p:nvGrpSpPr>
        <p:grpSpPr>
          <a:xfrm>
            <a:off x="4932360" y="3925800"/>
            <a:ext cx="4078440" cy="920880"/>
            <a:chOff x="4932360" y="3925800"/>
            <a:chExt cx="4078440" cy="920880"/>
          </a:xfrm>
        </p:grpSpPr>
        <p:pic>
          <p:nvPicPr>
            <p:cNvPr id="193" name="TextBox 150" descr=""/>
            <p:cNvPicPr/>
            <p:nvPr/>
          </p:nvPicPr>
          <p:blipFill>
            <a:blip r:embed="rId14"/>
            <a:stretch/>
          </p:blipFill>
          <p:spPr>
            <a:xfrm>
              <a:off x="4932360" y="3925800"/>
              <a:ext cx="40784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4981680" y="3976560"/>
              <a:ext cx="397656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Дополнительные возможности дистанционного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трудоустройств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5" name="Рисунок 153" descr=""/>
          <p:cNvPicPr/>
          <p:nvPr/>
        </p:nvPicPr>
        <p:blipFill>
          <a:blip r:embed="rId15"/>
          <a:stretch/>
        </p:blipFill>
        <p:spPr>
          <a:xfrm>
            <a:off x="8078760" y="3933720"/>
            <a:ext cx="885960" cy="885960"/>
          </a:xfrm>
          <a:prstGeom prst="rect">
            <a:avLst/>
          </a:prstGeom>
          <a:ln w="0">
            <a:noFill/>
          </a:ln>
        </p:spPr>
      </p:pic>
      <p:grpSp>
        <p:nvGrpSpPr>
          <p:cNvPr id="196" name="TextBox 154"/>
          <p:cNvGrpSpPr/>
          <p:nvPr/>
        </p:nvGrpSpPr>
        <p:grpSpPr>
          <a:xfrm>
            <a:off x="4932360" y="4937040"/>
            <a:ext cx="4078440" cy="963720"/>
            <a:chOff x="4932360" y="4937040"/>
            <a:chExt cx="4078440" cy="963720"/>
          </a:xfrm>
        </p:grpSpPr>
        <p:pic>
          <p:nvPicPr>
            <p:cNvPr id="197" name="TextBox 154" descr=""/>
            <p:cNvPicPr/>
            <p:nvPr/>
          </p:nvPicPr>
          <p:blipFill>
            <a:blip r:embed="rId16"/>
            <a:stretch/>
          </p:blipFill>
          <p:spPr>
            <a:xfrm>
              <a:off x="4932360" y="4937040"/>
              <a:ext cx="40784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4983120" y="4987800"/>
              <a:ext cx="3973680" cy="8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Использование данных электронной трудовой книжки для получения государственных услуг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9" name="Рисунок 155" descr=""/>
          <p:cNvPicPr/>
          <p:nvPr/>
        </p:nvPicPr>
        <p:blipFill>
          <a:blip r:embed="rId17"/>
          <a:stretch/>
        </p:blipFill>
        <p:spPr>
          <a:xfrm>
            <a:off x="8143920" y="5013360"/>
            <a:ext cx="820800" cy="88272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56"/>
          <p:cNvSpPr/>
          <p:nvPr/>
        </p:nvSpPr>
        <p:spPr>
          <a:xfrm>
            <a:off x="4941720" y="787320"/>
            <a:ext cx="30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Для работн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object 8"/>
          <p:cNvSpPr/>
          <p:nvPr/>
        </p:nvSpPr>
        <p:spPr>
          <a:xfrm>
            <a:off x="2340000" y="4292640"/>
            <a:ext cx="3425760" cy="113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object 8"/>
          <p:cNvSpPr/>
          <p:nvPr/>
        </p:nvSpPr>
        <p:spPr>
          <a:xfrm>
            <a:off x="2370240" y="3373560"/>
            <a:ext cx="3425760" cy="1135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5" name="Группа 1023"/>
          <p:cNvGrpSpPr/>
          <p:nvPr/>
        </p:nvGrpSpPr>
        <p:grpSpPr>
          <a:xfrm>
            <a:off x="6450840" y="1981080"/>
            <a:ext cx="2277360" cy="2309760"/>
            <a:chOff x="6450840" y="1981080"/>
            <a:chExt cx="2277360" cy="2309760"/>
          </a:xfrm>
        </p:grpSpPr>
        <p:grpSp>
          <p:nvGrpSpPr>
            <p:cNvPr id="206" name="Группа 2"/>
            <p:cNvGrpSpPr/>
            <p:nvPr/>
          </p:nvGrpSpPr>
          <p:grpSpPr>
            <a:xfrm>
              <a:off x="6450840" y="1981080"/>
              <a:ext cx="2277360" cy="1587240"/>
              <a:chOff x="6450840" y="1981080"/>
              <a:chExt cx="2277360" cy="1587240"/>
            </a:xfrm>
          </p:grpSpPr>
          <p:sp>
            <p:nvSpPr>
              <p:cNvPr id="207" name="object 31"/>
              <p:cNvSpPr/>
              <p:nvPr/>
            </p:nvSpPr>
            <p:spPr>
              <a:xfrm>
                <a:off x="6450840" y="2089800"/>
                <a:ext cx="1568160" cy="1329120"/>
              </a:xfrm>
              <a:custGeom>
                <a:avLst/>
                <a:gdLst>
                  <a:gd name="textAreaLeft" fmla="*/ 0 w 1568160"/>
                  <a:gd name="textAreaRight" fmla="*/ 1568520 w 1568160"/>
                  <a:gd name="textAreaTop" fmla="*/ 0 h 1329120"/>
                  <a:gd name="textAreaBottom" fmla="*/ 1329480 h 1329120"/>
                </a:gdLst>
                <a:ahLst/>
                <a:rect l="textAreaLeft" t="textAreaTop" r="textAreaRight" b="textAreaBottom"/>
                <a:pathLst>
                  <a:path w="559435" h="503555">
                    <a:moveTo>
                      <a:pt x="221945" y="93395"/>
                    </a:moveTo>
                    <a:lnTo>
                      <a:pt x="0" y="0"/>
                    </a:lnTo>
                    <a:lnTo>
                      <a:pt x="0" y="377190"/>
                    </a:lnTo>
                    <a:lnTo>
                      <a:pt x="281368" y="503326"/>
                    </a:lnTo>
                    <a:lnTo>
                      <a:pt x="281368" y="120078"/>
                    </a:lnTo>
                    <a:lnTo>
                      <a:pt x="559104" y="0"/>
                    </a:lnTo>
                    <a:lnTo>
                      <a:pt x="559104" y="54203"/>
                    </a:lnTo>
                  </a:path>
                </a:pathLst>
              </a:custGeom>
              <a:noFill/>
              <a:ln w="28800">
                <a:solidFill>
                  <a:srgbClr val="1b75b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object 32"/>
              <p:cNvSpPr/>
              <p:nvPr/>
            </p:nvSpPr>
            <p:spPr>
              <a:xfrm>
                <a:off x="6593400" y="1981080"/>
                <a:ext cx="1310040" cy="263160"/>
              </a:xfrm>
              <a:custGeom>
                <a:avLst/>
                <a:gdLst>
                  <a:gd name="textAreaLeft" fmla="*/ 0 w 1310040"/>
                  <a:gd name="textAreaRight" fmla="*/ 1310400 w 131004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467359" h="99695">
                    <a:moveTo>
                      <a:pt x="0" y="2425"/>
                    </a:moveTo>
                    <a:lnTo>
                      <a:pt x="228015" y="99453"/>
                    </a:lnTo>
                    <a:lnTo>
                      <a:pt x="466940" y="0"/>
                    </a:lnTo>
                  </a:path>
                </a:pathLst>
              </a:custGeom>
              <a:noFill/>
              <a:ln w="28800">
                <a:solidFill>
                  <a:srgbClr val="1b75b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object 33"/>
              <p:cNvSpPr/>
              <p:nvPr/>
            </p:nvSpPr>
            <p:spPr>
              <a:xfrm>
                <a:off x="7380360" y="338256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89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89" y="51612"/>
                    </a:lnTo>
                    <a:lnTo>
                      <a:pt x="40589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object 34"/>
              <p:cNvSpPr/>
              <p:nvPr/>
            </p:nvSpPr>
            <p:spPr>
              <a:xfrm>
                <a:off x="7380360" y="323640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89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89" y="51612"/>
                    </a:lnTo>
                    <a:lnTo>
                      <a:pt x="40589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object 35"/>
              <p:cNvSpPr/>
              <p:nvPr/>
            </p:nvSpPr>
            <p:spPr>
              <a:xfrm>
                <a:off x="7380360" y="309024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89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89" y="51612"/>
                    </a:lnTo>
                    <a:lnTo>
                      <a:pt x="40589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object 36"/>
              <p:cNvSpPr/>
              <p:nvPr/>
            </p:nvSpPr>
            <p:spPr>
              <a:xfrm>
                <a:off x="7380360" y="294408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89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89" y="51612"/>
                    </a:lnTo>
                    <a:lnTo>
                      <a:pt x="40589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object 37"/>
              <p:cNvSpPr/>
              <p:nvPr/>
            </p:nvSpPr>
            <p:spPr>
              <a:xfrm>
                <a:off x="7380360" y="279792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89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89" y="51612"/>
                    </a:lnTo>
                    <a:lnTo>
                      <a:pt x="40589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object 38"/>
              <p:cNvSpPr/>
              <p:nvPr/>
            </p:nvSpPr>
            <p:spPr>
              <a:xfrm>
                <a:off x="7380360" y="265176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89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89" y="51612"/>
                    </a:lnTo>
                    <a:lnTo>
                      <a:pt x="40589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" name="object 39"/>
              <p:cNvSpPr/>
              <p:nvPr/>
            </p:nvSpPr>
            <p:spPr>
              <a:xfrm>
                <a:off x="7380360" y="250596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89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89" y="51612"/>
                    </a:lnTo>
                    <a:lnTo>
                      <a:pt x="40589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object 40"/>
              <p:cNvSpPr/>
              <p:nvPr/>
            </p:nvSpPr>
            <p:spPr>
              <a:xfrm>
                <a:off x="7500240" y="333000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76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76" y="51612"/>
                    </a:lnTo>
                    <a:lnTo>
                      <a:pt x="40576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object 41"/>
              <p:cNvSpPr/>
              <p:nvPr/>
            </p:nvSpPr>
            <p:spPr>
              <a:xfrm>
                <a:off x="7500240" y="318420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76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76" y="51612"/>
                    </a:lnTo>
                    <a:lnTo>
                      <a:pt x="40576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object 42"/>
              <p:cNvSpPr/>
              <p:nvPr/>
            </p:nvSpPr>
            <p:spPr>
              <a:xfrm>
                <a:off x="7500240" y="303804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76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76" y="51612"/>
                    </a:lnTo>
                    <a:lnTo>
                      <a:pt x="40576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object 43"/>
              <p:cNvSpPr/>
              <p:nvPr/>
            </p:nvSpPr>
            <p:spPr>
              <a:xfrm>
                <a:off x="7500240" y="289188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76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76" y="51612"/>
                    </a:lnTo>
                    <a:lnTo>
                      <a:pt x="40576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object 44"/>
              <p:cNvSpPr/>
              <p:nvPr/>
            </p:nvSpPr>
            <p:spPr>
              <a:xfrm>
                <a:off x="7500240" y="274572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76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76" y="51612"/>
                    </a:lnTo>
                    <a:lnTo>
                      <a:pt x="40576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object 45"/>
              <p:cNvSpPr/>
              <p:nvPr/>
            </p:nvSpPr>
            <p:spPr>
              <a:xfrm>
                <a:off x="7500240" y="259956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76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76" y="51612"/>
                    </a:lnTo>
                    <a:lnTo>
                      <a:pt x="40576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object 46"/>
              <p:cNvSpPr/>
              <p:nvPr/>
            </p:nvSpPr>
            <p:spPr>
              <a:xfrm>
                <a:off x="7500240" y="245340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76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76" y="51612"/>
                    </a:lnTo>
                    <a:lnTo>
                      <a:pt x="40576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" name="object 47"/>
              <p:cNvSpPr/>
              <p:nvPr/>
            </p:nvSpPr>
            <p:spPr>
              <a:xfrm>
                <a:off x="8506440" y="289116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76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76" y="51612"/>
                    </a:lnTo>
                    <a:lnTo>
                      <a:pt x="40576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object 48"/>
              <p:cNvSpPr/>
              <p:nvPr/>
            </p:nvSpPr>
            <p:spPr>
              <a:xfrm>
                <a:off x="7620120" y="313164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89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89" y="51612"/>
                    </a:lnTo>
                    <a:lnTo>
                      <a:pt x="40589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object 49"/>
              <p:cNvSpPr/>
              <p:nvPr/>
            </p:nvSpPr>
            <p:spPr>
              <a:xfrm>
                <a:off x="7620120" y="298548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89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89" y="51612"/>
                    </a:lnTo>
                    <a:lnTo>
                      <a:pt x="40589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object 50"/>
              <p:cNvSpPr/>
              <p:nvPr/>
            </p:nvSpPr>
            <p:spPr>
              <a:xfrm>
                <a:off x="7620120" y="283968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89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89" y="51612"/>
                    </a:lnTo>
                    <a:lnTo>
                      <a:pt x="40589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object 51"/>
              <p:cNvSpPr/>
              <p:nvPr/>
            </p:nvSpPr>
            <p:spPr>
              <a:xfrm>
                <a:off x="7620120" y="269352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89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89" y="51612"/>
                    </a:lnTo>
                    <a:lnTo>
                      <a:pt x="40589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object 53"/>
              <p:cNvSpPr/>
              <p:nvPr/>
            </p:nvSpPr>
            <p:spPr>
              <a:xfrm>
                <a:off x="7620120" y="240120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89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89" y="51612"/>
                    </a:lnTo>
                    <a:lnTo>
                      <a:pt x="40589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object 54"/>
              <p:cNvSpPr/>
              <p:nvPr/>
            </p:nvSpPr>
            <p:spPr>
              <a:xfrm>
                <a:off x="7739640" y="322560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89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89" y="51612"/>
                    </a:lnTo>
                    <a:lnTo>
                      <a:pt x="40589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object 55"/>
              <p:cNvSpPr/>
              <p:nvPr/>
            </p:nvSpPr>
            <p:spPr>
              <a:xfrm>
                <a:off x="7739640" y="307944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89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89" y="51612"/>
                    </a:lnTo>
                    <a:lnTo>
                      <a:pt x="40589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object 56"/>
              <p:cNvSpPr/>
              <p:nvPr/>
            </p:nvSpPr>
            <p:spPr>
              <a:xfrm>
                <a:off x="7739640" y="293328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89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89" y="51612"/>
                    </a:lnTo>
                    <a:lnTo>
                      <a:pt x="40589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object 57"/>
              <p:cNvSpPr/>
              <p:nvPr/>
            </p:nvSpPr>
            <p:spPr>
              <a:xfrm>
                <a:off x="8396640" y="250056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89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89" y="51612"/>
                    </a:lnTo>
                    <a:lnTo>
                      <a:pt x="40589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object 58"/>
              <p:cNvSpPr/>
              <p:nvPr/>
            </p:nvSpPr>
            <p:spPr>
              <a:xfrm>
                <a:off x="7739640" y="264096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89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89" y="51612"/>
                    </a:lnTo>
                    <a:lnTo>
                      <a:pt x="40589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object 59"/>
              <p:cNvSpPr/>
              <p:nvPr/>
            </p:nvSpPr>
            <p:spPr>
              <a:xfrm>
                <a:off x="7739640" y="249516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89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89" y="51612"/>
                    </a:lnTo>
                    <a:lnTo>
                      <a:pt x="40589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object 60"/>
              <p:cNvSpPr/>
              <p:nvPr/>
            </p:nvSpPr>
            <p:spPr>
              <a:xfrm>
                <a:off x="7739640" y="234900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89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89" y="51612"/>
                    </a:lnTo>
                    <a:lnTo>
                      <a:pt x="40589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object 61"/>
              <p:cNvSpPr/>
              <p:nvPr/>
            </p:nvSpPr>
            <p:spPr>
              <a:xfrm>
                <a:off x="8266680" y="299556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89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89" y="51612"/>
                    </a:lnTo>
                    <a:lnTo>
                      <a:pt x="40589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object 62"/>
              <p:cNvSpPr/>
              <p:nvPr/>
            </p:nvSpPr>
            <p:spPr>
              <a:xfrm>
                <a:off x="7859520" y="302724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76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76" y="51612"/>
                    </a:lnTo>
                    <a:lnTo>
                      <a:pt x="40576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object 63"/>
              <p:cNvSpPr/>
              <p:nvPr/>
            </p:nvSpPr>
            <p:spPr>
              <a:xfrm>
                <a:off x="7859520" y="288108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76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76" y="51612"/>
                    </a:lnTo>
                    <a:lnTo>
                      <a:pt x="40576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" name="object 64"/>
              <p:cNvSpPr/>
              <p:nvPr/>
            </p:nvSpPr>
            <p:spPr>
              <a:xfrm>
                <a:off x="7859520" y="273492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76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76" y="51612"/>
                    </a:lnTo>
                    <a:lnTo>
                      <a:pt x="40576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object 65"/>
              <p:cNvSpPr/>
              <p:nvPr/>
            </p:nvSpPr>
            <p:spPr>
              <a:xfrm>
                <a:off x="8614440" y="225936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89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89" y="51612"/>
                    </a:lnTo>
                    <a:lnTo>
                      <a:pt x="40589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object 66"/>
              <p:cNvSpPr/>
              <p:nvPr/>
            </p:nvSpPr>
            <p:spPr>
              <a:xfrm>
                <a:off x="7859520" y="244260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76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76" y="51612"/>
                    </a:lnTo>
                    <a:lnTo>
                      <a:pt x="40576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" name="object 67"/>
              <p:cNvSpPr/>
              <p:nvPr/>
            </p:nvSpPr>
            <p:spPr>
              <a:xfrm>
                <a:off x="7859520" y="229644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76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76" y="51612"/>
                    </a:lnTo>
                    <a:lnTo>
                      <a:pt x="40576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" name="object 68"/>
              <p:cNvSpPr/>
              <p:nvPr/>
            </p:nvSpPr>
            <p:spPr>
              <a:xfrm>
                <a:off x="7979400" y="312084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89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89" y="51612"/>
                    </a:lnTo>
                    <a:lnTo>
                      <a:pt x="40589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object 69"/>
              <p:cNvSpPr/>
              <p:nvPr/>
            </p:nvSpPr>
            <p:spPr>
              <a:xfrm>
                <a:off x="7979400" y="297468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89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89" y="51612"/>
                    </a:lnTo>
                    <a:lnTo>
                      <a:pt x="40589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object 70"/>
              <p:cNvSpPr/>
              <p:nvPr/>
            </p:nvSpPr>
            <p:spPr>
              <a:xfrm>
                <a:off x="8236080" y="271656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89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89" y="51612"/>
                    </a:lnTo>
                    <a:lnTo>
                      <a:pt x="40589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object 71"/>
              <p:cNvSpPr/>
              <p:nvPr/>
            </p:nvSpPr>
            <p:spPr>
              <a:xfrm>
                <a:off x="7979400" y="268272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89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89" y="51612"/>
                    </a:lnTo>
                    <a:lnTo>
                      <a:pt x="40589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" name="object 72"/>
              <p:cNvSpPr/>
              <p:nvPr/>
            </p:nvSpPr>
            <p:spPr>
              <a:xfrm>
                <a:off x="8231400" y="242676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76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76" y="51612"/>
                    </a:lnTo>
                    <a:lnTo>
                      <a:pt x="40576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object 73"/>
              <p:cNvSpPr/>
              <p:nvPr/>
            </p:nvSpPr>
            <p:spPr>
              <a:xfrm>
                <a:off x="8425440" y="219564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76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76" y="51612"/>
                    </a:lnTo>
                    <a:lnTo>
                      <a:pt x="40576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" name="object 74"/>
              <p:cNvSpPr/>
              <p:nvPr/>
            </p:nvSpPr>
            <p:spPr>
              <a:xfrm>
                <a:off x="8323920" y="209412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76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76" y="51612"/>
                    </a:lnTo>
                    <a:lnTo>
                      <a:pt x="40576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object 75"/>
              <p:cNvSpPr/>
              <p:nvPr/>
            </p:nvSpPr>
            <p:spPr>
              <a:xfrm>
                <a:off x="8099280" y="306864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89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89" y="51612"/>
                    </a:lnTo>
                    <a:lnTo>
                      <a:pt x="40589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object 76"/>
              <p:cNvSpPr/>
              <p:nvPr/>
            </p:nvSpPr>
            <p:spPr>
              <a:xfrm>
                <a:off x="8361000" y="280836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89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89" y="51612"/>
                    </a:lnTo>
                    <a:lnTo>
                      <a:pt x="40589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object 77"/>
              <p:cNvSpPr/>
              <p:nvPr/>
            </p:nvSpPr>
            <p:spPr>
              <a:xfrm>
                <a:off x="8099280" y="277632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89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89" y="51612"/>
                    </a:lnTo>
                    <a:lnTo>
                      <a:pt x="40589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object 78"/>
              <p:cNvSpPr/>
              <p:nvPr/>
            </p:nvSpPr>
            <p:spPr>
              <a:xfrm>
                <a:off x="8099280" y="263016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89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89" y="51612"/>
                    </a:lnTo>
                    <a:lnTo>
                      <a:pt x="40589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object 79"/>
              <p:cNvSpPr/>
              <p:nvPr/>
            </p:nvSpPr>
            <p:spPr>
              <a:xfrm>
                <a:off x="8099280" y="248436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89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89" y="51612"/>
                    </a:lnTo>
                    <a:lnTo>
                      <a:pt x="40589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object 80"/>
              <p:cNvSpPr/>
              <p:nvPr/>
            </p:nvSpPr>
            <p:spPr>
              <a:xfrm>
                <a:off x="8225280" y="228312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76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76" y="51612"/>
                    </a:lnTo>
                    <a:lnTo>
                      <a:pt x="40576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object 81"/>
              <p:cNvSpPr/>
              <p:nvPr/>
            </p:nvSpPr>
            <p:spPr>
              <a:xfrm>
                <a:off x="8099280" y="2192040"/>
                <a:ext cx="113760" cy="1857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40640" h="70484">
                    <a:moveTo>
                      <a:pt x="40589" y="0"/>
                    </a:moveTo>
                    <a:lnTo>
                      <a:pt x="0" y="18808"/>
                    </a:lnTo>
                    <a:lnTo>
                      <a:pt x="0" y="70421"/>
                    </a:lnTo>
                    <a:lnTo>
                      <a:pt x="40589" y="51612"/>
                    </a:lnTo>
                    <a:lnTo>
                      <a:pt x="40589" y="0"/>
                    </a:lnTo>
                    <a:close/>
                  </a:path>
                </a:pathLst>
              </a:custGeom>
              <a:solidFill>
                <a:srgbClr val="ee2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7" name="Прямоугольник 63"/>
            <p:cNvSpPr/>
            <p:nvPr/>
          </p:nvSpPr>
          <p:spPr>
            <a:xfrm>
              <a:off x="6676920" y="3568680"/>
              <a:ext cx="1942920" cy="3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a75bd"/>
                  </a:solidFill>
                  <a:latin typeface="Arial Nova Cond"/>
                </a:rPr>
                <a:t>ЭЛЕКТРОННАЯ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Прямоугольник 64"/>
            <p:cNvSpPr/>
            <p:nvPr/>
          </p:nvSpPr>
          <p:spPr>
            <a:xfrm>
              <a:off x="7111440" y="3997440"/>
              <a:ext cx="1610640" cy="2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1a75bd"/>
                  </a:solidFill>
                  <a:latin typeface="Arial Narrow"/>
                </a:rPr>
                <a:t>ТРУДОВАЯ КНИЖК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9" name="Группа 5"/>
          <p:cNvGrpSpPr/>
          <p:nvPr/>
        </p:nvGrpSpPr>
        <p:grpSpPr>
          <a:xfrm>
            <a:off x="106200" y="1700280"/>
            <a:ext cx="2227320" cy="3154320"/>
            <a:chOff x="106200" y="1700280"/>
            <a:chExt cx="2227320" cy="3154320"/>
          </a:xfrm>
        </p:grpSpPr>
        <p:sp>
          <p:nvSpPr>
            <p:cNvPr id="260" name="object 8"/>
            <p:cNvSpPr/>
            <p:nvPr/>
          </p:nvSpPr>
          <p:spPr>
            <a:xfrm>
              <a:off x="1187640" y="1726200"/>
              <a:ext cx="1145880" cy="2961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object 9"/>
            <p:cNvSpPr/>
            <p:nvPr/>
          </p:nvSpPr>
          <p:spPr>
            <a:xfrm>
              <a:off x="106200" y="1743840"/>
              <a:ext cx="999360" cy="28666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object 10"/>
            <p:cNvSpPr/>
            <p:nvPr/>
          </p:nvSpPr>
          <p:spPr>
            <a:xfrm>
              <a:off x="758160" y="1700280"/>
              <a:ext cx="1116360" cy="3154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Группа 1026"/>
          <p:cNvGrpSpPr/>
          <p:nvPr/>
        </p:nvGrpSpPr>
        <p:grpSpPr>
          <a:xfrm>
            <a:off x="106200" y="4759200"/>
            <a:ext cx="2378160" cy="470160"/>
            <a:chOff x="106200" y="4759200"/>
            <a:chExt cx="2378160" cy="470160"/>
          </a:xfrm>
        </p:grpSpPr>
        <p:pic>
          <p:nvPicPr>
            <p:cNvPr id="264" name="Picture 2" descr=""/>
            <p:cNvPicPr/>
            <p:nvPr/>
          </p:nvPicPr>
          <p:blipFill>
            <a:blip r:embed="rId6"/>
            <a:stretch/>
          </p:blipFill>
          <p:spPr>
            <a:xfrm>
              <a:off x="106200" y="4759200"/>
              <a:ext cx="2378160" cy="4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object 12"/>
            <p:cNvSpPr/>
            <p:nvPr/>
          </p:nvSpPr>
          <p:spPr>
            <a:xfrm>
              <a:off x="486000" y="4838400"/>
              <a:ext cx="1678320" cy="311400"/>
            </a:xfrm>
            <a:custGeom>
              <a:avLst/>
              <a:gdLst>
                <a:gd name="textAreaLeft" fmla="*/ 0 w 1678320"/>
                <a:gd name="textAreaRight" fmla="*/ 1678680 w 167832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w="2069464" h="311150">
                  <a:moveTo>
                    <a:pt x="78067" y="0"/>
                  </a:moveTo>
                  <a:lnTo>
                    <a:pt x="38417" y="6950"/>
                  </a:lnTo>
                  <a:lnTo>
                    <a:pt x="8204" y="36445"/>
                  </a:lnTo>
                  <a:lnTo>
                    <a:pt x="0" y="244477"/>
                  </a:lnTo>
                  <a:lnTo>
                    <a:pt x="1094" y="256648"/>
                  </a:lnTo>
                  <a:lnTo>
                    <a:pt x="19073" y="291253"/>
                  </a:lnTo>
                  <a:lnTo>
                    <a:pt x="66975" y="310618"/>
                  </a:lnTo>
                  <a:lnTo>
                    <a:pt x="84901" y="309436"/>
                  </a:lnTo>
                  <a:lnTo>
                    <a:pt x="127582" y="287412"/>
                  </a:lnTo>
                  <a:lnTo>
                    <a:pt x="138402" y="268305"/>
                  </a:lnTo>
                  <a:lnTo>
                    <a:pt x="71705" y="268305"/>
                  </a:lnTo>
                  <a:lnTo>
                    <a:pt x="56434" y="264545"/>
                  </a:lnTo>
                  <a:lnTo>
                    <a:pt x="48697" y="257538"/>
                  </a:lnTo>
                  <a:lnTo>
                    <a:pt x="43939" y="245912"/>
                  </a:lnTo>
                  <a:lnTo>
                    <a:pt x="43075" y="232883"/>
                  </a:lnTo>
                  <a:lnTo>
                    <a:pt x="43073" y="81742"/>
                  </a:lnTo>
                  <a:lnTo>
                    <a:pt x="43723" y="68837"/>
                  </a:lnTo>
                  <a:lnTo>
                    <a:pt x="47384" y="56587"/>
                  </a:lnTo>
                  <a:lnTo>
                    <a:pt x="57057" y="46653"/>
                  </a:lnTo>
                  <a:lnTo>
                    <a:pt x="68548" y="42264"/>
                  </a:lnTo>
                  <a:lnTo>
                    <a:pt x="137903" y="42264"/>
                  </a:lnTo>
                  <a:lnTo>
                    <a:pt x="137739" y="41691"/>
                  </a:lnTo>
                  <a:lnTo>
                    <a:pt x="102938" y="6331"/>
                  </a:lnTo>
                  <a:lnTo>
                    <a:pt x="90538" y="2146"/>
                  </a:lnTo>
                  <a:lnTo>
                    <a:pt x="78067" y="0"/>
                  </a:lnTo>
                  <a:close/>
                </a:path>
                <a:path w="2069464" h="311150">
                  <a:moveTo>
                    <a:pt x="144140" y="222547"/>
                  </a:moveTo>
                  <a:lnTo>
                    <a:pt x="100947" y="222547"/>
                  </a:lnTo>
                  <a:lnTo>
                    <a:pt x="100947" y="248023"/>
                  </a:lnTo>
                  <a:lnTo>
                    <a:pt x="97061" y="254932"/>
                  </a:lnTo>
                  <a:lnTo>
                    <a:pt x="94902" y="257955"/>
                  </a:lnTo>
                  <a:lnTo>
                    <a:pt x="84868" y="265543"/>
                  </a:lnTo>
                  <a:lnTo>
                    <a:pt x="71705" y="268305"/>
                  </a:lnTo>
                  <a:lnTo>
                    <a:pt x="138402" y="268305"/>
                  </a:lnTo>
                  <a:lnTo>
                    <a:pt x="139223" y="266505"/>
                  </a:lnTo>
                  <a:lnTo>
                    <a:pt x="142664" y="253273"/>
                  </a:lnTo>
                  <a:lnTo>
                    <a:pt x="144113" y="237664"/>
                  </a:lnTo>
                  <a:lnTo>
                    <a:pt x="144140" y="222547"/>
                  </a:lnTo>
                  <a:close/>
                </a:path>
                <a:path w="2069464" h="311150">
                  <a:moveTo>
                    <a:pt x="137903" y="42264"/>
                  </a:moveTo>
                  <a:lnTo>
                    <a:pt x="68548" y="42264"/>
                  </a:lnTo>
                  <a:lnTo>
                    <a:pt x="86304" y="45475"/>
                  </a:lnTo>
                  <a:lnTo>
                    <a:pt x="94323" y="51486"/>
                  </a:lnTo>
                  <a:lnTo>
                    <a:pt x="99220" y="58412"/>
                  </a:lnTo>
                  <a:lnTo>
                    <a:pt x="100947" y="66629"/>
                  </a:lnTo>
                  <a:lnTo>
                    <a:pt x="100947" y="89946"/>
                  </a:lnTo>
                  <a:lnTo>
                    <a:pt x="142844" y="89946"/>
                  </a:lnTo>
                  <a:lnTo>
                    <a:pt x="142808" y="68837"/>
                  </a:lnTo>
                  <a:lnTo>
                    <a:pt x="141483" y="54776"/>
                  </a:lnTo>
                  <a:lnTo>
                    <a:pt x="137903" y="42264"/>
                  </a:lnTo>
                  <a:close/>
                </a:path>
                <a:path w="2069464" h="311150">
                  <a:moveTo>
                    <a:pt x="250820" y="45026"/>
                  </a:moveTo>
                  <a:lnTo>
                    <a:pt x="207627" y="45026"/>
                  </a:lnTo>
                  <a:lnTo>
                    <a:pt x="207627" y="306329"/>
                  </a:lnTo>
                  <a:lnTo>
                    <a:pt x="250820" y="306329"/>
                  </a:lnTo>
                  <a:lnTo>
                    <a:pt x="250820" y="45026"/>
                  </a:lnTo>
                  <a:close/>
                </a:path>
                <a:path w="2069464" h="311150">
                  <a:moveTo>
                    <a:pt x="304375" y="3993"/>
                  </a:moveTo>
                  <a:lnTo>
                    <a:pt x="154071" y="3993"/>
                  </a:lnTo>
                  <a:lnTo>
                    <a:pt x="154071" y="45026"/>
                  </a:lnTo>
                  <a:lnTo>
                    <a:pt x="304375" y="45026"/>
                  </a:lnTo>
                  <a:lnTo>
                    <a:pt x="304375" y="3993"/>
                  </a:lnTo>
                  <a:close/>
                </a:path>
                <a:path w="2069464" h="311150">
                  <a:moveTo>
                    <a:pt x="331579" y="3993"/>
                  </a:moveTo>
                  <a:lnTo>
                    <a:pt x="331579" y="306329"/>
                  </a:lnTo>
                  <a:lnTo>
                    <a:pt x="374772" y="306329"/>
                  </a:lnTo>
                  <a:lnTo>
                    <a:pt x="374772" y="186695"/>
                  </a:lnTo>
                  <a:lnTo>
                    <a:pt x="400248" y="186695"/>
                  </a:lnTo>
                  <a:lnTo>
                    <a:pt x="448149" y="173549"/>
                  </a:lnTo>
                  <a:lnTo>
                    <a:pt x="469331" y="147820"/>
                  </a:lnTo>
                  <a:lnTo>
                    <a:pt x="374772" y="147820"/>
                  </a:lnTo>
                  <a:lnTo>
                    <a:pt x="374772" y="42867"/>
                  </a:lnTo>
                  <a:lnTo>
                    <a:pt x="469552" y="42867"/>
                  </a:lnTo>
                  <a:lnTo>
                    <a:pt x="463023" y="31710"/>
                  </a:lnTo>
                  <a:lnTo>
                    <a:pt x="425159" y="7273"/>
                  </a:lnTo>
                  <a:lnTo>
                    <a:pt x="403108" y="4083"/>
                  </a:lnTo>
                  <a:lnTo>
                    <a:pt x="331579" y="3993"/>
                  </a:lnTo>
                  <a:close/>
                </a:path>
                <a:path w="2069464" h="311150">
                  <a:moveTo>
                    <a:pt x="571279" y="3993"/>
                  </a:moveTo>
                  <a:lnTo>
                    <a:pt x="533280" y="3993"/>
                  </a:lnTo>
                  <a:lnTo>
                    <a:pt x="467189" y="306329"/>
                  </a:lnTo>
                  <a:lnTo>
                    <a:pt x="510382" y="306329"/>
                  </a:lnTo>
                  <a:lnTo>
                    <a:pt x="524632" y="241546"/>
                  </a:lnTo>
                  <a:lnTo>
                    <a:pt x="623208" y="241546"/>
                  </a:lnTo>
                  <a:lnTo>
                    <a:pt x="614804" y="203103"/>
                  </a:lnTo>
                  <a:lnTo>
                    <a:pt x="528950" y="203103"/>
                  </a:lnTo>
                  <a:lnTo>
                    <a:pt x="551416" y="88219"/>
                  </a:lnTo>
                  <a:lnTo>
                    <a:pt x="589691" y="88219"/>
                  </a:lnTo>
                  <a:lnTo>
                    <a:pt x="571279" y="3993"/>
                  </a:lnTo>
                  <a:close/>
                </a:path>
                <a:path w="2069464" h="311150">
                  <a:moveTo>
                    <a:pt x="623208" y="241546"/>
                  </a:moveTo>
                  <a:lnTo>
                    <a:pt x="579915" y="241546"/>
                  </a:lnTo>
                  <a:lnTo>
                    <a:pt x="594177" y="306329"/>
                  </a:lnTo>
                  <a:lnTo>
                    <a:pt x="637369" y="306329"/>
                  </a:lnTo>
                  <a:lnTo>
                    <a:pt x="623208" y="241546"/>
                  </a:lnTo>
                  <a:close/>
                </a:path>
                <a:path w="2069464" h="311150">
                  <a:moveTo>
                    <a:pt x="589691" y="88219"/>
                  </a:moveTo>
                  <a:lnTo>
                    <a:pt x="551416" y="88219"/>
                  </a:lnTo>
                  <a:lnTo>
                    <a:pt x="574733" y="203103"/>
                  </a:lnTo>
                  <a:lnTo>
                    <a:pt x="614804" y="203103"/>
                  </a:lnTo>
                  <a:lnTo>
                    <a:pt x="589691" y="88219"/>
                  </a:lnTo>
                  <a:close/>
                </a:path>
                <a:path w="2069464" h="311150">
                  <a:moveTo>
                    <a:pt x="469552" y="42867"/>
                  </a:moveTo>
                  <a:lnTo>
                    <a:pt x="389885" y="42867"/>
                  </a:lnTo>
                  <a:lnTo>
                    <a:pt x="402702" y="43136"/>
                  </a:lnTo>
                  <a:lnTo>
                    <a:pt x="415113" y="45708"/>
                  </a:lnTo>
                  <a:lnTo>
                    <a:pt x="427963" y="58131"/>
                  </a:lnTo>
                  <a:lnTo>
                    <a:pt x="433698" y="69915"/>
                  </a:lnTo>
                  <a:lnTo>
                    <a:pt x="435187" y="80505"/>
                  </a:lnTo>
                  <a:lnTo>
                    <a:pt x="435236" y="105491"/>
                  </a:lnTo>
                  <a:lnTo>
                    <a:pt x="434993" y="117902"/>
                  </a:lnTo>
                  <a:lnTo>
                    <a:pt x="407396" y="146869"/>
                  </a:lnTo>
                  <a:lnTo>
                    <a:pt x="374772" y="147820"/>
                  </a:lnTo>
                  <a:lnTo>
                    <a:pt x="469331" y="147820"/>
                  </a:lnTo>
                  <a:lnTo>
                    <a:pt x="473373" y="138484"/>
                  </a:lnTo>
                  <a:lnTo>
                    <a:pt x="476569" y="125710"/>
                  </a:lnTo>
                  <a:lnTo>
                    <a:pt x="478044" y="113570"/>
                  </a:lnTo>
                  <a:lnTo>
                    <a:pt x="478327" y="105491"/>
                  </a:lnTo>
                  <a:lnTo>
                    <a:pt x="478318" y="88219"/>
                  </a:lnTo>
                  <a:lnTo>
                    <a:pt x="478147" y="80869"/>
                  </a:lnTo>
                  <a:lnTo>
                    <a:pt x="476966" y="68372"/>
                  </a:lnTo>
                  <a:lnTo>
                    <a:pt x="474386" y="55799"/>
                  </a:lnTo>
                  <a:lnTo>
                    <a:pt x="469906" y="43472"/>
                  </a:lnTo>
                  <a:lnTo>
                    <a:pt x="469552" y="42867"/>
                  </a:lnTo>
                  <a:close/>
                </a:path>
                <a:path w="2069464" h="311150">
                  <a:moveTo>
                    <a:pt x="693948" y="3993"/>
                  </a:moveTo>
                  <a:lnTo>
                    <a:pt x="648164" y="3993"/>
                  </a:lnTo>
                  <a:lnTo>
                    <a:pt x="704743" y="146525"/>
                  </a:lnTo>
                  <a:lnTo>
                    <a:pt x="641256" y="306329"/>
                  </a:lnTo>
                  <a:lnTo>
                    <a:pt x="688766" y="306329"/>
                  </a:lnTo>
                  <a:lnTo>
                    <a:pt x="728505" y="197058"/>
                  </a:lnTo>
                  <a:lnTo>
                    <a:pt x="773034" y="197058"/>
                  </a:lnTo>
                  <a:lnTo>
                    <a:pt x="752685" y="146525"/>
                  </a:lnTo>
                  <a:lnTo>
                    <a:pt x="772121" y="99014"/>
                  </a:lnTo>
                  <a:lnTo>
                    <a:pt x="728505" y="99014"/>
                  </a:lnTo>
                  <a:lnTo>
                    <a:pt x="693948" y="3993"/>
                  </a:lnTo>
                  <a:close/>
                </a:path>
                <a:path w="2069464" h="311150">
                  <a:moveTo>
                    <a:pt x="773034" y="197058"/>
                  </a:moveTo>
                  <a:lnTo>
                    <a:pt x="728505" y="197058"/>
                  </a:lnTo>
                  <a:lnTo>
                    <a:pt x="771253" y="306329"/>
                  </a:lnTo>
                  <a:lnTo>
                    <a:pt x="817036" y="306329"/>
                  </a:lnTo>
                  <a:lnTo>
                    <a:pt x="773034" y="197058"/>
                  </a:lnTo>
                  <a:close/>
                </a:path>
                <a:path w="2069464" h="311150">
                  <a:moveTo>
                    <a:pt x="810991" y="3993"/>
                  </a:moveTo>
                  <a:lnTo>
                    <a:pt x="763480" y="3993"/>
                  </a:lnTo>
                  <a:lnTo>
                    <a:pt x="728505" y="99014"/>
                  </a:lnTo>
                  <a:lnTo>
                    <a:pt x="772121" y="99014"/>
                  </a:lnTo>
                  <a:lnTo>
                    <a:pt x="810991" y="3993"/>
                  </a:lnTo>
                  <a:close/>
                </a:path>
                <a:path w="2069464" h="311150">
                  <a:moveTo>
                    <a:pt x="932217" y="375"/>
                  </a:moveTo>
                  <a:lnTo>
                    <a:pt x="888260" y="6246"/>
                  </a:lnTo>
                  <a:lnTo>
                    <a:pt x="852496" y="40282"/>
                  </a:lnTo>
                  <a:lnTo>
                    <a:pt x="845116" y="226865"/>
                  </a:lnTo>
                  <a:lnTo>
                    <a:pt x="845408" y="239557"/>
                  </a:lnTo>
                  <a:lnTo>
                    <a:pt x="863583" y="287196"/>
                  </a:lnTo>
                  <a:lnTo>
                    <a:pt x="896764" y="307338"/>
                  </a:lnTo>
                  <a:lnTo>
                    <a:pt x="909183" y="309948"/>
                  </a:lnTo>
                  <a:lnTo>
                    <a:pt x="926663" y="309514"/>
                  </a:lnTo>
                  <a:lnTo>
                    <a:pt x="971351" y="293409"/>
                  </a:lnTo>
                  <a:lnTo>
                    <a:pt x="989554" y="268247"/>
                  </a:lnTo>
                  <a:lnTo>
                    <a:pt x="923167" y="268247"/>
                  </a:lnTo>
                  <a:lnTo>
                    <a:pt x="907934" y="266076"/>
                  </a:lnTo>
                  <a:lnTo>
                    <a:pt x="898371" y="260622"/>
                  </a:lnTo>
                  <a:lnTo>
                    <a:pt x="890465" y="248677"/>
                  </a:lnTo>
                  <a:lnTo>
                    <a:pt x="888365" y="236782"/>
                  </a:lnTo>
                  <a:lnTo>
                    <a:pt x="888384" y="76181"/>
                  </a:lnTo>
                  <a:lnTo>
                    <a:pt x="889460" y="64672"/>
                  </a:lnTo>
                  <a:lnTo>
                    <a:pt x="895364" y="52840"/>
                  </a:lnTo>
                  <a:lnTo>
                    <a:pt x="905557" y="45262"/>
                  </a:lnTo>
                  <a:lnTo>
                    <a:pt x="918221" y="42074"/>
                  </a:lnTo>
                  <a:lnTo>
                    <a:pt x="989755" y="42074"/>
                  </a:lnTo>
                  <a:lnTo>
                    <a:pt x="986250" y="34441"/>
                  </a:lnTo>
                  <a:lnTo>
                    <a:pt x="977810" y="23139"/>
                  </a:lnTo>
                  <a:lnTo>
                    <a:pt x="967223" y="14293"/>
                  </a:lnTo>
                  <a:lnTo>
                    <a:pt x="956235" y="7600"/>
                  </a:lnTo>
                  <a:lnTo>
                    <a:pt x="944636" y="2986"/>
                  </a:lnTo>
                  <a:lnTo>
                    <a:pt x="932217" y="375"/>
                  </a:lnTo>
                  <a:close/>
                </a:path>
                <a:path w="2069464" h="311150">
                  <a:moveTo>
                    <a:pt x="989755" y="42074"/>
                  </a:moveTo>
                  <a:lnTo>
                    <a:pt x="918221" y="42074"/>
                  </a:lnTo>
                  <a:lnTo>
                    <a:pt x="933454" y="44244"/>
                  </a:lnTo>
                  <a:lnTo>
                    <a:pt x="943023" y="49694"/>
                  </a:lnTo>
                  <a:lnTo>
                    <a:pt x="950931" y="61640"/>
                  </a:lnTo>
                  <a:lnTo>
                    <a:pt x="953034" y="73536"/>
                  </a:lnTo>
                  <a:lnTo>
                    <a:pt x="953017" y="234142"/>
                  </a:lnTo>
                  <a:lnTo>
                    <a:pt x="951939" y="245662"/>
                  </a:lnTo>
                  <a:lnTo>
                    <a:pt x="946028" y="257491"/>
                  </a:lnTo>
                  <a:lnTo>
                    <a:pt x="935836" y="265061"/>
                  </a:lnTo>
                  <a:lnTo>
                    <a:pt x="923167" y="268247"/>
                  </a:lnTo>
                  <a:lnTo>
                    <a:pt x="989554" y="268247"/>
                  </a:lnTo>
                  <a:lnTo>
                    <a:pt x="993198" y="258201"/>
                  </a:lnTo>
                  <a:lnTo>
                    <a:pt x="995405" y="246241"/>
                  </a:lnTo>
                  <a:lnTo>
                    <a:pt x="996202" y="234142"/>
                  </a:lnTo>
                  <a:lnTo>
                    <a:pt x="996284" y="83469"/>
                  </a:lnTo>
                  <a:lnTo>
                    <a:pt x="995992" y="70772"/>
                  </a:lnTo>
                  <a:lnTo>
                    <a:pt x="994670" y="58324"/>
                  </a:lnTo>
                  <a:lnTo>
                    <a:pt x="991646" y="46191"/>
                  </a:lnTo>
                  <a:lnTo>
                    <a:pt x="989755" y="42074"/>
                  </a:lnTo>
                  <a:close/>
                </a:path>
                <a:path w="2069464" h="311150">
                  <a:moveTo>
                    <a:pt x="1043782" y="3993"/>
                  </a:moveTo>
                  <a:lnTo>
                    <a:pt x="1043782" y="306329"/>
                  </a:lnTo>
                  <a:lnTo>
                    <a:pt x="1109441" y="306329"/>
                  </a:lnTo>
                  <a:lnTo>
                    <a:pt x="1151029" y="298113"/>
                  </a:lnTo>
                  <a:lnTo>
                    <a:pt x="1179740" y="267908"/>
                  </a:lnTo>
                  <a:lnTo>
                    <a:pt x="1179894" y="267454"/>
                  </a:lnTo>
                  <a:lnTo>
                    <a:pt x="1086975" y="267454"/>
                  </a:lnTo>
                  <a:lnTo>
                    <a:pt x="1086975" y="168127"/>
                  </a:lnTo>
                  <a:lnTo>
                    <a:pt x="1177972" y="168127"/>
                  </a:lnTo>
                  <a:lnTo>
                    <a:pt x="1171985" y="159610"/>
                  </a:lnTo>
                  <a:lnTo>
                    <a:pt x="1161635" y="151253"/>
                  </a:lnTo>
                  <a:lnTo>
                    <a:pt x="1161702" y="146525"/>
                  </a:lnTo>
                  <a:lnTo>
                    <a:pt x="1168179" y="142207"/>
                  </a:lnTo>
                  <a:lnTo>
                    <a:pt x="1173792" y="135298"/>
                  </a:lnTo>
                  <a:lnTo>
                    <a:pt x="1177754" y="129253"/>
                  </a:lnTo>
                  <a:lnTo>
                    <a:pt x="1086975" y="129253"/>
                  </a:lnTo>
                  <a:lnTo>
                    <a:pt x="1086975" y="42867"/>
                  </a:lnTo>
                  <a:lnTo>
                    <a:pt x="1178463" y="42867"/>
                  </a:lnTo>
                  <a:lnTo>
                    <a:pt x="1175606" y="36621"/>
                  </a:lnTo>
                  <a:lnTo>
                    <a:pt x="1138829" y="10182"/>
                  </a:lnTo>
                  <a:lnTo>
                    <a:pt x="1105566" y="4030"/>
                  </a:lnTo>
                  <a:lnTo>
                    <a:pt x="1043782" y="3993"/>
                  </a:lnTo>
                  <a:close/>
                </a:path>
                <a:path w="2069464" h="311150">
                  <a:moveTo>
                    <a:pt x="1177972" y="168127"/>
                  </a:moveTo>
                  <a:lnTo>
                    <a:pt x="1118509" y="168127"/>
                  </a:lnTo>
                  <a:lnTo>
                    <a:pt x="1124986" y="170286"/>
                  </a:lnTo>
                  <a:lnTo>
                    <a:pt x="1131895" y="175900"/>
                  </a:lnTo>
                  <a:lnTo>
                    <a:pt x="1139549" y="185714"/>
                  </a:lnTo>
                  <a:lnTo>
                    <a:pt x="1142936" y="197818"/>
                  </a:lnTo>
                  <a:lnTo>
                    <a:pt x="1143553" y="223411"/>
                  </a:lnTo>
                  <a:lnTo>
                    <a:pt x="1142925" y="233631"/>
                  </a:lnTo>
                  <a:lnTo>
                    <a:pt x="1115206" y="266486"/>
                  </a:lnTo>
                  <a:lnTo>
                    <a:pt x="1086975" y="267454"/>
                  </a:lnTo>
                  <a:lnTo>
                    <a:pt x="1179894" y="267454"/>
                  </a:lnTo>
                  <a:lnTo>
                    <a:pt x="1184205" y="254776"/>
                  </a:lnTo>
                  <a:lnTo>
                    <a:pt x="1186203" y="242709"/>
                  </a:lnTo>
                  <a:lnTo>
                    <a:pt x="1186682" y="233631"/>
                  </a:lnTo>
                  <a:lnTo>
                    <a:pt x="1186746" y="206126"/>
                  </a:lnTo>
                  <a:lnTo>
                    <a:pt x="1186447" y="193372"/>
                  </a:lnTo>
                  <a:lnTo>
                    <a:pt x="1184354" y="181966"/>
                  </a:lnTo>
                  <a:lnTo>
                    <a:pt x="1178674" y="169127"/>
                  </a:lnTo>
                  <a:lnTo>
                    <a:pt x="1177972" y="168127"/>
                  </a:lnTo>
                  <a:close/>
                </a:path>
                <a:path w="2069464" h="311150">
                  <a:moveTo>
                    <a:pt x="1178463" y="42867"/>
                  </a:moveTo>
                  <a:lnTo>
                    <a:pt x="1107282" y="42867"/>
                  </a:lnTo>
                  <a:lnTo>
                    <a:pt x="1122621" y="45125"/>
                  </a:lnTo>
                  <a:lnTo>
                    <a:pt x="1132836" y="50557"/>
                  </a:lnTo>
                  <a:lnTo>
                    <a:pt x="1140099" y="57980"/>
                  </a:lnTo>
                  <a:lnTo>
                    <a:pt x="1143553" y="65765"/>
                  </a:lnTo>
                  <a:lnTo>
                    <a:pt x="1143553" y="92105"/>
                  </a:lnTo>
                  <a:lnTo>
                    <a:pt x="1115321" y="128658"/>
                  </a:lnTo>
                  <a:lnTo>
                    <a:pt x="1086975" y="129253"/>
                  </a:lnTo>
                  <a:lnTo>
                    <a:pt x="1177754" y="129253"/>
                  </a:lnTo>
                  <a:lnTo>
                    <a:pt x="1180761" y="124665"/>
                  </a:lnTo>
                  <a:lnTo>
                    <a:pt x="1184695" y="113261"/>
                  </a:lnTo>
                  <a:lnTo>
                    <a:pt x="1186413" y="100497"/>
                  </a:lnTo>
                  <a:lnTo>
                    <a:pt x="1186428" y="87178"/>
                  </a:lnTo>
                  <a:lnTo>
                    <a:pt x="1185849" y="73837"/>
                  </a:lnTo>
                  <a:lnTo>
                    <a:pt x="1184182" y="60770"/>
                  </a:lnTo>
                  <a:lnTo>
                    <a:pt x="1180933" y="48267"/>
                  </a:lnTo>
                  <a:lnTo>
                    <a:pt x="1178463" y="42867"/>
                  </a:lnTo>
                  <a:close/>
                </a:path>
                <a:path w="2069464" h="311150">
                  <a:moveTo>
                    <a:pt x="1316756" y="3993"/>
                  </a:moveTo>
                  <a:lnTo>
                    <a:pt x="1278745" y="3993"/>
                  </a:lnTo>
                  <a:lnTo>
                    <a:pt x="1212667" y="306329"/>
                  </a:lnTo>
                  <a:lnTo>
                    <a:pt x="1255847" y="306329"/>
                  </a:lnTo>
                  <a:lnTo>
                    <a:pt x="1270109" y="241546"/>
                  </a:lnTo>
                  <a:lnTo>
                    <a:pt x="1368675" y="241546"/>
                  </a:lnTo>
                  <a:lnTo>
                    <a:pt x="1360273" y="203103"/>
                  </a:lnTo>
                  <a:lnTo>
                    <a:pt x="1274427" y="203103"/>
                  </a:lnTo>
                  <a:lnTo>
                    <a:pt x="1296880" y="88219"/>
                  </a:lnTo>
                  <a:lnTo>
                    <a:pt x="1335164" y="88219"/>
                  </a:lnTo>
                  <a:lnTo>
                    <a:pt x="1316756" y="3993"/>
                  </a:lnTo>
                  <a:close/>
                </a:path>
                <a:path w="2069464" h="311150">
                  <a:moveTo>
                    <a:pt x="1368675" y="241546"/>
                  </a:moveTo>
                  <a:lnTo>
                    <a:pt x="1325392" y="241546"/>
                  </a:lnTo>
                  <a:lnTo>
                    <a:pt x="1339641" y="306329"/>
                  </a:lnTo>
                  <a:lnTo>
                    <a:pt x="1382834" y="306329"/>
                  </a:lnTo>
                  <a:lnTo>
                    <a:pt x="1368675" y="241546"/>
                  </a:lnTo>
                  <a:close/>
                </a:path>
                <a:path w="2069464" h="311150">
                  <a:moveTo>
                    <a:pt x="1465752" y="45026"/>
                  </a:moveTo>
                  <a:lnTo>
                    <a:pt x="1422572" y="45026"/>
                  </a:lnTo>
                  <a:lnTo>
                    <a:pt x="1422572" y="306329"/>
                  </a:lnTo>
                  <a:lnTo>
                    <a:pt x="1465752" y="306329"/>
                  </a:lnTo>
                  <a:lnTo>
                    <a:pt x="1465752" y="45026"/>
                  </a:lnTo>
                  <a:close/>
                </a:path>
                <a:path w="2069464" h="311150">
                  <a:moveTo>
                    <a:pt x="1335164" y="88219"/>
                  </a:moveTo>
                  <a:lnTo>
                    <a:pt x="1296880" y="88219"/>
                  </a:lnTo>
                  <a:lnTo>
                    <a:pt x="1320210" y="203103"/>
                  </a:lnTo>
                  <a:lnTo>
                    <a:pt x="1360273" y="203103"/>
                  </a:lnTo>
                  <a:lnTo>
                    <a:pt x="1335164" y="88219"/>
                  </a:lnTo>
                  <a:close/>
                </a:path>
                <a:path w="2069464" h="311150">
                  <a:moveTo>
                    <a:pt x="1519321" y="3993"/>
                  </a:moveTo>
                  <a:lnTo>
                    <a:pt x="1369016" y="3993"/>
                  </a:lnTo>
                  <a:lnTo>
                    <a:pt x="1369016" y="45026"/>
                  </a:lnTo>
                  <a:lnTo>
                    <a:pt x="1519321" y="45026"/>
                  </a:lnTo>
                  <a:lnTo>
                    <a:pt x="1519321" y="3993"/>
                  </a:lnTo>
                  <a:close/>
                </a:path>
                <a:path w="2069464" h="311150">
                  <a:moveTo>
                    <a:pt x="1674794" y="3993"/>
                  </a:moveTo>
                  <a:lnTo>
                    <a:pt x="1546524" y="3993"/>
                  </a:lnTo>
                  <a:lnTo>
                    <a:pt x="1546524" y="306329"/>
                  </a:lnTo>
                  <a:lnTo>
                    <a:pt x="1676090" y="306329"/>
                  </a:lnTo>
                  <a:lnTo>
                    <a:pt x="1676090" y="265295"/>
                  </a:lnTo>
                  <a:lnTo>
                    <a:pt x="1589704" y="265295"/>
                  </a:lnTo>
                  <a:lnTo>
                    <a:pt x="1589704" y="172877"/>
                  </a:lnTo>
                  <a:lnTo>
                    <a:pt x="1664863" y="172877"/>
                  </a:lnTo>
                  <a:lnTo>
                    <a:pt x="1664863" y="134003"/>
                  </a:lnTo>
                  <a:lnTo>
                    <a:pt x="1589704" y="134003"/>
                  </a:lnTo>
                  <a:lnTo>
                    <a:pt x="1589704" y="45026"/>
                  </a:lnTo>
                  <a:lnTo>
                    <a:pt x="1674794" y="45026"/>
                  </a:lnTo>
                  <a:lnTo>
                    <a:pt x="1674794" y="3993"/>
                  </a:lnTo>
                  <a:close/>
                </a:path>
                <a:path w="2069464" h="311150">
                  <a:moveTo>
                    <a:pt x="1859643" y="3993"/>
                  </a:moveTo>
                  <a:lnTo>
                    <a:pt x="1738713" y="3993"/>
                  </a:lnTo>
                  <a:lnTo>
                    <a:pt x="1737157" y="101981"/>
                  </a:lnTo>
                  <a:lnTo>
                    <a:pt x="1736791" y="116438"/>
                  </a:lnTo>
                  <a:lnTo>
                    <a:pt x="1734536" y="164048"/>
                  </a:lnTo>
                  <a:lnTo>
                    <a:pt x="1730222" y="215920"/>
                  </a:lnTo>
                  <a:lnTo>
                    <a:pt x="1712364" y="259886"/>
                  </a:lnTo>
                  <a:lnTo>
                    <a:pt x="1698112" y="265295"/>
                  </a:lnTo>
                  <a:lnTo>
                    <a:pt x="1689044" y="265295"/>
                  </a:lnTo>
                  <a:lnTo>
                    <a:pt x="1689044" y="306329"/>
                  </a:lnTo>
                  <a:lnTo>
                    <a:pt x="1698975" y="306329"/>
                  </a:lnTo>
                  <a:lnTo>
                    <a:pt x="1711228" y="305693"/>
                  </a:lnTo>
                  <a:lnTo>
                    <a:pt x="1746279" y="289324"/>
                  </a:lnTo>
                  <a:lnTo>
                    <a:pt x="1767204" y="254590"/>
                  </a:lnTo>
                  <a:lnTo>
                    <a:pt x="1774379" y="213998"/>
                  </a:lnTo>
                  <a:lnTo>
                    <a:pt x="1777339" y="174983"/>
                  </a:lnTo>
                  <a:lnTo>
                    <a:pt x="1780142" y="99754"/>
                  </a:lnTo>
                  <a:lnTo>
                    <a:pt x="1781906" y="42867"/>
                  </a:lnTo>
                  <a:lnTo>
                    <a:pt x="1859643" y="42867"/>
                  </a:lnTo>
                  <a:lnTo>
                    <a:pt x="1859643" y="3993"/>
                  </a:lnTo>
                  <a:close/>
                </a:path>
                <a:path w="2069464" h="311150">
                  <a:moveTo>
                    <a:pt x="1859643" y="42867"/>
                  </a:moveTo>
                  <a:lnTo>
                    <a:pt x="1816450" y="42867"/>
                  </a:lnTo>
                  <a:lnTo>
                    <a:pt x="1816450" y="306329"/>
                  </a:lnTo>
                  <a:lnTo>
                    <a:pt x="1859643" y="306329"/>
                  </a:lnTo>
                  <a:lnTo>
                    <a:pt x="1859643" y="42867"/>
                  </a:lnTo>
                  <a:close/>
                </a:path>
                <a:path w="2069464" h="311150">
                  <a:moveTo>
                    <a:pt x="1954664" y="3993"/>
                  </a:moveTo>
                  <a:lnTo>
                    <a:pt x="1911472" y="3993"/>
                  </a:lnTo>
                  <a:lnTo>
                    <a:pt x="1911472" y="306329"/>
                  </a:lnTo>
                  <a:lnTo>
                    <a:pt x="1954664" y="306329"/>
                  </a:lnTo>
                  <a:lnTo>
                    <a:pt x="1954664" y="271772"/>
                  </a:lnTo>
                  <a:lnTo>
                    <a:pt x="1993348" y="189717"/>
                  </a:lnTo>
                  <a:lnTo>
                    <a:pt x="1954664" y="189717"/>
                  </a:lnTo>
                  <a:lnTo>
                    <a:pt x="1954664" y="3993"/>
                  </a:lnTo>
                  <a:close/>
                </a:path>
                <a:path w="2069464" h="311150">
                  <a:moveTo>
                    <a:pt x="2069117" y="120617"/>
                  </a:moveTo>
                  <a:lnTo>
                    <a:pt x="2025924" y="120617"/>
                  </a:lnTo>
                  <a:lnTo>
                    <a:pt x="2025924" y="306329"/>
                  </a:lnTo>
                  <a:lnTo>
                    <a:pt x="2069117" y="306329"/>
                  </a:lnTo>
                  <a:lnTo>
                    <a:pt x="2069117" y="120617"/>
                  </a:lnTo>
                  <a:close/>
                </a:path>
                <a:path w="2069464" h="311150">
                  <a:moveTo>
                    <a:pt x="2069117" y="3993"/>
                  </a:moveTo>
                  <a:lnTo>
                    <a:pt x="2025924" y="3993"/>
                  </a:lnTo>
                  <a:lnTo>
                    <a:pt x="2025924" y="38549"/>
                  </a:lnTo>
                  <a:lnTo>
                    <a:pt x="1954664" y="189717"/>
                  </a:lnTo>
                  <a:lnTo>
                    <a:pt x="1993348" y="189717"/>
                  </a:lnTo>
                  <a:lnTo>
                    <a:pt x="2025924" y="120617"/>
                  </a:lnTo>
                  <a:lnTo>
                    <a:pt x="2069117" y="120617"/>
                  </a:lnTo>
                  <a:lnTo>
                    <a:pt x="2069117" y="39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Группа 76"/>
          <p:cNvGrpSpPr/>
          <p:nvPr/>
        </p:nvGrpSpPr>
        <p:grpSpPr>
          <a:xfrm>
            <a:off x="5532480" y="3770280"/>
            <a:ext cx="552240" cy="163440"/>
            <a:chOff x="5532480" y="3770280"/>
            <a:chExt cx="552240" cy="163440"/>
          </a:xfrm>
        </p:grpSpPr>
        <p:sp>
          <p:nvSpPr>
            <p:cNvPr id="267" name="object 81"/>
            <p:cNvSpPr/>
            <p:nvPr/>
          </p:nvSpPr>
          <p:spPr>
            <a:xfrm>
              <a:off x="5532480" y="3851640"/>
              <a:ext cx="552240" cy="360"/>
            </a:xfrm>
            <a:custGeom>
              <a:avLst/>
              <a:gdLst/>
              <a:ahLst/>
              <a:rect l="l" t="t" r="r" b="b"/>
              <a:pathLst>
                <a:path w="551814" h="0">
                  <a:moveTo>
                    <a:pt x="0" y="0"/>
                  </a:moveTo>
                  <a:lnTo>
                    <a:pt x="551764" y="0"/>
                  </a:lnTo>
                </a:path>
              </a:pathLst>
            </a:custGeom>
            <a:noFill/>
            <a:ln w="36000">
              <a:solidFill>
                <a:srgbClr val="ec2d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object 82"/>
            <p:cNvSpPr/>
            <p:nvPr/>
          </p:nvSpPr>
          <p:spPr>
            <a:xfrm>
              <a:off x="5532480" y="3770280"/>
              <a:ext cx="360" cy="163440"/>
            </a:xfrm>
            <a:custGeom>
              <a:avLst/>
              <a:gdLst/>
              <a:ahLst/>
              <a:rect l="l" t="t" r="r" b="b"/>
              <a:pathLst>
                <a:path w="0" h="162560">
                  <a:moveTo>
                    <a:pt x="0" y="0"/>
                  </a:moveTo>
                  <a:lnTo>
                    <a:pt x="0" y="162001"/>
                  </a:lnTo>
                </a:path>
              </a:pathLst>
            </a:custGeom>
            <a:noFill/>
            <a:ln w="36000">
              <a:solidFill>
                <a:srgbClr val="ec2d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object 83"/>
            <p:cNvSpPr/>
            <p:nvPr/>
          </p:nvSpPr>
          <p:spPr>
            <a:xfrm>
              <a:off x="5925960" y="3793680"/>
              <a:ext cx="158760" cy="1162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58750" h="115570">
                  <a:moveTo>
                    <a:pt x="0" y="0"/>
                  </a:moveTo>
                  <a:lnTo>
                    <a:pt x="158597" y="57721"/>
                  </a:lnTo>
                  <a:lnTo>
                    <a:pt x="0" y="115417"/>
                  </a:lnTo>
                </a:path>
              </a:pathLst>
            </a:custGeom>
            <a:noFill/>
            <a:ln w="36000">
              <a:solidFill>
                <a:srgbClr val="ec2d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Группа 80"/>
          <p:cNvGrpSpPr/>
          <p:nvPr/>
        </p:nvGrpSpPr>
        <p:grpSpPr>
          <a:xfrm>
            <a:off x="5508720" y="2833560"/>
            <a:ext cx="550800" cy="163800"/>
            <a:chOff x="5508720" y="2833560"/>
            <a:chExt cx="550800" cy="163800"/>
          </a:xfrm>
        </p:grpSpPr>
        <p:sp>
          <p:nvSpPr>
            <p:cNvPr id="271" name="object 84"/>
            <p:cNvSpPr/>
            <p:nvPr/>
          </p:nvSpPr>
          <p:spPr>
            <a:xfrm>
              <a:off x="5508720" y="2915280"/>
              <a:ext cx="550800" cy="360"/>
            </a:xfrm>
            <a:custGeom>
              <a:avLst/>
              <a:gdLst/>
              <a:ahLst/>
              <a:rect l="l" t="t" r="r" b="b"/>
              <a:pathLst>
                <a:path w="551814" h="0">
                  <a:moveTo>
                    <a:pt x="0" y="0"/>
                  </a:moveTo>
                  <a:lnTo>
                    <a:pt x="551764" y="0"/>
                  </a:lnTo>
                </a:path>
              </a:pathLst>
            </a:custGeom>
            <a:noFill/>
            <a:ln w="36000">
              <a:solidFill>
                <a:srgbClr val="ec2d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object 85"/>
            <p:cNvSpPr/>
            <p:nvPr/>
          </p:nvSpPr>
          <p:spPr>
            <a:xfrm>
              <a:off x="5508720" y="2833560"/>
              <a:ext cx="360" cy="163800"/>
            </a:xfrm>
            <a:custGeom>
              <a:avLst/>
              <a:gdLst/>
              <a:ahLst/>
              <a:rect l="l" t="t" r="r" b="b"/>
              <a:pathLst>
                <a:path w="0" h="162560">
                  <a:moveTo>
                    <a:pt x="0" y="0"/>
                  </a:moveTo>
                  <a:lnTo>
                    <a:pt x="0" y="162001"/>
                  </a:lnTo>
                </a:path>
              </a:pathLst>
            </a:custGeom>
            <a:noFill/>
            <a:ln w="36000">
              <a:solidFill>
                <a:srgbClr val="ec2d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object 86"/>
            <p:cNvSpPr/>
            <p:nvPr/>
          </p:nvSpPr>
          <p:spPr>
            <a:xfrm>
              <a:off x="5901120" y="2856960"/>
              <a:ext cx="158400" cy="1166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16640"/>
                <a:gd name="textAreaBottom" fmla="*/ 117000 h 116640"/>
              </a:gdLst>
              <a:ahLst/>
              <a:rect l="textAreaLeft" t="textAreaTop" r="textAreaRight" b="textAreaBottom"/>
              <a:pathLst>
                <a:path w="158750" h="115570">
                  <a:moveTo>
                    <a:pt x="0" y="0"/>
                  </a:moveTo>
                  <a:lnTo>
                    <a:pt x="158597" y="57721"/>
                  </a:lnTo>
                  <a:lnTo>
                    <a:pt x="0" y="115417"/>
                  </a:lnTo>
                </a:path>
              </a:pathLst>
            </a:custGeom>
            <a:noFill/>
            <a:ln w="36000">
              <a:solidFill>
                <a:srgbClr val="ec2d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4" name="Группа 84"/>
          <p:cNvGrpSpPr/>
          <p:nvPr/>
        </p:nvGrpSpPr>
        <p:grpSpPr>
          <a:xfrm>
            <a:off x="5532480" y="1969920"/>
            <a:ext cx="552240" cy="163800"/>
            <a:chOff x="5532480" y="1969920"/>
            <a:chExt cx="552240" cy="163800"/>
          </a:xfrm>
        </p:grpSpPr>
        <p:sp>
          <p:nvSpPr>
            <p:cNvPr id="275" name="object 87"/>
            <p:cNvSpPr/>
            <p:nvPr/>
          </p:nvSpPr>
          <p:spPr>
            <a:xfrm>
              <a:off x="5532480" y="2051640"/>
              <a:ext cx="552240" cy="360"/>
            </a:xfrm>
            <a:custGeom>
              <a:avLst/>
              <a:gdLst/>
              <a:ahLst/>
              <a:rect l="l" t="t" r="r" b="b"/>
              <a:pathLst>
                <a:path w="551814" h="0">
                  <a:moveTo>
                    <a:pt x="0" y="0"/>
                  </a:moveTo>
                  <a:lnTo>
                    <a:pt x="551764" y="0"/>
                  </a:lnTo>
                </a:path>
              </a:pathLst>
            </a:custGeom>
            <a:noFill/>
            <a:ln w="36000">
              <a:solidFill>
                <a:srgbClr val="ec2d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object 88"/>
            <p:cNvSpPr/>
            <p:nvPr/>
          </p:nvSpPr>
          <p:spPr>
            <a:xfrm>
              <a:off x="5532480" y="1969920"/>
              <a:ext cx="360" cy="163800"/>
            </a:xfrm>
            <a:custGeom>
              <a:avLst/>
              <a:gdLst/>
              <a:ahLst/>
              <a:rect l="l" t="t" r="r" b="b"/>
              <a:pathLst>
                <a:path w="0" h="162560">
                  <a:moveTo>
                    <a:pt x="0" y="0"/>
                  </a:moveTo>
                  <a:lnTo>
                    <a:pt x="0" y="162001"/>
                  </a:lnTo>
                </a:path>
              </a:pathLst>
            </a:custGeom>
            <a:noFill/>
            <a:ln w="36000">
              <a:solidFill>
                <a:srgbClr val="ec2d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object 89"/>
            <p:cNvSpPr/>
            <p:nvPr/>
          </p:nvSpPr>
          <p:spPr>
            <a:xfrm>
              <a:off x="5925960" y="1993320"/>
              <a:ext cx="158760" cy="1166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16640"/>
                <a:gd name="textAreaBottom" fmla="*/ 117000 h 116640"/>
              </a:gdLst>
              <a:ahLst/>
              <a:rect l="textAreaLeft" t="textAreaTop" r="textAreaRight" b="textAreaBottom"/>
              <a:pathLst>
                <a:path w="158750" h="115570">
                  <a:moveTo>
                    <a:pt x="0" y="0"/>
                  </a:moveTo>
                  <a:lnTo>
                    <a:pt x="158597" y="57721"/>
                  </a:lnTo>
                  <a:lnTo>
                    <a:pt x="0" y="115417"/>
                  </a:lnTo>
                </a:path>
              </a:pathLst>
            </a:custGeom>
            <a:noFill/>
            <a:ln w="36000">
              <a:solidFill>
                <a:srgbClr val="ec2d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8" name="object 9"/>
          <p:cNvSpPr/>
          <p:nvPr/>
        </p:nvSpPr>
        <p:spPr>
          <a:xfrm>
            <a:off x="1908000" y="5904000"/>
            <a:ext cx="6154920" cy="90972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object 10"/>
          <p:cNvSpPr/>
          <p:nvPr/>
        </p:nvSpPr>
        <p:spPr>
          <a:xfrm>
            <a:off x="3708360" y="6156360"/>
            <a:ext cx="3341880" cy="270000"/>
          </a:xfrm>
          <a:custGeom>
            <a:avLst/>
            <a:gdLst>
              <a:gd name="textAreaLeft" fmla="*/ 0 w 3341880"/>
              <a:gd name="textAreaRight" fmla="*/ 3342240 w 334188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4246245" h="358139">
                <a:moveTo>
                  <a:pt x="90370" y="420"/>
                </a:moveTo>
                <a:lnTo>
                  <a:pt x="49839" y="6246"/>
                </a:lnTo>
                <a:lnTo>
                  <a:pt x="17647" y="28898"/>
                </a:lnTo>
                <a:lnTo>
                  <a:pt x="1691" y="64679"/>
                </a:lnTo>
                <a:lnTo>
                  <a:pt x="0" y="280284"/>
                </a:lnTo>
                <a:lnTo>
                  <a:pt x="802" y="292299"/>
                </a:lnTo>
                <a:lnTo>
                  <a:pt x="15847" y="330151"/>
                </a:lnTo>
                <a:lnTo>
                  <a:pt x="55922" y="355503"/>
                </a:lnTo>
                <a:lnTo>
                  <a:pt x="71129" y="357958"/>
                </a:lnTo>
                <a:lnTo>
                  <a:pt x="90534" y="357201"/>
                </a:lnTo>
                <a:lnTo>
                  <a:pt x="130209" y="346484"/>
                </a:lnTo>
                <a:lnTo>
                  <a:pt x="160204" y="309023"/>
                </a:lnTo>
                <a:lnTo>
                  <a:pt x="88219" y="309023"/>
                </a:lnTo>
                <a:lnTo>
                  <a:pt x="70215" y="306879"/>
                </a:lnTo>
                <a:lnTo>
                  <a:pt x="60025" y="301391"/>
                </a:lnTo>
                <a:lnTo>
                  <a:pt x="52563" y="288461"/>
                </a:lnTo>
                <a:lnTo>
                  <a:pt x="49974" y="276604"/>
                </a:lnTo>
                <a:lnTo>
                  <a:pt x="49676" y="94564"/>
                </a:lnTo>
                <a:lnTo>
                  <a:pt x="50190" y="81637"/>
                </a:lnTo>
                <a:lnTo>
                  <a:pt x="53025" y="69159"/>
                </a:lnTo>
                <a:lnTo>
                  <a:pt x="62924" y="57007"/>
                </a:lnTo>
                <a:lnTo>
                  <a:pt x="73040" y="50536"/>
                </a:lnTo>
                <a:lnTo>
                  <a:pt x="159417" y="50536"/>
                </a:lnTo>
                <a:lnTo>
                  <a:pt x="155067" y="40223"/>
                </a:lnTo>
                <a:lnTo>
                  <a:pt x="125556" y="11825"/>
                </a:lnTo>
                <a:lnTo>
                  <a:pt x="101896" y="2382"/>
                </a:lnTo>
                <a:lnTo>
                  <a:pt x="90370" y="420"/>
                </a:lnTo>
                <a:close/>
              </a:path>
              <a:path w="4246245" h="358139">
                <a:moveTo>
                  <a:pt x="166122" y="256794"/>
                </a:moveTo>
                <a:lnTo>
                  <a:pt x="116363" y="256794"/>
                </a:lnTo>
                <a:lnTo>
                  <a:pt x="116363" y="269227"/>
                </a:lnTo>
                <a:lnTo>
                  <a:pt x="114354" y="286585"/>
                </a:lnTo>
                <a:lnTo>
                  <a:pt x="110454" y="295992"/>
                </a:lnTo>
                <a:lnTo>
                  <a:pt x="100455" y="304855"/>
                </a:lnTo>
                <a:lnTo>
                  <a:pt x="88219" y="309023"/>
                </a:lnTo>
                <a:lnTo>
                  <a:pt x="160204" y="309023"/>
                </a:lnTo>
                <a:lnTo>
                  <a:pt x="160425" y="308502"/>
                </a:lnTo>
                <a:lnTo>
                  <a:pt x="164074" y="294514"/>
                </a:lnTo>
                <a:lnTo>
                  <a:pt x="165974" y="277747"/>
                </a:lnTo>
                <a:lnTo>
                  <a:pt x="166122" y="256794"/>
                </a:lnTo>
                <a:close/>
              </a:path>
              <a:path w="4246245" h="358139">
                <a:moveTo>
                  <a:pt x="159417" y="50536"/>
                </a:moveTo>
                <a:lnTo>
                  <a:pt x="73040" y="50536"/>
                </a:lnTo>
                <a:lnTo>
                  <a:pt x="93444" y="51626"/>
                </a:lnTo>
                <a:lnTo>
                  <a:pt x="104674" y="56132"/>
                </a:lnTo>
                <a:lnTo>
                  <a:pt x="109616" y="60825"/>
                </a:lnTo>
                <a:lnTo>
                  <a:pt x="114369" y="67690"/>
                </a:lnTo>
                <a:lnTo>
                  <a:pt x="116249" y="76597"/>
                </a:lnTo>
                <a:lnTo>
                  <a:pt x="116363" y="104012"/>
                </a:lnTo>
                <a:lnTo>
                  <a:pt x="164636" y="104012"/>
                </a:lnTo>
                <a:lnTo>
                  <a:pt x="164636" y="80124"/>
                </a:lnTo>
                <a:lnTo>
                  <a:pt x="163444" y="65600"/>
                </a:lnTo>
                <a:lnTo>
                  <a:pt x="160125" y="52214"/>
                </a:lnTo>
                <a:lnTo>
                  <a:pt x="159417" y="50536"/>
                </a:lnTo>
                <a:close/>
              </a:path>
              <a:path w="4246245" h="358139">
                <a:moveTo>
                  <a:pt x="263163" y="4978"/>
                </a:moveTo>
                <a:lnTo>
                  <a:pt x="213404" y="4978"/>
                </a:lnTo>
                <a:lnTo>
                  <a:pt x="213404" y="353326"/>
                </a:lnTo>
                <a:lnTo>
                  <a:pt x="263163" y="353326"/>
                </a:lnTo>
                <a:lnTo>
                  <a:pt x="263163" y="313524"/>
                </a:lnTo>
                <a:lnTo>
                  <a:pt x="307739" y="218973"/>
                </a:lnTo>
                <a:lnTo>
                  <a:pt x="263163" y="218973"/>
                </a:lnTo>
                <a:lnTo>
                  <a:pt x="263163" y="4978"/>
                </a:lnTo>
                <a:close/>
              </a:path>
              <a:path w="4246245" h="358139">
                <a:moveTo>
                  <a:pt x="395039" y="139344"/>
                </a:moveTo>
                <a:lnTo>
                  <a:pt x="345281" y="139344"/>
                </a:lnTo>
                <a:lnTo>
                  <a:pt x="345281" y="353326"/>
                </a:lnTo>
                <a:lnTo>
                  <a:pt x="395039" y="353326"/>
                </a:lnTo>
                <a:lnTo>
                  <a:pt x="395039" y="139344"/>
                </a:lnTo>
                <a:close/>
              </a:path>
              <a:path w="4246245" h="358139">
                <a:moveTo>
                  <a:pt x="395039" y="4978"/>
                </a:moveTo>
                <a:lnTo>
                  <a:pt x="345281" y="4978"/>
                </a:lnTo>
                <a:lnTo>
                  <a:pt x="345281" y="44792"/>
                </a:lnTo>
                <a:lnTo>
                  <a:pt x="263163" y="218973"/>
                </a:lnTo>
                <a:lnTo>
                  <a:pt x="307739" y="218973"/>
                </a:lnTo>
                <a:lnTo>
                  <a:pt x="345281" y="139344"/>
                </a:lnTo>
                <a:lnTo>
                  <a:pt x="395039" y="139344"/>
                </a:lnTo>
                <a:lnTo>
                  <a:pt x="395039" y="4978"/>
                </a:lnTo>
                <a:close/>
              </a:path>
              <a:path w="4246245" h="358139">
                <a:moveTo>
                  <a:pt x="540227" y="419"/>
                </a:moveTo>
                <a:lnTo>
                  <a:pt x="499697" y="6247"/>
                </a:lnTo>
                <a:lnTo>
                  <a:pt x="467505" y="28899"/>
                </a:lnTo>
                <a:lnTo>
                  <a:pt x="451551" y="64681"/>
                </a:lnTo>
                <a:lnTo>
                  <a:pt x="449858" y="280282"/>
                </a:lnTo>
                <a:lnTo>
                  <a:pt x="450657" y="292296"/>
                </a:lnTo>
                <a:lnTo>
                  <a:pt x="465700" y="330144"/>
                </a:lnTo>
                <a:lnTo>
                  <a:pt x="505779" y="355504"/>
                </a:lnTo>
                <a:lnTo>
                  <a:pt x="520983" y="357958"/>
                </a:lnTo>
                <a:lnTo>
                  <a:pt x="540391" y="357201"/>
                </a:lnTo>
                <a:lnTo>
                  <a:pt x="580068" y="346482"/>
                </a:lnTo>
                <a:lnTo>
                  <a:pt x="610062" y="309023"/>
                </a:lnTo>
                <a:lnTo>
                  <a:pt x="538078" y="309023"/>
                </a:lnTo>
                <a:lnTo>
                  <a:pt x="520078" y="306880"/>
                </a:lnTo>
                <a:lnTo>
                  <a:pt x="509885" y="301396"/>
                </a:lnTo>
                <a:lnTo>
                  <a:pt x="502423" y="288464"/>
                </a:lnTo>
                <a:lnTo>
                  <a:pt x="499834" y="276606"/>
                </a:lnTo>
                <a:lnTo>
                  <a:pt x="499535" y="94564"/>
                </a:lnTo>
                <a:lnTo>
                  <a:pt x="500049" y="81637"/>
                </a:lnTo>
                <a:lnTo>
                  <a:pt x="502884" y="69159"/>
                </a:lnTo>
                <a:lnTo>
                  <a:pt x="512784" y="57007"/>
                </a:lnTo>
                <a:lnTo>
                  <a:pt x="522900" y="50536"/>
                </a:lnTo>
                <a:lnTo>
                  <a:pt x="609275" y="50536"/>
                </a:lnTo>
                <a:lnTo>
                  <a:pt x="604925" y="40226"/>
                </a:lnTo>
                <a:lnTo>
                  <a:pt x="575413" y="11825"/>
                </a:lnTo>
                <a:lnTo>
                  <a:pt x="551753" y="2382"/>
                </a:lnTo>
                <a:lnTo>
                  <a:pt x="540227" y="419"/>
                </a:lnTo>
                <a:close/>
              </a:path>
              <a:path w="4246245" h="358139">
                <a:moveTo>
                  <a:pt x="615981" y="256794"/>
                </a:moveTo>
                <a:lnTo>
                  <a:pt x="566223" y="256794"/>
                </a:lnTo>
                <a:lnTo>
                  <a:pt x="566223" y="269227"/>
                </a:lnTo>
                <a:lnTo>
                  <a:pt x="564213" y="286585"/>
                </a:lnTo>
                <a:lnTo>
                  <a:pt x="560313" y="295992"/>
                </a:lnTo>
                <a:lnTo>
                  <a:pt x="550314" y="304855"/>
                </a:lnTo>
                <a:lnTo>
                  <a:pt x="538078" y="309023"/>
                </a:lnTo>
                <a:lnTo>
                  <a:pt x="610062" y="309023"/>
                </a:lnTo>
                <a:lnTo>
                  <a:pt x="610283" y="308502"/>
                </a:lnTo>
                <a:lnTo>
                  <a:pt x="613934" y="294514"/>
                </a:lnTo>
                <a:lnTo>
                  <a:pt x="615833" y="277747"/>
                </a:lnTo>
                <a:lnTo>
                  <a:pt x="615981" y="256794"/>
                </a:lnTo>
                <a:close/>
              </a:path>
              <a:path w="4246245" h="358139">
                <a:moveTo>
                  <a:pt x="609275" y="50536"/>
                </a:moveTo>
                <a:lnTo>
                  <a:pt x="522900" y="50536"/>
                </a:lnTo>
                <a:lnTo>
                  <a:pt x="543305" y="51627"/>
                </a:lnTo>
                <a:lnTo>
                  <a:pt x="554529" y="56135"/>
                </a:lnTo>
                <a:lnTo>
                  <a:pt x="559465" y="60828"/>
                </a:lnTo>
                <a:lnTo>
                  <a:pt x="564229" y="67690"/>
                </a:lnTo>
                <a:lnTo>
                  <a:pt x="566108" y="76598"/>
                </a:lnTo>
                <a:lnTo>
                  <a:pt x="566223" y="104012"/>
                </a:lnTo>
                <a:lnTo>
                  <a:pt x="614495" y="104012"/>
                </a:lnTo>
                <a:lnTo>
                  <a:pt x="614495" y="80124"/>
                </a:lnTo>
                <a:lnTo>
                  <a:pt x="613303" y="65602"/>
                </a:lnTo>
                <a:lnTo>
                  <a:pt x="609984" y="52216"/>
                </a:lnTo>
                <a:lnTo>
                  <a:pt x="609275" y="50536"/>
                </a:lnTo>
                <a:close/>
              </a:path>
              <a:path w="4246245" h="358139">
                <a:moveTo>
                  <a:pt x="738892" y="52260"/>
                </a:moveTo>
                <a:lnTo>
                  <a:pt x="689133" y="52260"/>
                </a:lnTo>
                <a:lnTo>
                  <a:pt x="689133" y="353326"/>
                </a:lnTo>
                <a:lnTo>
                  <a:pt x="738892" y="353326"/>
                </a:lnTo>
                <a:lnTo>
                  <a:pt x="738892" y="52260"/>
                </a:lnTo>
                <a:close/>
              </a:path>
              <a:path w="4246245" h="358139">
                <a:moveTo>
                  <a:pt x="800601" y="4978"/>
                </a:moveTo>
                <a:lnTo>
                  <a:pt x="627424" y="4978"/>
                </a:lnTo>
                <a:lnTo>
                  <a:pt x="627424" y="52260"/>
                </a:lnTo>
                <a:lnTo>
                  <a:pt x="800601" y="52260"/>
                </a:lnTo>
                <a:lnTo>
                  <a:pt x="800601" y="4978"/>
                </a:lnTo>
                <a:close/>
              </a:path>
              <a:path w="4246245" h="358139">
                <a:moveTo>
                  <a:pt x="979747" y="4978"/>
                </a:moveTo>
                <a:lnTo>
                  <a:pt x="831957" y="4978"/>
                </a:lnTo>
                <a:lnTo>
                  <a:pt x="831957" y="353326"/>
                </a:lnTo>
                <a:lnTo>
                  <a:pt x="981246" y="353326"/>
                </a:lnTo>
                <a:lnTo>
                  <a:pt x="981246" y="306057"/>
                </a:lnTo>
                <a:lnTo>
                  <a:pt x="881716" y="306057"/>
                </a:lnTo>
                <a:lnTo>
                  <a:pt x="881716" y="199555"/>
                </a:lnTo>
                <a:lnTo>
                  <a:pt x="968305" y="199555"/>
                </a:lnTo>
                <a:lnTo>
                  <a:pt x="968305" y="154774"/>
                </a:lnTo>
                <a:lnTo>
                  <a:pt x="881716" y="154774"/>
                </a:lnTo>
                <a:lnTo>
                  <a:pt x="881716" y="52260"/>
                </a:lnTo>
                <a:lnTo>
                  <a:pt x="979747" y="52260"/>
                </a:lnTo>
                <a:lnTo>
                  <a:pt x="979747" y="4978"/>
                </a:lnTo>
                <a:close/>
              </a:path>
              <a:path w="4246245" h="358139">
                <a:moveTo>
                  <a:pt x="1078274" y="4978"/>
                </a:moveTo>
                <a:lnTo>
                  <a:pt x="1028515" y="4978"/>
                </a:lnTo>
                <a:lnTo>
                  <a:pt x="1028515" y="353326"/>
                </a:lnTo>
                <a:lnTo>
                  <a:pt x="1078274" y="353326"/>
                </a:lnTo>
                <a:lnTo>
                  <a:pt x="1078274" y="135369"/>
                </a:lnTo>
                <a:lnTo>
                  <a:pt x="1124893" y="135369"/>
                </a:lnTo>
                <a:lnTo>
                  <a:pt x="1078274" y="4978"/>
                </a:lnTo>
                <a:close/>
              </a:path>
              <a:path w="4246245" h="358139">
                <a:moveTo>
                  <a:pt x="1263897" y="135369"/>
                </a:moveTo>
                <a:lnTo>
                  <a:pt x="1214139" y="135369"/>
                </a:lnTo>
                <a:lnTo>
                  <a:pt x="1214139" y="353326"/>
                </a:lnTo>
                <a:lnTo>
                  <a:pt x="1263897" y="353326"/>
                </a:lnTo>
                <a:lnTo>
                  <a:pt x="1263897" y="135369"/>
                </a:lnTo>
                <a:close/>
              </a:path>
              <a:path w="4246245" h="358139">
                <a:moveTo>
                  <a:pt x="1124893" y="135369"/>
                </a:moveTo>
                <a:lnTo>
                  <a:pt x="1080763" y="135369"/>
                </a:lnTo>
                <a:lnTo>
                  <a:pt x="1133024" y="292620"/>
                </a:lnTo>
                <a:lnTo>
                  <a:pt x="1159389" y="292620"/>
                </a:lnTo>
                <a:lnTo>
                  <a:pt x="1191141" y="197078"/>
                </a:lnTo>
                <a:lnTo>
                  <a:pt x="1146956" y="197078"/>
                </a:lnTo>
                <a:lnTo>
                  <a:pt x="1124893" y="135369"/>
                </a:lnTo>
                <a:close/>
              </a:path>
              <a:path w="4246245" h="358139">
                <a:moveTo>
                  <a:pt x="1263897" y="4978"/>
                </a:moveTo>
                <a:lnTo>
                  <a:pt x="1214139" y="4978"/>
                </a:lnTo>
                <a:lnTo>
                  <a:pt x="1148949" y="197078"/>
                </a:lnTo>
                <a:lnTo>
                  <a:pt x="1191141" y="197078"/>
                </a:lnTo>
                <a:lnTo>
                  <a:pt x="1211649" y="135369"/>
                </a:lnTo>
                <a:lnTo>
                  <a:pt x="1263897" y="135369"/>
                </a:lnTo>
                <a:lnTo>
                  <a:pt x="1263897" y="4978"/>
                </a:lnTo>
                <a:close/>
              </a:path>
              <a:path w="4246245" h="358139">
                <a:moveTo>
                  <a:pt x="1418659" y="4978"/>
                </a:moveTo>
                <a:lnTo>
                  <a:pt x="1374870" y="4978"/>
                </a:lnTo>
                <a:lnTo>
                  <a:pt x="1298733" y="353326"/>
                </a:lnTo>
                <a:lnTo>
                  <a:pt x="1348492" y="353326"/>
                </a:lnTo>
                <a:lnTo>
                  <a:pt x="1364913" y="278688"/>
                </a:lnTo>
                <a:lnTo>
                  <a:pt x="1478483" y="278688"/>
                </a:lnTo>
                <a:lnTo>
                  <a:pt x="1468801" y="234391"/>
                </a:lnTo>
                <a:lnTo>
                  <a:pt x="1369891" y="234391"/>
                </a:lnTo>
                <a:lnTo>
                  <a:pt x="1395774" y="102019"/>
                </a:lnTo>
                <a:lnTo>
                  <a:pt x="1439869" y="102019"/>
                </a:lnTo>
                <a:lnTo>
                  <a:pt x="1418659" y="4978"/>
                </a:lnTo>
                <a:close/>
              </a:path>
              <a:path w="4246245" h="358139">
                <a:moveTo>
                  <a:pt x="1478483" y="278688"/>
                </a:moveTo>
                <a:lnTo>
                  <a:pt x="1428616" y="278688"/>
                </a:lnTo>
                <a:lnTo>
                  <a:pt x="1445037" y="353326"/>
                </a:lnTo>
                <a:lnTo>
                  <a:pt x="1494796" y="353326"/>
                </a:lnTo>
                <a:lnTo>
                  <a:pt x="1478483" y="278688"/>
                </a:lnTo>
                <a:close/>
              </a:path>
              <a:path w="4246245" h="358139">
                <a:moveTo>
                  <a:pt x="1439869" y="102019"/>
                </a:moveTo>
                <a:lnTo>
                  <a:pt x="1395774" y="102019"/>
                </a:lnTo>
                <a:lnTo>
                  <a:pt x="1422647" y="234391"/>
                </a:lnTo>
                <a:lnTo>
                  <a:pt x="1468801" y="234391"/>
                </a:lnTo>
                <a:lnTo>
                  <a:pt x="1439869" y="102019"/>
                </a:lnTo>
                <a:close/>
              </a:path>
              <a:path w="4246245" h="358139">
                <a:moveTo>
                  <a:pt x="1808308" y="4978"/>
                </a:moveTo>
                <a:lnTo>
                  <a:pt x="1644084" y="4978"/>
                </a:lnTo>
                <a:lnTo>
                  <a:pt x="1644084" y="353326"/>
                </a:lnTo>
                <a:lnTo>
                  <a:pt x="1693843" y="353326"/>
                </a:lnTo>
                <a:lnTo>
                  <a:pt x="1693843" y="49771"/>
                </a:lnTo>
                <a:lnTo>
                  <a:pt x="1808308" y="49771"/>
                </a:lnTo>
                <a:lnTo>
                  <a:pt x="1808308" y="4978"/>
                </a:lnTo>
                <a:close/>
              </a:path>
              <a:path w="4246245" h="358139">
                <a:moveTo>
                  <a:pt x="1808308" y="49771"/>
                </a:moveTo>
                <a:lnTo>
                  <a:pt x="1758537" y="49771"/>
                </a:lnTo>
                <a:lnTo>
                  <a:pt x="1758537" y="353326"/>
                </a:lnTo>
                <a:lnTo>
                  <a:pt x="1808308" y="353326"/>
                </a:lnTo>
                <a:lnTo>
                  <a:pt x="1808308" y="49771"/>
                </a:lnTo>
                <a:close/>
              </a:path>
              <a:path w="4246245" h="358139">
                <a:moveTo>
                  <a:pt x="2015826" y="4978"/>
                </a:moveTo>
                <a:lnTo>
                  <a:pt x="1868023" y="4978"/>
                </a:lnTo>
                <a:lnTo>
                  <a:pt x="1868023" y="353326"/>
                </a:lnTo>
                <a:lnTo>
                  <a:pt x="2017312" y="353326"/>
                </a:lnTo>
                <a:lnTo>
                  <a:pt x="2017312" y="306057"/>
                </a:lnTo>
                <a:lnTo>
                  <a:pt x="1917782" y="306057"/>
                </a:lnTo>
                <a:lnTo>
                  <a:pt x="1917782" y="199555"/>
                </a:lnTo>
                <a:lnTo>
                  <a:pt x="2004371" y="199555"/>
                </a:lnTo>
                <a:lnTo>
                  <a:pt x="2004371" y="154774"/>
                </a:lnTo>
                <a:lnTo>
                  <a:pt x="1917782" y="154774"/>
                </a:lnTo>
                <a:lnTo>
                  <a:pt x="1917782" y="52260"/>
                </a:lnTo>
                <a:lnTo>
                  <a:pt x="2015826" y="52260"/>
                </a:lnTo>
                <a:lnTo>
                  <a:pt x="2015826" y="4978"/>
                </a:lnTo>
                <a:close/>
              </a:path>
              <a:path w="4246245" h="358139">
                <a:moveTo>
                  <a:pt x="2064581" y="4978"/>
                </a:moveTo>
                <a:lnTo>
                  <a:pt x="2064581" y="353326"/>
                </a:lnTo>
                <a:lnTo>
                  <a:pt x="2114353" y="353326"/>
                </a:lnTo>
                <a:lnTo>
                  <a:pt x="2114353" y="215480"/>
                </a:lnTo>
                <a:lnTo>
                  <a:pt x="2143715" y="215480"/>
                </a:lnTo>
                <a:lnTo>
                  <a:pt x="2191701" y="204837"/>
                </a:lnTo>
                <a:lnTo>
                  <a:pt x="2221867" y="170700"/>
                </a:lnTo>
                <a:lnTo>
                  <a:pt x="2114353" y="170700"/>
                </a:lnTo>
                <a:lnTo>
                  <a:pt x="2114353" y="49771"/>
                </a:lnTo>
                <a:lnTo>
                  <a:pt x="2223391" y="49771"/>
                </a:lnTo>
                <a:lnTo>
                  <a:pt x="2221613" y="45765"/>
                </a:lnTo>
                <a:lnTo>
                  <a:pt x="2188501" y="14835"/>
                </a:lnTo>
                <a:lnTo>
                  <a:pt x="2142390" y="4992"/>
                </a:lnTo>
                <a:lnTo>
                  <a:pt x="2064581" y="4978"/>
                </a:lnTo>
                <a:close/>
              </a:path>
              <a:path w="4246245" h="358139">
                <a:moveTo>
                  <a:pt x="2223391" y="49771"/>
                </a:moveTo>
                <a:lnTo>
                  <a:pt x="2131764" y="49771"/>
                </a:lnTo>
                <a:lnTo>
                  <a:pt x="2144596" y="49954"/>
                </a:lnTo>
                <a:lnTo>
                  <a:pt x="2157156" y="51834"/>
                </a:lnTo>
                <a:lnTo>
                  <a:pt x="2168874" y="57405"/>
                </a:lnTo>
                <a:lnTo>
                  <a:pt x="2178687" y="69094"/>
                </a:lnTo>
                <a:lnTo>
                  <a:pt x="2182960" y="81542"/>
                </a:lnTo>
                <a:lnTo>
                  <a:pt x="2183992" y="93484"/>
                </a:lnTo>
                <a:lnTo>
                  <a:pt x="2183992" y="123809"/>
                </a:lnTo>
                <a:lnTo>
                  <a:pt x="2168303" y="160617"/>
                </a:lnTo>
                <a:lnTo>
                  <a:pt x="2114353" y="170700"/>
                </a:lnTo>
                <a:lnTo>
                  <a:pt x="2221867" y="170700"/>
                </a:lnTo>
                <a:lnTo>
                  <a:pt x="2233002" y="133909"/>
                </a:lnTo>
                <a:lnTo>
                  <a:pt x="2233783" y="107492"/>
                </a:lnTo>
                <a:lnTo>
                  <a:pt x="2233548" y="95426"/>
                </a:lnTo>
                <a:lnTo>
                  <a:pt x="2232591" y="82978"/>
                </a:lnTo>
                <a:lnTo>
                  <a:pt x="2230534" y="70391"/>
                </a:lnTo>
                <a:lnTo>
                  <a:pt x="2227000" y="57906"/>
                </a:lnTo>
                <a:lnTo>
                  <a:pt x="2223391" y="49771"/>
                </a:lnTo>
                <a:close/>
              </a:path>
              <a:path w="4246245" h="358139">
                <a:moveTo>
                  <a:pt x="2364045" y="419"/>
                </a:moveTo>
                <a:lnTo>
                  <a:pt x="2323517" y="6247"/>
                </a:lnTo>
                <a:lnTo>
                  <a:pt x="2291320" y="28900"/>
                </a:lnTo>
                <a:lnTo>
                  <a:pt x="2275360" y="64679"/>
                </a:lnTo>
                <a:lnTo>
                  <a:pt x="2273668" y="280283"/>
                </a:lnTo>
                <a:lnTo>
                  <a:pt x="2274471" y="292297"/>
                </a:lnTo>
                <a:lnTo>
                  <a:pt x="2289524" y="330147"/>
                </a:lnTo>
                <a:lnTo>
                  <a:pt x="2329603" y="355505"/>
                </a:lnTo>
                <a:lnTo>
                  <a:pt x="2344809" y="357958"/>
                </a:lnTo>
                <a:lnTo>
                  <a:pt x="2364216" y="357201"/>
                </a:lnTo>
                <a:lnTo>
                  <a:pt x="2403886" y="346481"/>
                </a:lnTo>
                <a:lnTo>
                  <a:pt x="2433884" y="309023"/>
                </a:lnTo>
                <a:lnTo>
                  <a:pt x="2361900" y="309023"/>
                </a:lnTo>
                <a:lnTo>
                  <a:pt x="2343894" y="306880"/>
                </a:lnTo>
                <a:lnTo>
                  <a:pt x="2333704" y="301396"/>
                </a:lnTo>
                <a:lnTo>
                  <a:pt x="2326243" y="288464"/>
                </a:lnTo>
                <a:lnTo>
                  <a:pt x="2323656" y="276606"/>
                </a:lnTo>
                <a:lnTo>
                  <a:pt x="2323357" y="94564"/>
                </a:lnTo>
                <a:lnTo>
                  <a:pt x="2323871" y="81637"/>
                </a:lnTo>
                <a:lnTo>
                  <a:pt x="2326706" y="69159"/>
                </a:lnTo>
                <a:lnTo>
                  <a:pt x="2336605" y="57007"/>
                </a:lnTo>
                <a:lnTo>
                  <a:pt x="2346721" y="50536"/>
                </a:lnTo>
                <a:lnTo>
                  <a:pt x="2433089" y="50536"/>
                </a:lnTo>
                <a:lnTo>
                  <a:pt x="2428741" y="40223"/>
                </a:lnTo>
                <a:lnTo>
                  <a:pt x="2399233" y="11824"/>
                </a:lnTo>
                <a:lnTo>
                  <a:pt x="2375572" y="2381"/>
                </a:lnTo>
                <a:lnTo>
                  <a:pt x="2364045" y="419"/>
                </a:lnTo>
                <a:close/>
              </a:path>
              <a:path w="4246245" h="358139">
                <a:moveTo>
                  <a:pt x="2439803" y="256794"/>
                </a:moveTo>
                <a:lnTo>
                  <a:pt x="2390044" y="256794"/>
                </a:lnTo>
                <a:lnTo>
                  <a:pt x="2390044" y="269227"/>
                </a:lnTo>
                <a:lnTo>
                  <a:pt x="2388035" y="286585"/>
                </a:lnTo>
                <a:lnTo>
                  <a:pt x="2384135" y="295992"/>
                </a:lnTo>
                <a:lnTo>
                  <a:pt x="2374136" y="304855"/>
                </a:lnTo>
                <a:lnTo>
                  <a:pt x="2361900" y="309023"/>
                </a:lnTo>
                <a:lnTo>
                  <a:pt x="2433884" y="309023"/>
                </a:lnTo>
                <a:lnTo>
                  <a:pt x="2434105" y="308501"/>
                </a:lnTo>
                <a:lnTo>
                  <a:pt x="2437756" y="294513"/>
                </a:lnTo>
                <a:lnTo>
                  <a:pt x="2439655" y="277744"/>
                </a:lnTo>
                <a:lnTo>
                  <a:pt x="2439803" y="256794"/>
                </a:lnTo>
                <a:close/>
              </a:path>
              <a:path w="4246245" h="358139">
                <a:moveTo>
                  <a:pt x="2433089" y="50536"/>
                </a:moveTo>
                <a:lnTo>
                  <a:pt x="2346721" y="50536"/>
                </a:lnTo>
                <a:lnTo>
                  <a:pt x="2367121" y="51627"/>
                </a:lnTo>
                <a:lnTo>
                  <a:pt x="2378348" y="56135"/>
                </a:lnTo>
                <a:lnTo>
                  <a:pt x="2383287" y="60828"/>
                </a:lnTo>
                <a:lnTo>
                  <a:pt x="2388050" y="67690"/>
                </a:lnTo>
                <a:lnTo>
                  <a:pt x="2389930" y="76596"/>
                </a:lnTo>
                <a:lnTo>
                  <a:pt x="2390044" y="104012"/>
                </a:lnTo>
                <a:lnTo>
                  <a:pt x="2438304" y="104012"/>
                </a:lnTo>
                <a:lnTo>
                  <a:pt x="2438304" y="80124"/>
                </a:lnTo>
                <a:lnTo>
                  <a:pt x="2437113" y="65600"/>
                </a:lnTo>
                <a:lnTo>
                  <a:pt x="2433797" y="52214"/>
                </a:lnTo>
                <a:lnTo>
                  <a:pt x="2433089" y="50536"/>
                </a:lnTo>
                <a:close/>
              </a:path>
              <a:path w="4246245" h="358139">
                <a:moveTo>
                  <a:pt x="2502503" y="4978"/>
                </a:moveTo>
                <a:lnTo>
                  <a:pt x="2445772" y="4978"/>
                </a:lnTo>
                <a:lnTo>
                  <a:pt x="2523902" y="247332"/>
                </a:lnTo>
                <a:lnTo>
                  <a:pt x="2517438" y="276694"/>
                </a:lnTo>
                <a:lnTo>
                  <a:pt x="2515939" y="283159"/>
                </a:lnTo>
                <a:lnTo>
                  <a:pt x="2511469" y="293611"/>
                </a:lnTo>
                <a:lnTo>
                  <a:pt x="2507481" y="297599"/>
                </a:lnTo>
                <a:lnTo>
                  <a:pt x="2503011" y="302577"/>
                </a:lnTo>
                <a:lnTo>
                  <a:pt x="2494540" y="306057"/>
                </a:lnTo>
                <a:lnTo>
                  <a:pt x="2472150" y="306057"/>
                </a:lnTo>
                <a:lnTo>
                  <a:pt x="2472150" y="353326"/>
                </a:lnTo>
                <a:lnTo>
                  <a:pt x="2490069" y="353326"/>
                </a:lnTo>
                <a:lnTo>
                  <a:pt x="2501770" y="353008"/>
                </a:lnTo>
                <a:lnTo>
                  <a:pt x="2537572" y="339288"/>
                </a:lnTo>
                <a:lnTo>
                  <a:pt x="2564248" y="296375"/>
                </a:lnTo>
                <a:lnTo>
                  <a:pt x="2578160" y="244781"/>
                </a:lnTo>
                <a:lnTo>
                  <a:pt x="2595367" y="175679"/>
                </a:lnTo>
                <a:lnTo>
                  <a:pt x="2550280" y="175679"/>
                </a:lnTo>
                <a:lnTo>
                  <a:pt x="2502503" y="4978"/>
                </a:lnTo>
                <a:close/>
              </a:path>
              <a:path w="4246245" h="358139">
                <a:moveTo>
                  <a:pt x="2637872" y="4978"/>
                </a:moveTo>
                <a:lnTo>
                  <a:pt x="2586615" y="4978"/>
                </a:lnTo>
                <a:lnTo>
                  <a:pt x="2564707" y="104508"/>
                </a:lnTo>
                <a:lnTo>
                  <a:pt x="2557319" y="142717"/>
                </a:lnTo>
                <a:lnTo>
                  <a:pt x="2552977" y="168214"/>
                </a:lnTo>
                <a:lnTo>
                  <a:pt x="2550280" y="175679"/>
                </a:lnTo>
                <a:lnTo>
                  <a:pt x="2595367" y="175679"/>
                </a:lnTo>
                <a:lnTo>
                  <a:pt x="2637872" y="4978"/>
                </a:lnTo>
                <a:close/>
              </a:path>
              <a:path w="4246245" h="358139">
                <a:moveTo>
                  <a:pt x="2818009" y="209668"/>
                </a:moveTo>
                <a:lnTo>
                  <a:pt x="2766483" y="209668"/>
                </a:lnTo>
                <a:lnTo>
                  <a:pt x="2768238" y="353326"/>
                </a:lnTo>
                <a:lnTo>
                  <a:pt x="2818009" y="353326"/>
                </a:lnTo>
                <a:lnTo>
                  <a:pt x="2818009" y="209668"/>
                </a:lnTo>
                <a:close/>
              </a:path>
              <a:path w="4246245" h="358139">
                <a:moveTo>
                  <a:pt x="2706541" y="4978"/>
                </a:moveTo>
                <a:lnTo>
                  <a:pt x="2656770" y="4978"/>
                </a:lnTo>
                <a:lnTo>
                  <a:pt x="2656770" y="132880"/>
                </a:lnTo>
                <a:lnTo>
                  <a:pt x="2665837" y="182501"/>
                </a:lnTo>
                <a:lnTo>
                  <a:pt x="2699416" y="211247"/>
                </a:lnTo>
                <a:lnTo>
                  <a:pt x="2733942" y="215064"/>
                </a:lnTo>
                <a:lnTo>
                  <a:pt x="2747899" y="214047"/>
                </a:lnTo>
                <a:lnTo>
                  <a:pt x="2758290" y="212169"/>
                </a:lnTo>
                <a:lnTo>
                  <a:pt x="2766483" y="209668"/>
                </a:lnTo>
                <a:lnTo>
                  <a:pt x="2818009" y="209668"/>
                </a:lnTo>
                <a:lnTo>
                  <a:pt x="2818009" y="171131"/>
                </a:lnTo>
                <a:lnTo>
                  <a:pt x="2743639" y="171131"/>
                </a:lnTo>
                <a:lnTo>
                  <a:pt x="2730211" y="169955"/>
                </a:lnTo>
                <a:lnTo>
                  <a:pt x="2718777" y="164796"/>
                </a:lnTo>
                <a:lnTo>
                  <a:pt x="2711015" y="152476"/>
                </a:lnTo>
                <a:lnTo>
                  <a:pt x="2707515" y="139170"/>
                </a:lnTo>
                <a:lnTo>
                  <a:pt x="2706578" y="127008"/>
                </a:lnTo>
                <a:lnTo>
                  <a:pt x="2706541" y="4978"/>
                </a:lnTo>
                <a:close/>
              </a:path>
              <a:path w="4246245" h="358139">
                <a:moveTo>
                  <a:pt x="2818009" y="4978"/>
                </a:moveTo>
                <a:lnTo>
                  <a:pt x="2768238" y="4978"/>
                </a:lnTo>
                <a:lnTo>
                  <a:pt x="2768238" y="164223"/>
                </a:lnTo>
                <a:lnTo>
                  <a:pt x="2755908" y="169367"/>
                </a:lnTo>
                <a:lnTo>
                  <a:pt x="2743639" y="171131"/>
                </a:lnTo>
                <a:lnTo>
                  <a:pt x="2818009" y="171131"/>
                </a:lnTo>
                <a:lnTo>
                  <a:pt x="2818009" y="4978"/>
                </a:lnTo>
                <a:close/>
              </a:path>
              <a:path w="4246245" h="358139">
                <a:moveTo>
                  <a:pt x="3025514" y="4978"/>
                </a:moveTo>
                <a:lnTo>
                  <a:pt x="2877724" y="4978"/>
                </a:lnTo>
                <a:lnTo>
                  <a:pt x="2877724" y="353326"/>
                </a:lnTo>
                <a:lnTo>
                  <a:pt x="3027013" y="353326"/>
                </a:lnTo>
                <a:lnTo>
                  <a:pt x="3027013" y="306057"/>
                </a:lnTo>
                <a:lnTo>
                  <a:pt x="2927483" y="306057"/>
                </a:lnTo>
                <a:lnTo>
                  <a:pt x="2927483" y="199555"/>
                </a:lnTo>
                <a:lnTo>
                  <a:pt x="3014071" y="199555"/>
                </a:lnTo>
                <a:lnTo>
                  <a:pt x="3014071" y="154774"/>
                </a:lnTo>
                <a:lnTo>
                  <a:pt x="2927483" y="154774"/>
                </a:lnTo>
                <a:lnTo>
                  <a:pt x="2927483" y="52260"/>
                </a:lnTo>
                <a:lnTo>
                  <a:pt x="3025514" y="52260"/>
                </a:lnTo>
                <a:lnTo>
                  <a:pt x="3025514" y="4978"/>
                </a:lnTo>
                <a:close/>
              </a:path>
              <a:path w="4246245" h="358139">
                <a:moveTo>
                  <a:pt x="3157391" y="52260"/>
                </a:moveTo>
                <a:lnTo>
                  <a:pt x="3107620" y="52260"/>
                </a:lnTo>
                <a:lnTo>
                  <a:pt x="3107620" y="353326"/>
                </a:lnTo>
                <a:lnTo>
                  <a:pt x="3157391" y="353326"/>
                </a:lnTo>
                <a:lnTo>
                  <a:pt x="3157391" y="52260"/>
                </a:lnTo>
                <a:close/>
              </a:path>
              <a:path w="4246245" h="358139">
                <a:moveTo>
                  <a:pt x="3324091" y="4978"/>
                </a:moveTo>
                <a:lnTo>
                  <a:pt x="3280302" y="4978"/>
                </a:lnTo>
                <a:lnTo>
                  <a:pt x="3204165" y="353326"/>
                </a:lnTo>
                <a:lnTo>
                  <a:pt x="3253924" y="353326"/>
                </a:lnTo>
                <a:lnTo>
                  <a:pt x="3270345" y="278688"/>
                </a:lnTo>
                <a:lnTo>
                  <a:pt x="3383914" y="278688"/>
                </a:lnTo>
                <a:lnTo>
                  <a:pt x="3374233" y="234391"/>
                </a:lnTo>
                <a:lnTo>
                  <a:pt x="3275323" y="234391"/>
                </a:lnTo>
                <a:lnTo>
                  <a:pt x="3301206" y="102019"/>
                </a:lnTo>
                <a:lnTo>
                  <a:pt x="3345301" y="102019"/>
                </a:lnTo>
                <a:lnTo>
                  <a:pt x="3324091" y="4978"/>
                </a:lnTo>
                <a:close/>
              </a:path>
              <a:path w="4246245" h="358139">
                <a:moveTo>
                  <a:pt x="3383914" y="278688"/>
                </a:moveTo>
                <a:lnTo>
                  <a:pt x="3334048" y="278688"/>
                </a:lnTo>
                <a:lnTo>
                  <a:pt x="3350469" y="353326"/>
                </a:lnTo>
                <a:lnTo>
                  <a:pt x="3400228" y="353326"/>
                </a:lnTo>
                <a:lnTo>
                  <a:pt x="3383914" y="278688"/>
                </a:lnTo>
                <a:close/>
              </a:path>
              <a:path w="4246245" h="358139">
                <a:moveTo>
                  <a:pt x="3345301" y="102019"/>
                </a:moveTo>
                <a:lnTo>
                  <a:pt x="3301206" y="102019"/>
                </a:lnTo>
                <a:lnTo>
                  <a:pt x="3328079" y="234391"/>
                </a:lnTo>
                <a:lnTo>
                  <a:pt x="3374233" y="234391"/>
                </a:lnTo>
                <a:lnTo>
                  <a:pt x="3345301" y="102019"/>
                </a:lnTo>
                <a:close/>
              </a:path>
              <a:path w="4246245" h="358139">
                <a:moveTo>
                  <a:pt x="3219100" y="4978"/>
                </a:moveTo>
                <a:lnTo>
                  <a:pt x="3045910" y="4978"/>
                </a:lnTo>
                <a:lnTo>
                  <a:pt x="3045910" y="52260"/>
                </a:lnTo>
                <a:lnTo>
                  <a:pt x="3219100" y="52260"/>
                </a:lnTo>
                <a:lnTo>
                  <a:pt x="3219100" y="4978"/>
                </a:lnTo>
                <a:close/>
              </a:path>
              <a:path w="4246245" h="358139">
                <a:moveTo>
                  <a:pt x="3713740" y="4978"/>
                </a:moveTo>
                <a:lnTo>
                  <a:pt x="3549516" y="4978"/>
                </a:lnTo>
                <a:lnTo>
                  <a:pt x="3549516" y="353326"/>
                </a:lnTo>
                <a:lnTo>
                  <a:pt x="3599275" y="353326"/>
                </a:lnTo>
                <a:lnTo>
                  <a:pt x="3599275" y="49771"/>
                </a:lnTo>
                <a:lnTo>
                  <a:pt x="3713740" y="49771"/>
                </a:lnTo>
                <a:lnTo>
                  <a:pt x="3713740" y="4978"/>
                </a:lnTo>
                <a:close/>
              </a:path>
              <a:path w="4246245" h="358139">
                <a:moveTo>
                  <a:pt x="3713740" y="49771"/>
                </a:moveTo>
                <a:lnTo>
                  <a:pt x="3663969" y="49771"/>
                </a:lnTo>
                <a:lnTo>
                  <a:pt x="3663969" y="353326"/>
                </a:lnTo>
                <a:lnTo>
                  <a:pt x="3713740" y="353326"/>
                </a:lnTo>
                <a:lnTo>
                  <a:pt x="3713740" y="49771"/>
                </a:lnTo>
                <a:close/>
              </a:path>
              <a:path w="4246245" h="358139">
                <a:moveTo>
                  <a:pt x="3920255" y="0"/>
                </a:moveTo>
                <a:lnTo>
                  <a:pt x="3870496" y="0"/>
                </a:lnTo>
                <a:lnTo>
                  <a:pt x="3870496" y="44792"/>
                </a:lnTo>
                <a:lnTo>
                  <a:pt x="3858545" y="44792"/>
                </a:lnTo>
                <a:lnTo>
                  <a:pt x="3810057" y="52845"/>
                </a:lnTo>
                <a:lnTo>
                  <a:pt x="3777928" y="84974"/>
                </a:lnTo>
                <a:lnTo>
                  <a:pt x="3765193" y="120903"/>
                </a:lnTo>
                <a:lnTo>
                  <a:pt x="3763604" y="212001"/>
                </a:lnTo>
                <a:lnTo>
                  <a:pt x="3763754" y="218329"/>
                </a:lnTo>
                <a:lnTo>
                  <a:pt x="3771349" y="256037"/>
                </a:lnTo>
                <a:lnTo>
                  <a:pt x="3804439" y="292341"/>
                </a:lnTo>
                <a:lnTo>
                  <a:pt x="3848783" y="305967"/>
                </a:lnTo>
                <a:lnTo>
                  <a:pt x="3870496" y="306057"/>
                </a:lnTo>
                <a:lnTo>
                  <a:pt x="3870496" y="353326"/>
                </a:lnTo>
                <a:lnTo>
                  <a:pt x="3920255" y="353326"/>
                </a:lnTo>
                <a:lnTo>
                  <a:pt x="3920255" y="306057"/>
                </a:lnTo>
                <a:lnTo>
                  <a:pt x="3937184" y="306057"/>
                </a:lnTo>
                <a:lnTo>
                  <a:pt x="3982756" y="296197"/>
                </a:lnTo>
                <a:lnTo>
                  <a:pt x="4015294" y="260780"/>
                </a:lnTo>
                <a:lnTo>
                  <a:pt x="4015518" y="260273"/>
                </a:lnTo>
                <a:lnTo>
                  <a:pt x="3856069" y="260273"/>
                </a:lnTo>
                <a:lnTo>
                  <a:pt x="3844642" y="259586"/>
                </a:lnTo>
                <a:lnTo>
                  <a:pt x="3832402" y="255535"/>
                </a:lnTo>
                <a:lnTo>
                  <a:pt x="3820517" y="241597"/>
                </a:lnTo>
                <a:lnTo>
                  <a:pt x="3814965" y="230050"/>
                </a:lnTo>
                <a:lnTo>
                  <a:pt x="3813347" y="219896"/>
                </a:lnTo>
                <a:lnTo>
                  <a:pt x="3813426" y="132235"/>
                </a:lnTo>
                <a:lnTo>
                  <a:pt x="3835371" y="94659"/>
                </a:lnTo>
                <a:lnTo>
                  <a:pt x="4017080" y="90081"/>
                </a:lnTo>
                <a:lnTo>
                  <a:pt x="4015082" y="85578"/>
                </a:lnTo>
                <a:lnTo>
                  <a:pt x="3981969" y="54644"/>
                </a:lnTo>
                <a:lnTo>
                  <a:pt x="3935859" y="44806"/>
                </a:lnTo>
                <a:lnTo>
                  <a:pt x="3920255" y="44792"/>
                </a:lnTo>
                <a:lnTo>
                  <a:pt x="3920255" y="0"/>
                </a:lnTo>
                <a:close/>
              </a:path>
              <a:path w="4246245" h="358139">
                <a:moveTo>
                  <a:pt x="3920255" y="90081"/>
                </a:moveTo>
                <a:lnTo>
                  <a:pt x="3870496" y="90081"/>
                </a:lnTo>
                <a:lnTo>
                  <a:pt x="3870496" y="260273"/>
                </a:lnTo>
                <a:lnTo>
                  <a:pt x="3920255" y="260273"/>
                </a:lnTo>
                <a:lnTo>
                  <a:pt x="3920255" y="90081"/>
                </a:lnTo>
                <a:close/>
              </a:path>
              <a:path w="4246245" h="358139">
                <a:moveTo>
                  <a:pt x="4017080" y="90081"/>
                </a:moveTo>
                <a:lnTo>
                  <a:pt x="3925233" y="90081"/>
                </a:lnTo>
                <a:lnTo>
                  <a:pt x="3938065" y="90264"/>
                </a:lnTo>
                <a:lnTo>
                  <a:pt x="3950625" y="92143"/>
                </a:lnTo>
                <a:lnTo>
                  <a:pt x="3976428" y="121852"/>
                </a:lnTo>
                <a:lnTo>
                  <a:pt x="3977450" y="214756"/>
                </a:lnTo>
                <a:lnTo>
                  <a:pt x="3977344" y="224322"/>
                </a:lnTo>
                <a:lnTo>
                  <a:pt x="3950239" y="257793"/>
                </a:lnTo>
                <a:lnTo>
                  <a:pt x="3920255" y="260273"/>
                </a:lnTo>
                <a:lnTo>
                  <a:pt x="4015518" y="260273"/>
                </a:lnTo>
                <a:lnTo>
                  <a:pt x="4020931" y="248028"/>
                </a:lnTo>
                <a:lnTo>
                  <a:pt x="4024458" y="236009"/>
                </a:lnTo>
                <a:lnTo>
                  <a:pt x="4026361" y="224870"/>
                </a:lnTo>
                <a:lnTo>
                  <a:pt x="4027128" y="214756"/>
                </a:lnTo>
                <a:lnTo>
                  <a:pt x="4027017" y="135236"/>
                </a:lnTo>
                <a:lnTo>
                  <a:pt x="4026059" y="122787"/>
                </a:lnTo>
                <a:lnTo>
                  <a:pt x="4024002" y="110200"/>
                </a:lnTo>
                <a:lnTo>
                  <a:pt x="4020468" y="97714"/>
                </a:lnTo>
                <a:lnTo>
                  <a:pt x="4017080" y="90081"/>
                </a:lnTo>
                <a:close/>
              </a:path>
              <a:path w="4246245" h="358139">
                <a:moveTo>
                  <a:pt x="4077011" y="4978"/>
                </a:moveTo>
                <a:lnTo>
                  <a:pt x="4077011" y="353326"/>
                </a:lnTo>
                <a:lnTo>
                  <a:pt x="4126769" y="353326"/>
                </a:lnTo>
                <a:lnTo>
                  <a:pt x="4126769" y="215480"/>
                </a:lnTo>
                <a:lnTo>
                  <a:pt x="4156132" y="215480"/>
                </a:lnTo>
                <a:lnTo>
                  <a:pt x="4204123" y="204841"/>
                </a:lnTo>
                <a:lnTo>
                  <a:pt x="4234292" y="170700"/>
                </a:lnTo>
                <a:lnTo>
                  <a:pt x="4126769" y="170700"/>
                </a:lnTo>
                <a:lnTo>
                  <a:pt x="4126769" y="49771"/>
                </a:lnTo>
                <a:lnTo>
                  <a:pt x="4235812" y="49771"/>
                </a:lnTo>
                <a:lnTo>
                  <a:pt x="4234035" y="45765"/>
                </a:lnTo>
                <a:lnTo>
                  <a:pt x="4200925" y="14835"/>
                </a:lnTo>
                <a:lnTo>
                  <a:pt x="4154809" y="4992"/>
                </a:lnTo>
                <a:lnTo>
                  <a:pt x="4077011" y="4978"/>
                </a:lnTo>
                <a:close/>
              </a:path>
              <a:path w="4246245" h="358139">
                <a:moveTo>
                  <a:pt x="4235812" y="49771"/>
                </a:moveTo>
                <a:lnTo>
                  <a:pt x="4144194" y="49771"/>
                </a:lnTo>
                <a:lnTo>
                  <a:pt x="4157026" y="49954"/>
                </a:lnTo>
                <a:lnTo>
                  <a:pt x="4169586" y="51834"/>
                </a:lnTo>
                <a:lnTo>
                  <a:pt x="4181304" y="57405"/>
                </a:lnTo>
                <a:lnTo>
                  <a:pt x="4191112" y="69097"/>
                </a:lnTo>
                <a:lnTo>
                  <a:pt x="4195386" y="81547"/>
                </a:lnTo>
                <a:lnTo>
                  <a:pt x="4196421" y="93491"/>
                </a:lnTo>
                <a:lnTo>
                  <a:pt x="4196420" y="123813"/>
                </a:lnTo>
                <a:lnTo>
                  <a:pt x="4180729" y="160619"/>
                </a:lnTo>
                <a:lnTo>
                  <a:pt x="4126769" y="170700"/>
                </a:lnTo>
                <a:lnTo>
                  <a:pt x="4234292" y="170700"/>
                </a:lnTo>
                <a:lnTo>
                  <a:pt x="4245420" y="133913"/>
                </a:lnTo>
                <a:lnTo>
                  <a:pt x="4246200" y="107492"/>
                </a:lnTo>
                <a:lnTo>
                  <a:pt x="4245965" y="95426"/>
                </a:lnTo>
                <a:lnTo>
                  <a:pt x="4245010" y="82978"/>
                </a:lnTo>
                <a:lnTo>
                  <a:pt x="4242955" y="70391"/>
                </a:lnTo>
                <a:lnTo>
                  <a:pt x="4239422" y="57906"/>
                </a:lnTo>
                <a:lnTo>
                  <a:pt x="4235812" y="497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object 81"/>
          <p:cNvSpPr/>
          <p:nvPr/>
        </p:nvSpPr>
        <p:spPr>
          <a:xfrm>
            <a:off x="2608200" y="6075360"/>
            <a:ext cx="595440" cy="44928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Левая фигурная скобка 69"/>
          <p:cNvSpPr/>
          <p:nvPr/>
        </p:nvSpPr>
        <p:spPr>
          <a:xfrm rot="16200000">
            <a:off x="5308560" y="3484080"/>
            <a:ext cx="492120" cy="4270320"/>
          </a:xfrm>
          <a:custGeom>
            <a:avLst/>
            <a:gdLst>
              <a:gd name="textAreaLeft" fmla="*/ 314640 w 492120"/>
              <a:gd name="textAreaRight" fmla="*/ 492480 w 492120"/>
              <a:gd name="textAreaTop" fmla="*/ 12600 h 4270320"/>
              <a:gd name="textAreaBottom" fmla="*/ 4257720 h 427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4"/>
                  <a:pt x="10800" y="207"/>
                </a:cubicBezTo>
                <a:lnTo>
                  <a:pt x="10800" y="10593"/>
                </a:lnTo>
                <a:cubicBezTo>
                  <a:pt x="10800" y="10697"/>
                  <a:pt x="5400" y="10800"/>
                  <a:pt x="0" y="10800"/>
                </a:cubicBezTo>
                <a:cubicBezTo>
                  <a:pt x="5400" y="10800"/>
                  <a:pt x="10800" y="10904"/>
                  <a:pt x="10800" y="11007"/>
                </a:cubicBezTo>
                <a:lnTo>
                  <a:pt x="10800" y="21393"/>
                </a:lnTo>
                <a:cubicBezTo>
                  <a:pt x="10800" y="21497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Группа 98"/>
          <p:cNvGrpSpPr/>
          <p:nvPr/>
        </p:nvGrpSpPr>
        <p:grpSpPr>
          <a:xfrm>
            <a:off x="5508720" y="4653000"/>
            <a:ext cx="550800" cy="163440"/>
            <a:chOff x="5508720" y="4653000"/>
            <a:chExt cx="550800" cy="163440"/>
          </a:xfrm>
        </p:grpSpPr>
        <p:sp>
          <p:nvSpPr>
            <p:cNvPr id="283" name="object 87"/>
            <p:cNvSpPr/>
            <p:nvPr/>
          </p:nvSpPr>
          <p:spPr>
            <a:xfrm>
              <a:off x="5508720" y="4734360"/>
              <a:ext cx="550800" cy="360"/>
            </a:xfrm>
            <a:custGeom>
              <a:avLst/>
              <a:gdLst/>
              <a:ahLst/>
              <a:rect l="l" t="t" r="r" b="b"/>
              <a:pathLst>
                <a:path w="551814" h="0">
                  <a:moveTo>
                    <a:pt x="0" y="0"/>
                  </a:moveTo>
                  <a:lnTo>
                    <a:pt x="551764" y="0"/>
                  </a:lnTo>
                </a:path>
              </a:pathLst>
            </a:custGeom>
            <a:noFill/>
            <a:ln w="36000">
              <a:solidFill>
                <a:srgbClr val="ec2d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object 88"/>
            <p:cNvSpPr/>
            <p:nvPr/>
          </p:nvSpPr>
          <p:spPr>
            <a:xfrm>
              <a:off x="5508720" y="4653000"/>
              <a:ext cx="360" cy="163440"/>
            </a:xfrm>
            <a:custGeom>
              <a:avLst/>
              <a:gdLst/>
              <a:ahLst/>
              <a:rect l="l" t="t" r="r" b="b"/>
              <a:pathLst>
                <a:path w="0" h="162560">
                  <a:moveTo>
                    <a:pt x="0" y="0"/>
                  </a:moveTo>
                  <a:lnTo>
                    <a:pt x="0" y="162001"/>
                  </a:lnTo>
                </a:path>
              </a:pathLst>
            </a:custGeom>
            <a:noFill/>
            <a:ln w="36000">
              <a:solidFill>
                <a:srgbClr val="ec2d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object 89"/>
            <p:cNvSpPr/>
            <p:nvPr/>
          </p:nvSpPr>
          <p:spPr>
            <a:xfrm>
              <a:off x="5901120" y="4676400"/>
              <a:ext cx="158400" cy="11628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58750" h="115570">
                  <a:moveTo>
                    <a:pt x="0" y="0"/>
                  </a:moveTo>
                  <a:lnTo>
                    <a:pt x="158597" y="57721"/>
                  </a:lnTo>
                  <a:lnTo>
                    <a:pt x="0" y="115417"/>
                  </a:lnTo>
                </a:path>
              </a:pathLst>
            </a:custGeom>
            <a:noFill/>
            <a:ln w="36000">
              <a:solidFill>
                <a:srgbClr val="ec2d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Группа 1027"/>
          <p:cNvGrpSpPr/>
          <p:nvPr/>
        </p:nvGrpSpPr>
        <p:grpSpPr>
          <a:xfrm>
            <a:off x="2327400" y="1573200"/>
            <a:ext cx="3425760" cy="1135080"/>
            <a:chOff x="2327400" y="1573200"/>
            <a:chExt cx="3425760" cy="1135080"/>
          </a:xfrm>
        </p:grpSpPr>
        <p:sp>
          <p:nvSpPr>
            <p:cNvPr id="287" name="object 8"/>
            <p:cNvSpPr/>
            <p:nvPr/>
          </p:nvSpPr>
          <p:spPr>
            <a:xfrm>
              <a:off x="2327400" y="1573200"/>
              <a:ext cx="3425760" cy="113508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TextBox 1024"/>
            <p:cNvSpPr/>
            <p:nvPr/>
          </p:nvSpPr>
          <p:spPr>
            <a:xfrm>
              <a:off x="2874240" y="1788840"/>
              <a:ext cx="251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alibri"/>
                </a:rPr>
                <a:t>ДАТЫ ПРИЕМА, УВОЛЬНЕНИЯ, ПЕРЕВОД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9" name="TextBox 104"/>
          <p:cNvSpPr/>
          <p:nvPr/>
        </p:nvSpPr>
        <p:spPr>
          <a:xfrm>
            <a:off x="2863800" y="4508640"/>
            <a:ext cx="253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ДОЛЖНОСТЬ, ПРОФЕССИЯ, СПЕЦИАЛЬНОСТЬ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105"/>
          <p:cNvSpPr/>
          <p:nvPr/>
        </p:nvSpPr>
        <p:spPr>
          <a:xfrm>
            <a:off x="2873520" y="3594240"/>
            <a:ext cx="25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ВИД И ОСНОВАНИЕ КАДРОВОГО МЕРОПРИЯТ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object 8"/>
          <p:cNvSpPr/>
          <p:nvPr/>
        </p:nvSpPr>
        <p:spPr>
          <a:xfrm>
            <a:off x="2370240" y="2452680"/>
            <a:ext cx="3425760" cy="113652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103"/>
          <p:cNvSpPr/>
          <p:nvPr/>
        </p:nvSpPr>
        <p:spPr>
          <a:xfrm>
            <a:off x="2873520" y="2803680"/>
            <a:ext cx="25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МЕСТО РАБОТ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1028"/>
          <p:cNvSpPr/>
          <p:nvPr/>
        </p:nvSpPr>
        <p:spPr>
          <a:xfrm>
            <a:off x="395280" y="9208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1 января 2020 года индивидуальный лицевой счет дополняется разделом «Сведения о трудовой деятельност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object 5"/>
          <p:cNvSpPr/>
          <p:nvPr/>
        </p:nvSpPr>
        <p:spPr>
          <a:xfrm>
            <a:off x="3241800" y="216000"/>
            <a:ext cx="5902200" cy="612720"/>
          </a:xfrm>
          <a:prstGeom prst="rect">
            <a:avLst/>
          </a:prstGeom>
          <a:solidFill>
            <a:srgbClr val="537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marL="9360"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Yu Gothic UI"/>
              </a:rPr>
              <a:t>ПФР - оператор сведений о трудовой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Номер слайда 1"/>
          <p:cNvSpPr/>
          <p:nvPr/>
        </p:nvSpPr>
        <p:spPr>
          <a:xfrm>
            <a:off x="8748720" y="6481800"/>
            <a:ext cx="34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2EC6-D05B-4F4B-A478-87F5BFFDAC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Группа 168"/>
          <p:cNvGrpSpPr/>
          <p:nvPr/>
        </p:nvGrpSpPr>
        <p:grpSpPr>
          <a:xfrm>
            <a:off x="184320" y="117360"/>
            <a:ext cx="2871720" cy="555840"/>
            <a:chOff x="184320" y="117360"/>
            <a:chExt cx="2871720" cy="555840"/>
          </a:xfrm>
        </p:grpSpPr>
        <p:sp>
          <p:nvSpPr>
            <p:cNvPr id="297" name="object 31"/>
            <p:cNvSpPr/>
            <p:nvPr/>
          </p:nvSpPr>
          <p:spPr>
            <a:xfrm>
              <a:off x="212760" y="220320"/>
              <a:ext cx="463320" cy="3859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559435" h="503555">
                  <a:moveTo>
                    <a:pt x="221945" y="93395"/>
                  </a:moveTo>
                  <a:lnTo>
                    <a:pt x="0" y="0"/>
                  </a:lnTo>
                  <a:lnTo>
                    <a:pt x="0" y="377190"/>
                  </a:lnTo>
                  <a:lnTo>
                    <a:pt x="281368" y="503326"/>
                  </a:lnTo>
                  <a:lnTo>
                    <a:pt x="281368" y="120078"/>
                  </a:lnTo>
                  <a:lnTo>
                    <a:pt x="559104" y="0"/>
                  </a:lnTo>
                  <a:lnTo>
                    <a:pt x="559104" y="54203"/>
                  </a:lnTo>
                </a:path>
              </a:pathLst>
            </a:custGeom>
            <a:noFill/>
            <a:ln w="28800">
              <a:solidFill>
                <a:srgbClr val="1b7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object 32"/>
            <p:cNvSpPr/>
            <p:nvPr/>
          </p:nvSpPr>
          <p:spPr>
            <a:xfrm>
              <a:off x="209520" y="147240"/>
              <a:ext cx="414360" cy="12204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467359" h="99695">
                  <a:moveTo>
                    <a:pt x="0" y="2425"/>
                  </a:moveTo>
                  <a:lnTo>
                    <a:pt x="228015" y="99453"/>
                  </a:lnTo>
                  <a:lnTo>
                    <a:pt x="466940" y="0"/>
                  </a:lnTo>
                </a:path>
              </a:pathLst>
            </a:custGeom>
            <a:noFill/>
            <a:ln w="28800">
              <a:solidFill>
                <a:srgbClr val="1b7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object 33"/>
            <p:cNvSpPr/>
            <p:nvPr/>
          </p:nvSpPr>
          <p:spPr>
            <a:xfrm>
              <a:off x="461880" y="57960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object 34"/>
            <p:cNvSpPr/>
            <p:nvPr/>
          </p:nvSpPr>
          <p:spPr>
            <a:xfrm>
              <a:off x="461880" y="53208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object 35"/>
            <p:cNvSpPr/>
            <p:nvPr/>
          </p:nvSpPr>
          <p:spPr>
            <a:xfrm>
              <a:off x="461880" y="48420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object 36"/>
            <p:cNvSpPr/>
            <p:nvPr/>
          </p:nvSpPr>
          <p:spPr>
            <a:xfrm>
              <a:off x="461880" y="43668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object 37"/>
            <p:cNvSpPr/>
            <p:nvPr/>
          </p:nvSpPr>
          <p:spPr>
            <a:xfrm>
              <a:off x="461880" y="38880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object 38"/>
            <p:cNvSpPr/>
            <p:nvPr/>
          </p:nvSpPr>
          <p:spPr>
            <a:xfrm>
              <a:off x="461880" y="3412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object 39"/>
            <p:cNvSpPr/>
            <p:nvPr/>
          </p:nvSpPr>
          <p:spPr>
            <a:xfrm>
              <a:off x="461880" y="29340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object 40"/>
            <p:cNvSpPr/>
            <p:nvPr/>
          </p:nvSpPr>
          <p:spPr>
            <a:xfrm>
              <a:off x="498600" y="56052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object 41"/>
            <p:cNvSpPr/>
            <p:nvPr/>
          </p:nvSpPr>
          <p:spPr>
            <a:xfrm>
              <a:off x="498600" y="5144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object 42"/>
            <p:cNvSpPr/>
            <p:nvPr/>
          </p:nvSpPr>
          <p:spPr>
            <a:xfrm>
              <a:off x="498600" y="46692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object 43"/>
            <p:cNvSpPr/>
            <p:nvPr/>
          </p:nvSpPr>
          <p:spPr>
            <a:xfrm>
              <a:off x="498600" y="42084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object 44"/>
            <p:cNvSpPr/>
            <p:nvPr/>
          </p:nvSpPr>
          <p:spPr>
            <a:xfrm>
              <a:off x="498600" y="37296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object 45"/>
            <p:cNvSpPr/>
            <p:nvPr/>
          </p:nvSpPr>
          <p:spPr>
            <a:xfrm>
              <a:off x="498600" y="32544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object 46"/>
            <p:cNvSpPr/>
            <p:nvPr/>
          </p:nvSpPr>
          <p:spPr>
            <a:xfrm>
              <a:off x="498600" y="27756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object 47"/>
            <p:cNvSpPr/>
            <p:nvPr/>
          </p:nvSpPr>
          <p:spPr>
            <a:xfrm>
              <a:off x="804960" y="4190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object 48"/>
            <p:cNvSpPr/>
            <p:nvPr/>
          </p:nvSpPr>
          <p:spPr>
            <a:xfrm>
              <a:off x="534960" y="49716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object 49"/>
            <p:cNvSpPr/>
            <p:nvPr/>
          </p:nvSpPr>
          <p:spPr>
            <a:xfrm>
              <a:off x="534960" y="4492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object 50"/>
            <p:cNvSpPr/>
            <p:nvPr/>
          </p:nvSpPr>
          <p:spPr>
            <a:xfrm>
              <a:off x="534960" y="40176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object 51"/>
            <p:cNvSpPr/>
            <p:nvPr/>
          </p:nvSpPr>
          <p:spPr>
            <a:xfrm>
              <a:off x="534960" y="3556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object 53"/>
            <p:cNvSpPr/>
            <p:nvPr/>
          </p:nvSpPr>
          <p:spPr>
            <a:xfrm>
              <a:off x="534960" y="2602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object 54"/>
            <p:cNvSpPr/>
            <p:nvPr/>
          </p:nvSpPr>
          <p:spPr>
            <a:xfrm>
              <a:off x="571680" y="52704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object 55"/>
            <p:cNvSpPr/>
            <p:nvPr/>
          </p:nvSpPr>
          <p:spPr>
            <a:xfrm>
              <a:off x="571680" y="47952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object 56"/>
            <p:cNvSpPr/>
            <p:nvPr/>
          </p:nvSpPr>
          <p:spPr>
            <a:xfrm>
              <a:off x="571680" y="43200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object 57"/>
            <p:cNvSpPr/>
            <p:nvPr/>
          </p:nvSpPr>
          <p:spPr>
            <a:xfrm>
              <a:off x="773280" y="291960"/>
              <a:ext cx="33120" cy="61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object 58"/>
            <p:cNvSpPr/>
            <p:nvPr/>
          </p:nvSpPr>
          <p:spPr>
            <a:xfrm>
              <a:off x="571680" y="3380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object 59"/>
            <p:cNvSpPr/>
            <p:nvPr/>
          </p:nvSpPr>
          <p:spPr>
            <a:xfrm>
              <a:off x="571680" y="29052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object 60"/>
            <p:cNvSpPr/>
            <p:nvPr/>
          </p:nvSpPr>
          <p:spPr>
            <a:xfrm>
              <a:off x="571680" y="2426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object 61"/>
            <p:cNvSpPr/>
            <p:nvPr/>
          </p:nvSpPr>
          <p:spPr>
            <a:xfrm>
              <a:off x="731880" y="45252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object 62"/>
            <p:cNvSpPr/>
            <p:nvPr/>
          </p:nvSpPr>
          <p:spPr>
            <a:xfrm>
              <a:off x="608040" y="463680"/>
              <a:ext cx="36360" cy="60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object 63"/>
            <p:cNvSpPr/>
            <p:nvPr/>
          </p:nvSpPr>
          <p:spPr>
            <a:xfrm>
              <a:off x="608040" y="415800"/>
              <a:ext cx="36360" cy="60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object 64"/>
            <p:cNvSpPr/>
            <p:nvPr/>
          </p:nvSpPr>
          <p:spPr>
            <a:xfrm>
              <a:off x="608040" y="368280"/>
              <a:ext cx="36360" cy="619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object 65"/>
            <p:cNvSpPr/>
            <p:nvPr/>
          </p:nvSpPr>
          <p:spPr>
            <a:xfrm>
              <a:off x="839880" y="215640"/>
              <a:ext cx="33120" cy="586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object 66"/>
            <p:cNvSpPr/>
            <p:nvPr/>
          </p:nvSpPr>
          <p:spPr>
            <a:xfrm>
              <a:off x="608040" y="272880"/>
              <a:ext cx="36360" cy="619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object 67"/>
            <p:cNvSpPr/>
            <p:nvPr/>
          </p:nvSpPr>
          <p:spPr>
            <a:xfrm>
              <a:off x="608040" y="226800"/>
              <a:ext cx="36360" cy="60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object 68"/>
            <p:cNvSpPr/>
            <p:nvPr/>
          </p:nvSpPr>
          <p:spPr>
            <a:xfrm>
              <a:off x="644400" y="49392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object 69"/>
            <p:cNvSpPr/>
            <p:nvPr/>
          </p:nvSpPr>
          <p:spPr>
            <a:xfrm>
              <a:off x="644400" y="4460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object 70"/>
            <p:cNvSpPr/>
            <p:nvPr/>
          </p:nvSpPr>
          <p:spPr>
            <a:xfrm>
              <a:off x="723960" y="363600"/>
              <a:ext cx="33120" cy="586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object 71"/>
            <p:cNvSpPr/>
            <p:nvPr/>
          </p:nvSpPr>
          <p:spPr>
            <a:xfrm>
              <a:off x="644400" y="35244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object 72"/>
            <p:cNvSpPr/>
            <p:nvPr/>
          </p:nvSpPr>
          <p:spPr>
            <a:xfrm>
              <a:off x="720720" y="26964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object 73"/>
            <p:cNvSpPr/>
            <p:nvPr/>
          </p:nvSpPr>
          <p:spPr>
            <a:xfrm>
              <a:off x="781200" y="19332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object 74"/>
            <p:cNvSpPr/>
            <p:nvPr/>
          </p:nvSpPr>
          <p:spPr>
            <a:xfrm>
              <a:off x="749520" y="16020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object 75"/>
            <p:cNvSpPr/>
            <p:nvPr/>
          </p:nvSpPr>
          <p:spPr>
            <a:xfrm>
              <a:off x="681120" y="47808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object 76"/>
            <p:cNvSpPr/>
            <p:nvPr/>
          </p:nvSpPr>
          <p:spPr>
            <a:xfrm>
              <a:off x="762120" y="393840"/>
              <a:ext cx="33120" cy="586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object 77"/>
            <p:cNvSpPr/>
            <p:nvPr/>
          </p:nvSpPr>
          <p:spPr>
            <a:xfrm>
              <a:off x="681120" y="38268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object 78"/>
            <p:cNvSpPr/>
            <p:nvPr/>
          </p:nvSpPr>
          <p:spPr>
            <a:xfrm>
              <a:off x="681120" y="33480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object 79"/>
            <p:cNvSpPr/>
            <p:nvPr/>
          </p:nvSpPr>
          <p:spPr>
            <a:xfrm>
              <a:off x="681120" y="2872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object 80"/>
            <p:cNvSpPr/>
            <p:nvPr/>
          </p:nvSpPr>
          <p:spPr>
            <a:xfrm>
              <a:off x="719280" y="222120"/>
              <a:ext cx="36360" cy="60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object 81"/>
            <p:cNvSpPr/>
            <p:nvPr/>
          </p:nvSpPr>
          <p:spPr>
            <a:xfrm>
              <a:off x="681120" y="19332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Прямоугольник 219"/>
            <p:cNvSpPr/>
            <p:nvPr/>
          </p:nvSpPr>
          <p:spPr>
            <a:xfrm>
              <a:off x="1104480" y="117360"/>
              <a:ext cx="18662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1a75bd"/>
                  </a:solidFill>
                  <a:latin typeface="Arial Nova Cond"/>
                </a:rPr>
                <a:t>ЭЛЕКТРОННАЯ 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Прямоугольник 220"/>
            <p:cNvSpPr/>
            <p:nvPr/>
          </p:nvSpPr>
          <p:spPr>
            <a:xfrm>
              <a:off x="1108800" y="350640"/>
              <a:ext cx="1557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1a75bd"/>
                  </a:solidFill>
                  <a:latin typeface="Arial Narrow"/>
                </a:rPr>
                <a:t>ТРУДОВАЯ  КНИЖКА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Прямая соединительная линия 221"/>
            <p:cNvSpPr/>
            <p:nvPr/>
          </p:nvSpPr>
          <p:spPr>
            <a:xfrm flipV="1">
              <a:off x="184320" y="648000"/>
              <a:ext cx="2871720" cy="25200"/>
            </a:xfrm>
            <a:prstGeom prst="line">
              <a:avLst/>
            </a:prstGeom>
            <a:ln w="316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0" name="Рисунок 222" descr=""/>
          <p:cNvPicPr/>
          <p:nvPr/>
        </p:nvPicPr>
        <p:blipFill>
          <a:blip r:embed="rId11"/>
          <a:stretch/>
        </p:blipFill>
        <p:spPr>
          <a:xfrm>
            <a:off x="8101080" y="6080040"/>
            <a:ext cx="73656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83"/>
          <p:cNvSpPr/>
          <p:nvPr/>
        </p:nvSpPr>
        <p:spPr>
          <a:xfrm>
            <a:off x="3807000" y="3271680"/>
            <a:ext cx="1854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object 5"/>
          <p:cNvSpPr/>
          <p:nvPr/>
        </p:nvSpPr>
        <p:spPr>
          <a:xfrm>
            <a:off x="5680080" y="216000"/>
            <a:ext cx="3463920" cy="612720"/>
          </a:xfrm>
          <a:prstGeom prst="rect">
            <a:avLst/>
          </a:prstGeom>
          <a:solidFill>
            <a:srgbClr val="537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marL="9360" indent="354240"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Yu Gothic UI"/>
              </a:rPr>
              <a:t>Форма сведений СЗВ-Т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Номер слайда 1"/>
          <p:cNvSpPr/>
          <p:nvPr/>
        </p:nvSpPr>
        <p:spPr>
          <a:xfrm>
            <a:off x="8748720" y="6481800"/>
            <a:ext cx="34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7EED-23CA-48E7-8F4E-143792D65B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4" name="Группа 88"/>
          <p:cNvGrpSpPr/>
          <p:nvPr/>
        </p:nvGrpSpPr>
        <p:grpSpPr>
          <a:xfrm>
            <a:off x="184320" y="117360"/>
            <a:ext cx="2871720" cy="555840"/>
            <a:chOff x="184320" y="117360"/>
            <a:chExt cx="2871720" cy="555840"/>
          </a:xfrm>
        </p:grpSpPr>
        <p:sp>
          <p:nvSpPr>
            <p:cNvPr id="355" name="object 31"/>
            <p:cNvSpPr/>
            <p:nvPr/>
          </p:nvSpPr>
          <p:spPr>
            <a:xfrm>
              <a:off x="212760" y="220320"/>
              <a:ext cx="463320" cy="3859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559435" h="503555">
                  <a:moveTo>
                    <a:pt x="221945" y="93395"/>
                  </a:moveTo>
                  <a:lnTo>
                    <a:pt x="0" y="0"/>
                  </a:lnTo>
                  <a:lnTo>
                    <a:pt x="0" y="377190"/>
                  </a:lnTo>
                  <a:lnTo>
                    <a:pt x="281368" y="503326"/>
                  </a:lnTo>
                  <a:lnTo>
                    <a:pt x="281368" y="120078"/>
                  </a:lnTo>
                  <a:lnTo>
                    <a:pt x="559104" y="0"/>
                  </a:lnTo>
                  <a:lnTo>
                    <a:pt x="559104" y="54203"/>
                  </a:lnTo>
                </a:path>
              </a:pathLst>
            </a:custGeom>
            <a:noFill/>
            <a:ln w="28800">
              <a:solidFill>
                <a:srgbClr val="1b7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object 32"/>
            <p:cNvSpPr/>
            <p:nvPr/>
          </p:nvSpPr>
          <p:spPr>
            <a:xfrm>
              <a:off x="209520" y="147240"/>
              <a:ext cx="414360" cy="12204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467359" h="99695">
                  <a:moveTo>
                    <a:pt x="0" y="2425"/>
                  </a:moveTo>
                  <a:lnTo>
                    <a:pt x="228015" y="99453"/>
                  </a:lnTo>
                  <a:lnTo>
                    <a:pt x="466940" y="0"/>
                  </a:lnTo>
                </a:path>
              </a:pathLst>
            </a:custGeom>
            <a:noFill/>
            <a:ln w="28800">
              <a:solidFill>
                <a:srgbClr val="1b7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object 33"/>
            <p:cNvSpPr/>
            <p:nvPr/>
          </p:nvSpPr>
          <p:spPr>
            <a:xfrm>
              <a:off x="461880" y="57960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object 34"/>
            <p:cNvSpPr/>
            <p:nvPr/>
          </p:nvSpPr>
          <p:spPr>
            <a:xfrm>
              <a:off x="461880" y="53208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object 35"/>
            <p:cNvSpPr/>
            <p:nvPr/>
          </p:nvSpPr>
          <p:spPr>
            <a:xfrm>
              <a:off x="461880" y="48420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object 36"/>
            <p:cNvSpPr/>
            <p:nvPr/>
          </p:nvSpPr>
          <p:spPr>
            <a:xfrm>
              <a:off x="461880" y="43668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object 37"/>
            <p:cNvSpPr/>
            <p:nvPr/>
          </p:nvSpPr>
          <p:spPr>
            <a:xfrm>
              <a:off x="461880" y="38880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object 38"/>
            <p:cNvSpPr/>
            <p:nvPr/>
          </p:nvSpPr>
          <p:spPr>
            <a:xfrm>
              <a:off x="461880" y="3412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object 39"/>
            <p:cNvSpPr/>
            <p:nvPr/>
          </p:nvSpPr>
          <p:spPr>
            <a:xfrm>
              <a:off x="461880" y="29340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object 40"/>
            <p:cNvSpPr/>
            <p:nvPr/>
          </p:nvSpPr>
          <p:spPr>
            <a:xfrm>
              <a:off x="498600" y="56052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object 41"/>
            <p:cNvSpPr/>
            <p:nvPr/>
          </p:nvSpPr>
          <p:spPr>
            <a:xfrm>
              <a:off x="498600" y="5144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object 42"/>
            <p:cNvSpPr/>
            <p:nvPr/>
          </p:nvSpPr>
          <p:spPr>
            <a:xfrm>
              <a:off x="498600" y="46692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object 43"/>
            <p:cNvSpPr/>
            <p:nvPr/>
          </p:nvSpPr>
          <p:spPr>
            <a:xfrm>
              <a:off x="498600" y="42084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object 44"/>
            <p:cNvSpPr/>
            <p:nvPr/>
          </p:nvSpPr>
          <p:spPr>
            <a:xfrm>
              <a:off x="498600" y="37296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object 45"/>
            <p:cNvSpPr/>
            <p:nvPr/>
          </p:nvSpPr>
          <p:spPr>
            <a:xfrm>
              <a:off x="498600" y="32544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object 46"/>
            <p:cNvSpPr/>
            <p:nvPr/>
          </p:nvSpPr>
          <p:spPr>
            <a:xfrm>
              <a:off x="498600" y="27756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object 47"/>
            <p:cNvSpPr/>
            <p:nvPr/>
          </p:nvSpPr>
          <p:spPr>
            <a:xfrm>
              <a:off x="804960" y="4190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object 48"/>
            <p:cNvSpPr/>
            <p:nvPr/>
          </p:nvSpPr>
          <p:spPr>
            <a:xfrm>
              <a:off x="534960" y="49716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object 49"/>
            <p:cNvSpPr/>
            <p:nvPr/>
          </p:nvSpPr>
          <p:spPr>
            <a:xfrm>
              <a:off x="534960" y="4492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object 50"/>
            <p:cNvSpPr/>
            <p:nvPr/>
          </p:nvSpPr>
          <p:spPr>
            <a:xfrm>
              <a:off x="534960" y="40176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object 51"/>
            <p:cNvSpPr/>
            <p:nvPr/>
          </p:nvSpPr>
          <p:spPr>
            <a:xfrm>
              <a:off x="534960" y="3556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object 53"/>
            <p:cNvSpPr/>
            <p:nvPr/>
          </p:nvSpPr>
          <p:spPr>
            <a:xfrm>
              <a:off x="534960" y="2602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object 54"/>
            <p:cNvSpPr/>
            <p:nvPr/>
          </p:nvSpPr>
          <p:spPr>
            <a:xfrm>
              <a:off x="571680" y="52704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object 55"/>
            <p:cNvSpPr/>
            <p:nvPr/>
          </p:nvSpPr>
          <p:spPr>
            <a:xfrm>
              <a:off x="571680" y="47952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object 56"/>
            <p:cNvSpPr/>
            <p:nvPr/>
          </p:nvSpPr>
          <p:spPr>
            <a:xfrm>
              <a:off x="571680" y="43200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object 57"/>
            <p:cNvSpPr/>
            <p:nvPr/>
          </p:nvSpPr>
          <p:spPr>
            <a:xfrm>
              <a:off x="773280" y="291960"/>
              <a:ext cx="33120" cy="61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object 58"/>
            <p:cNvSpPr/>
            <p:nvPr/>
          </p:nvSpPr>
          <p:spPr>
            <a:xfrm>
              <a:off x="571680" y="3380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object 59"/>
            <p:cNvSpPr/>
            <p:nvPr/>
          </p:nvSpPr>
          <p:spPr>
            <a:xfrm>
              <a:off x="571680" y="29052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object 60"/>
            <p:cNvSpPr/>
            <p:nvPr/>
          </p:nvSpPr>
          <p:spPr>
            <a:xfrm>
              <a:off x="571680" y="2426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object 61"/>
            <p:cNvSpPr/>
            <p:nvPr/>
          </p:nvSpPr>
          <p:spPr>
            <a:xfrm>
              <a:off x="731880" y="45252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object 62"/>
            <p:cNvSpPr/>
            <p:nvPr/>
          </p:nvSpPr>
          <p:spPr>
            <a:xfrm>
              <a:off x="608040" y="463680"/>
              <a:ext cx="36360" cy="60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object 63"/>
            <p:cNvSpPr/>
            <p:nvPr/>
          </p:nvSpPr>
          <p:spPr>
            <a:xfrm>
              <a:off x="608040" y="415800"/>
              <a:ext cx="36360" cy="60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object 64"/>
            <p:cNvSpPr/>
            <p:nvPr/>
          </p:nvSpPr>
          <p:spPr>
            <a:xfrm>
              <a:off x="608040" y="368280"/>
              <a:ext cx="36360" cy="619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object 65"/>
            <p:cNvSpPr/>
            <p:nvPr/>
          </p:nvSpPr>
          <p:spPr>
            <a:xfrm>
              <a:off x="839880" y="215640"/>
              <a:ext cx="33120" cy="586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object 66"/>
            <p:cNvSpPr/>
            <p:nvPr/>
          </p:nvSpPr>
          <p:spPr>
            <a:xfrm>
              <a:off x="608040" y="272880"/>
              <a:ext cx="36360" cy="619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object 67"/>
            <p:cNvSpPr/>
            <p:nvPr/>
          </p:nvSpPr>
          <p:spPr>
            <a:xfrm>
              <a:off x="608040" y="226800"/>
              <a:ext cx="36360" cy="60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object 68"/>
            <p:cNvSpPr/>
            <p:nvPr/>
          </p:nvSpPr>
          <p:spPr>
            <a:xfrm>
              <a:off x="644400" y="49392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object 69"/>
            <p:cNvSpPr/>
            <p:nvPr/>
          </p:nvSpPr>
          <p:spPr>
            <a:xfrm>
              <a:off x="644400" y="4460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object 70"/>
            <p:cNvSpPr/>
            <p:nvPr/>
          </p:nvSpPr>
          <p:spPr>
            <a:xfrm>
              <a:off x="723960" y="363600"/>
              <a:ext cx="33120" cy="586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object 71"/>
            <p:cNvSpPr/>
            <p:nvPr/>
          </p:nvSpPr>
          <p:spPr>
            <a:xfrm>
              <a:off x="644400" y="35244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object 72"/>
            <p:cNvSpPr/>
            <p:nvPr/>
          </p:nvSpPr>
          <p:spPr>
            <a:xfrm>
              <a:off x="720720" y="26964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object 73"/>
            <p:cNvSpPr/>
            <p:nvPr/>
          </p:nvSpPr>
          <p:spPr>
            <a:xfrm>
              <a:off x="781200" y="19332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object 74"/>
            <p:cNvSpPr/>
            <p:nvPr/>
          </p:nvSpPr>
          <p:spPr>
            <a:xfrm>
              <a:off x="749520" y="16020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object 75"/>
            <p:cNvSpPr/>
            <p:nvPr/>
          </p:nvSpPr>
          <p:spPr>
            <a:xfrm>
              <a:off x="681120" y="47808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object 76"/>
            <p:cNvSpPr/>
            <p:nvPr/>
          </p:nvSpPr>
          <p:spPr>
            <a:xfrm>
              <a:off x="762120" y="393840"/>
              <a:ext cx="33120" cy="586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object 77"/>
            <p:cNvSpPr/>
            <p:nvPr/>
          </p:nvSpPr>
          <p:spPr>
            <a:xfrm>
              <a:off x="681120" y="38268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object 78"/>
            <p:cNvSpPr/>
            <p:nvPr/>
          </p:nvSpPr>
          <p:spPr>
            <a:xfrm>
              <a:off x="681120" y="33480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object 79"/>
            <p:cNvSpPr/>
            <p:nvPr/>
          </p:nvSpPr>
          <p:spPr>
            <a:xfrm>
              <a:off x="681120" y="2872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object 80"/>
            <p:cNvSpPr/>
            <p:nvPr/>
          </p:nvSpPr>
          <p:spPr>
            <a:xfrm>
              <a:off x="719280" y="222120"/>
              <a:ext cx="36360" cy="60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object 81"/>
            <p:cNvSpPr/>
            <p:nvPr/>
          </p:nvSpPr>
          <p:spPr>
            <a:xfrm>
              <a:off x="681120" y="19332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Прямоугольник 139"/>
            <p:cNvSpPr/>
            <p:nvPr/>
          </p:nvSpPr>
          <p:spPr>
            <a:xfrm>
              <a:off x="1104480" y="117360"/>
              <a:ext cx="18662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1a75bd"/>
                  </a:solidFill>
                  <a:latin typeface="Arial Nova Cond"/>
                </a:rPr>
                <a:t>ЭЛЕКТРОННАЯ 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Прямоугольник 140"/>
            <p:cNvSpPr/>
            <p:nvPr/>
          </p:nvSpPr>
          <p:spPr>
            <a:xfrm>
              <a:off x="1108800" y="350640"/>
              <a:ext cx="1557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1a75bd"/>
                  </a:solidFill>
                  <a:latin typeface="Arial Narrow"/>
                </a:rPr>
                <a:t>ТРУДОВАЯ  КНИЖКА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Прямая соединительная линия 141"/>
            <p:cNvSpPr/>
            <p:nvPr/>
          </p:nvSpPr>
          <p:spPr>
            <a:xfrm flipV="1">
              <a:off x="184320" y="648000"/>
              <a:ext cx="2871720" cy="25200"/>
            </a:xfrm>
            <a:prstGeom prst="line">
              <a:avLst/>
            </a:prstGeom>
            <a:ln w="316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08" name="Рисунок 142" descr=""/>
          <p:cNvPicPr/>
          <p:nvPr/>
        </p:nvPicPr>
        <p:blipFill>
          <a:blip r:embed="rId1"/>
          <a:stretch/>
        </p:blipFill>
        <p:spPr>
          <a:xfrm>
            <a:off x="8101080" y="6080040"/>
            <a:ext cx="736560" cy="7588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" descr=""/>
          <p:cNvPicPr/>
          <p:nvPr/>
        </p:nvPicPr>
        <p:blipFill>
          <a:blip r:embed="rId2"/>
          <a:srcRect l="1467" t="19062" r="34039" b="9232"/>
          <a:stretch/>
        </p:blipFill>
        <p:spPr>
          <a:xfrm>
            <a:off x="108000" y="1152360"/>
            <a:ext cx="89028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Прямоугольник 83"/>
          <p:cNvSpPr/>
          <p:nvPr/>
        </p:nvSpPr>
        <p:spPr>
          <a:xfrm>
            <a:off x="3807000" y="3271680"/>
            <a:ext cx="1854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object 5"/>
          <p:cNvSpPr/>
          <p:nvPr/>
        </p:nvSpPr>
        <p:spPr>
          <a:xfrm>
            <a:off x="3181320" y="216000"/>
            <a:ext cx="5962680" cy="612720"/>
          </a:xfrm>
          <a:prstGeom prst="rect">
            <a:avLst/>
          </a:prstGeom>
          <a:solidFill>
            <a:srgbClr val="537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Yu Gothic UI"/>
              </a:rPr>
              <a:t>Виды кадровых мероприятий, отражаемых в СЗВ-Т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1"/>
          <p:cNvSpPr/>
          <p:nvPr/>
        </p:nvSpPr>
        <p:spPr>
          <a:xfrm>
            <a:off x="8748720" y="6481800"/>
            <a:ext cx="34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D576-10AB-4F8E-A1C6-8236BA27CA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3" name="Группа 88"/>
          <p:cNvGrpSpPr/>
          <p:nvPr/>
        </p:nvGrpSpPr>
        <p:grpSpPr>
          <a:xfrm>
            <a:off x="184320" y="117360"/>
            <a:ext cx="2871720" cy="555840"/>
            <a:chOff x="184320" y="117360"/>
            <a:chExt cx="2871720" cy="555840"/>
          </a:xfrm>
        </p:grpSpPr>
        <p:sp>
          <p:nvSpPr>
            <p:cNvPr id="414" name="object 31"/>
            <p:cNvSpPr/>
            <p:nvPr/>
          </p:nvSpPr>
          <p:spPr>
            <a:xfrm>
              <a:off x="212760" y="220320"/>
              <a:ext cx="463320" cy="3859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559435" h="503555">
                  <a:moveTo>
                    <a:pt x="221945" y="93395"/>
                  </a:moveTo>
                  <a:lnTo>
                    <a:pt x="0" y="0"/>
                  </a:lnTo>
                  <a:lnTo>
                    <a:pt x="0" y="377190"/>
                  </a:lnTo>
                  <a:lnTo>
                    <a:pt x="281368" y="503326"/>
                  </a:lnTo>
                  <a:lnTo>
                    <a:pt x="281368" y="120078"/>
                  </a:lnTo>
                  <a:lnTo>
                    <a:pt x="559104" y="0"/>
                  </a:lnTo>
                  <a:lnTo>
                    <a:pt x="559104" y="54203"/>
                  </a:lnTo>
                </a:path>
              </a:pathLst>
            </a:custGeom>
            <a:noFill/>
            <a:ln w="28800">
              <a:solidFill>
                <a:srgbClr val="1b7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object 32"/>
            <p:cNvSpPr/>
            <p:nvPr/>
          </p:nvSpPr>
          <p:spPr>
            <a:xfrm>
              <a:off x="209520" y="147240"/>
              <a:ext cx="414360" cy="12204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467359" h="99695">
                  <a:moveTo>
                    <a:pt x="0" y="2425"/>
                  </a:moveTo>
                  <a:lnTo>
                    <a:pt x="228015" y="99453"/>
                  </a:lnTo>
                  <a:lnTo>
                    <a:pt x="466940" y="0"/>
                  </a:lnTo>
                </a:path>
              </a:pathLst>
            </a:custGeom>
            <a:noFill/>
            <a:ln w="28800">
              <a:solidFill>
                <a:srgbClr val="1b7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object 33"/>
            <p:cNvSpPr/>
            <p:nvPr/>
          </p:nvSpPr>
          <p:spPr>
            <a:xfrm>
              <a:off x="461880" y="57960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object 34"/>
            <p:cNvSpPr/>
            <p:nvPr/>
          </p:nvSpPr>
          <p:spPr>
            <a:xfrm>
              <a:off x="461880" y="53208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object 35"/>
            <p:cNvSpPr/>
            <p:nvPr/>
          </p:nvSpPr>
          <p:spPr>
            <a:xfrm>
              <a:off x="461880" y="48420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object 36"/>
            <p:cNvSpPr/>
            <p:nvPr/>
          </p:nvSpPr>
          <p:spPr>
            <a:xfrm>
              <a:off x="461880" y="43668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object 37"/>
            <p:cNvSpPr/>
            <p:nvPr/>
          </p:nvSpPr>
          <p:spPr>
            <a:xfrm>
              <a:off x="461880" y="38880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object 38"/>
            <p:cNvSpPr/>
            <p:nvPr/>
          </p:nvSpPr>
          <p:spPr>
            <a:xfrm>
              <a:off x="461880" y="3412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object 39"/>
            <p:cNvSpPr/>
            <p:nvPr/>
          </p:nvSpPr>
          <p:spPr>
            <a:xfrm>
              <a:off x="461880" y="29340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object 40"/>
            <p:cNvSpPr/>
            <p:nvPr/>
          </p:nvSpPr>
          <p:spPr>
            <a:xfrm>
              <a:off x="498600" y="56052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object 41"/>
            <p:cNvSpPr/>
            <p:nvPr/>
          </p:nvSpPr>
          <p:spPr>
            <a:xfrm>
              <a:off x="498600" y="5144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object 42"/>
            <p:cNvSpPr/>
            <p:nvPr/>
          </p:nvSpPr>
          <p:spPr>
            <a:xfrm>
              <a:off x="498600" y="46692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object 43"/>
            <p:cNvSpPr/>
            <p:nvPr/>
          </p:nvSpPr>
          <p:spPr>
            <a:xfrm>
              <a:off x="498600" y="42084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object 44"/>
            <p:cNvSpPr/>
            <p:nvPr/>
          </p:nvSpPr>
          <p:spPr>
            <a:xfrm>
              <a:off x="498600" y="37296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object 45"/>
            <p:cNvSpPr/>
            <p:nvPr/>
          </p:nvSpPr>
          <p:spPr>
            <a:xfrm>
              <a:off x="498600" y="32544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object 46"/>
            <p:cNvSpPr/>
            <p:nvPr/>
          </p:nvSpPr>
          <p:spPr>
            <a:xfrm>
              <a:off x="498600" y="27756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object 47"/>
            <p:cNvSpPr/>
            <p:nvPr/>
          </p:nvSpPr>
          <p:spPr>
            <a:xfrm>
              <a:off x="804960" y="4190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object 48"/>
            <p:cNvSpPr/>
            <p:nvPr/>
          </p:nvSpPr>
          <p:spPr>
            <a:xfrm>
              <a:off x="534960" y="49716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object 49"/>
            <p:cNvSpPr/>
            <p:nvPr/>
          </p:nvSpPr>
          <p:spPr>
            <a:xfrm>
              <a:off x="534960" y="4492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object 50"/>
            <p:cNvSpPr/>
            <p:nvPr/>
          </p:nvSpPr>
          <p:spPr>
            <a:xfrm>
              <a:off x="534960" y="40176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object 51"/>
            <p:cNvSpPr/>
            <p:nvPr/>
          </p:nvSpPr>
          <p:spPr>
            <a:xfrm>
              <a:off x="534960" y="3556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object 53"/>
            <p:cNvSpPr/>
            <p:nvPr/>
          </p:nvSpPr>
          <p:spPr>
            <a:xfrm>
              <a:off x="534960" y="2602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object 54"/>
            <p:cNvSpPr/>
            <p:nvPr/>
          </p:nvSpPr>
          <p:spPr>
            <a:xfrm>
              <a:off x="571680" y="52704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object 55"/>
            <p:cNvSpPr/>
            <p:nvPr/>
          </p:nvSpPr>
          <p:spPr>
            <a:xfrm>
              <a:off x="571680" y="47952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object 56"/>
            <p:cNvSpPr/>
            <p:nvPr/>
          </p:nvSpPr>
          <p:spPr>
            <a:xfrm>
              <a:off x="571680" y="43200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object 57"/>
            <p:cNvSpPr/>
            <p:nvPr/>
          </p:nvSpPr>
          <p:spPr>
            <a:xfrm>
              <a:off x="773280" y="291960"/>
              <a:ext cx="33120" cy="61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object 58"/>
            <p:cNvSpPr/>
            <p:nvPr/>
          </p:nvSpPr>
          <p:spPr>
            <a:xfrm>
              <a:off x="571680" y="3380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object 59"/>
            <p:cNvSpPr/>
            <p:nvPr/>
          </p:nvSpPr>
          <p:spPr>
            <a:xfrm>
              <a:off x="571680" y="29052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object 60"/>
            <p:cNvSpPr/>
            <p:nvPr/>
          </p:nvSpPr>
          <p:spPr>
            <a:xfrm>
              <a:off x="571680" y="2426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object 61"/>
            <p:cNvSpPr/>
            <p:nvPr/>
          </p:nvSpPr>
          <p:spPr>
            <a:xfrm>
              <a:off x="731880" y="45252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object 62"/>
            <p:cNvSpPr/>
            <p:nvPr/>
          </p:nvSpPr>
          <p:spPr>
            <a:xfrm>
              <a:off x="608040" y="463680"/>
              <a:ext cx="36360" cy="60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object 63"/>
            <p:cNvSpPr/>
            <p:nvPr/>
          </p:nvSpPr>
          <p:spPr>
            <a:xfrm>
              <a:off x="608040" y="415800"/>
              <a:ext cx="36360" cy="60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object 64"/>
            <p:cNvSpPr/>
            <p:nvPr/>
          </p:nvSpPr>
          <p:spPr>
            <a:xfrm>
              <a:off x="608040" y="368280"/>
              <a:ext cx="36360" cy="619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object 65"/>
            <p:cNvSpPr/>
            <p:nvPr/>
          </p:nvSpPr>
          <p:spPr>
            <a:xfrm>
              <a:off x="839880" y="215640"/>
              <a:ext cx="33120" cy="586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object 66"/>
            <p:cNvSpPr/>
            <p:nvPr/>
          </p:nvSpPr>
          <p:spPr>
            <a:xfrm>
              <a:off x="608040" y="272880"/>
              <a:ext cx="36360" cy="619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object 67"/>
            <p:cNvSpPr/>
            <p:nvPr/>
          </p:nvSpPr>
          <p:spPr>
            <a:xfrm>
              <a:off x="608040" y="226800"/>
              <a:ext cx="36360" cy="60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object 68"/>
            <p:cNvSpPr/>
            <p:nvPr/>
          </p:nvSpPr>
          <p:spPr>
            <a:xfrm>
              <a:off x="644400" y="49392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object 69"/>
            <p:cNvSpPr/>
            <p:nvPr/>
          </p:nvSpPr>
          <p:spPr>
            <a:xfrm>
              <a:off x="644400" y="4460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object 70"/>
            <p:cNvSpPr/>
            <p:nvPr/>
          </p:nvSpPr>
          <p:spPr>
            <a:xfrm>
              <a:off x="723960" y="363600"/>
              <a:ext cx="33120" cy="586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object 71"/>
            <p:cNvSpPr/>
            <p:nvPr/>
          </p:nvSpPr>
          <p:spPr>
            <a:xfrm>
              <a:off x="644400" y="35244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object 72"/>
            <p:cNvSpPr/>
            <p:nvPr/>
          </p:nvSpPr>
          <p:spPr>
            <a:xfrm>
              <a:off x="720720" y="26964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object 73"/>
            <p:cNvSpPr/>
            <p:nvPr/>
          </p:nvSpPr>
          <p:spPr>
            <a:xfrm>
              <a:off x="781200" y="19332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object 74"/>
            <p:cNvSpPr/>
            <p:nvPr/>
          </p:nvSpPr>
          <p:spPr>
            <a:xfrm>
              <a:off x="749520" y="16020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object 75"/>
            <p:cNvSpPr/>
            <p:nvPr/>
          </p:nvSpPr>
          <p:spPr>
            <a:xfrm>
              <a:off x="681120" y="47808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object 76"/>
            <p:cNvSpPr/>
            <p:nvPr/>
          </p:nvSpPr>
          <p:spPr>
            <a:xfrm>
              <a:off x="762120" y="393840"/>
              <a:ext cx="33120" cy="586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object 77"/>
            <p:cNvSpPr/>
            <p:nvPr/>
          </p:nvSpPr>
          <p:spPr>
            <a:xfrm>
              <a:off x="681120" y="38268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object 78"/>
            <p:cNvSpPr/>
            <p:nvPr/>
          </p:nvSpPr>
          <p:spPr>
            <a:xfrm>
              <a:off x="681120" y="33480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object 79"/>
            <p:cNvSpPr/>
            <p:nvPr/>
          </p:nvSpPr>
          <p:spPr>
            <a:xfrm>
              <a:off x="681120" y="2872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object 80"/>
            <p:cNvSpPr/>
            <p:nvPr/>
          </p:nvSpPr>
          <p:spPr>
            <a:xfrm>
              <a:off x="719280" y="222120"/>
              <a:ext cx="36360" cy="60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object 81"/>
            <p:cNvSpPr/>
            <p:nvPr/>
          </p:nvSpPr>
          <p:spPr>
            <a:xfrm>
              <a:off x="681120" y="19332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Прямоугольник 139"/>
            <p:cNvSpPr/>
            <p:nvPr/>
          </p:nvSpPr>
          <p:spPr>
            <a:xfrm>
              <a:off x="1104480" y="117360"/>
              <a:ext cx="18662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1a75bd"/>
                  </a:solidFill>
                  <a:latin typeface="Arial Nova Cond"/>
                </a:rPr>
                <a:t>ЭЛЕКТРОННАЯ 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Прямоугольник 140"/>
            <p:cNvSpPr/>
            <p:nvPr/>
          </p:nvSpPr>
          <p:spPr>
            <a:xfrm>
              <a:off x="1108800" y="350640"/>
              <a:ext cx="1557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1a75bd"/>
                  </a:solidFill>
                  <a:latin typeface="Arial Narrow"/>
                </a:rPr>
                <a:t>ТРУДОВАЯ  КНИЖКА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Прямая соединительная линия 141"/>
            <p:cNvSpPr/>
            <p:nvPr/>
          </p:nvSpPr>
          <p:spPr>
            <a:xfrm flipV="1">
              <a:off x="184320" y="648000"/>
              <a:ext cx="2871720" cy="25200"/>
            </a:xfrm>
            <a:prstGeom prst="line">
              <a:avLst/>
            </a:prstGeom>
            <a:ln w="316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67" name="Рисунок 142" descr=""/>
          <p:cNvPicPr/>
          <p:nvPr/>
        </p:nvPicPr>
        <p:blipFill>
          <a:blip r:embed="rId1"/>
          <a:stretch/>
        </p:blipFill>
        <p:spPr>
          <a:xfrm>
            <a:off x="8101080" y="6080040"/>
            <a:ext cx="736560" cy="75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8" name=""/>
          <p:cNvGraphicFramePr/>
          <p:nvPr/>
        </p:nvGraphicFramePr>
        <p:xfrm>
          <a:off x="417600" y="1471680"/>
          <a:ext cx="8280360" cy="4605120"/>
        </p:xfrm>
        <a:graphic>
          <a:graphicData uri="http://schemas.openxmlformats.org/drawingml/2006/table">
            <a:tbl>
              <a:tblPr/>
              <a:tblGrid>
                <a:gridCol w="595080"/>
                <a:gridCol w="2508480"/>
                <a:gridCol w="5176800"/>
              </a:tblGrid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К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Наименование 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олное наименование 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Р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рием на работу (службу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ЕРЕВ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еревод на другую рабо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ЕРЕ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Изменение наименования страховател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УСТАНОВЛЕНИЕ (ПРИСВО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Установление (присвоение) работнику второй и последующей профессии, специальности или иной квалификации заполняется с указанием разрядов, классов или иных категорий этих профессий, специальностей или уровней квалификации (класс, категория, классный чин и тому подобно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УВОЛЬ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Увольнение с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ЗАПРЕТ ЗАНИМАТЬ ДОЛЖНОСТЬ (ВИД ДЕЯТЕЛЬ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Лишение права в соответствии с приговором суда занимать определенные должности или заниматься определенной деятельностью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TextBox 87"/>
          <p:cNvGrpSpPr/>
          <p:nvPr/>
        </p:nvGrpSpPr>
        <p:grpSpPr>
          <a:xfrm>
            <a:off x="5072040" y="4552920"/>
            <a:ext cx="3773520" cy="1476360"/>
            <a:chOff x="5072040" y="4552920"/>
            <a:chExt cx="3773520" cy="1476360"/>
          </a:xfrm>
        </p:grpSpPr>
        <p:pic>
          <p:nvPicPr>
            <p:cNvPr id="470" name="TextBox 87" descr=""/>
            <p:cNvPicPr/>
            <p:nvPr/>
          </p:nvPicPr>
          <p:blipFill>
            <a:blip r:embed="rId1"/>
            <a:stretch/>
          </p:blipFill>
          <p:spPr>
            <a:xfrm>
              <a:off x="5072040" y="4552920"/>
              <a:ext cx="377352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5149800" y="4629240"/>
              <a:ext cx="3616200" cy="13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ри отсутствии у</a:t>
              </a:r>
              <a:r>
                <a:rPr b="0" lang="en-US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зарегистрированного лица фактов приема, увольнения, перевода, подачи заявления </a:t>
              </a:r>
              <a:r>
                <a:rPr b="0" lang="en-US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-</a:t>
              </a: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не позднее 15</a:t>
              </a:r>
              <a:r>
                <a:rPr b="0" lang="en-US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.02.</a:t>
              </a: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2021 год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2" name="object 5"/>
          <p:cNvSpPr/>
          <p:nvPr/>
        </p:nvSpPr>
        <p:spPr>
          <a:xfrm>
            <a:off x="3541680" y="216000"/>
            <a:ext cx="5602320" cy="612720"/>
          </a:xfrm>
          <a:prstGeom prst="rect">
            <a:avLst/>
          </a:prstGeom>
          <a:solidFill>
            <a:srgbClr val="537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marL="363600"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ядок представления сведений о трудовой деятельности зарегистрированного ли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Номер слайда 1"/>
          <p:cNvSpPr/>
          <p:nvPr/>
        </p:nvSpPr>
        <p:spPr>
          <a:xfrm>
            <a:off x="8748720" y="6481800"/>
            <a:ext cx="34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CDB6-8096-45AC-9207-9FFD83BD66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4" name="Группа 16"/>
          <p:cNvGrpSpPr/>
          <p:nvPr/>
        </p:nvGrpSpPr>
        <p:grpSpPr>
          <a:xfrm>
            <a:off x="184320" y="117360"/>
            <a:ext cx="2871720" cy="555840"/>
            <a:chOff x="184320" y="117360"/>
            <a:chExt cx="2871720" cy="555840"/>
          </a:xfrm>
        </p:grpSpPr>
        <p:sp>
          <p:nvSpPr>
            <p:cNvPr id="475" name="object 31"/>
            <p:cNvSpPr/>
            <p:nvPr/>
          </p:nvSpPr>
          <p:spPr>
            <a:xfrm>
              <a:off x="212760" y="220320"/>
              <a:ext cx="463320" cy="3859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559435" h="503555">
                  <a:moveTo>
                    <a:pt x="221945" y="93395"/>
                  </a:moveTo>
                  <a:lnTo>
                    <a:pt x="0" y="0"/>
                  </a:lnTo>
                  <a:lnTo>
                    <a:pt x="0" y="377190"/>
                  </a:lnTo>
                  <a:lnTo>
                    <a:pt x="281368" y="503326"/>
                  </a:lnTo>
                  <a:lnTo>
                    <a:pt x="281368" y="120078"/>
                  </a:lnTo>
                  <a:lnTo>
                    <a:pt x="559104" y="0"/>
                  </a:lnTo>
                  <a:lnTo>
                    <a:pt x="559104" y="54203"/>
                  </a:lnTo>
                </a:path>
              </a:pathLst>
            </a:custGeom>
            <a:noFill/>
            <a:ln w="28800">
              <a:solidFill>
                <a:srgbClr val="1b7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object 32"/>
            <p:cNvSpPr/>
            <p:nvPr/>
          </p:nvSpPr>
          <p:spPr>
            <a:xfrm>
              <a:off x="209520" y="147240"/>
              <a:ext cx="414360" cy="12204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467359" h="99695">
                  <a:moveTo>
                    <a:pt x="0" y="2425"/>
                  </a:moveTo>
                  <a:lnTo>
                    <a:pt x="228015" y="99453"/>
                  </a:lnTo>
                  <a:lnTo>
                    <a:pt x="466940" y="0"/>
                  </a:lnTo>
                </a:path>
              </a:pathLst>
            </a:custGeom>
            <a:noFill/>
            <a:ln w="28800">
              <a:solidFill>
                <a:srgbClr val="1b7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object 33"/>
            <p:cNvSpPr/>
            <p:nvPr/>
          </p:nvSpPr>
          <p:spPr>
            <a:xfrm>
              <a:off x="461880" y="57960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object 34"/>
            <p:cNvSpPr/>
            <p:nvPr/>
          </p:nvSpPr>
          <p:spPr>
            <a:xfrm>
              <a:off x="461880" y="53208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object 35"/>
            <p:cNvSpPr/>
            <p:nvPr/>
          </p:nvSpPr>
          <p:spPr>
            <a:xfrm>
              <a:off x="461880" y="48420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object 36"/>
            <p:cNvSpPr/>
            <p:nvPr/>
          </p:nvSpPr>
          <p:spPr>
            <a:xfrm>
              <a:off x="461880" y="43668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object 37"/>
            <p:cNvSpPr/>
            <p:nvPr/>
          </p:nvSpPr>
          <p:spPr>
            <a:xfrm>
              <a:off x="461880" y="38880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object 38"/>
            <p:cNvSpPr/>
            <p:nvPr/>
          </p:nvSpPr>
          <p:spPr>
            <a:xfrm>
              <a:off x="461880" y="3412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object 39"/>
            <p:cNvSpPr/>
            <p:nvPr/>
          </p:nvSpPr>
          <p:spPr>
            <a:xfrm>
              <a:off x="461880" y="29340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object 40"/>
            <p:cNvSpPr/>
            <p:nvPr/>
          </p:nvSpPr>
          <p:spPr>
            <a:xfrm>
              <a:off x="498600" y="56052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object 41"/>
            <p:cNvSpPr/>
            <p:nvPr/>
          </p:nvSpPr>
          <p:spPr>
            <a:xfrm>
              <a:off x="498600" y="5144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object 42"/>
            <p:cNvSpPr/>
            <p:nvPr/>
          </p:nvSpPr>
          <p:spPr>
            <a:xfrm>
              <a:off x="498600" y="46692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object 43"/>
            <p:cNvSpPr/>
            <p:nvPr/>
          </p:nvSpPr>
          <p:spPr>
            <a:xfrm>
              <a:off x="498600" y="42084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object 44"/>
            <p:cNvSpPr/>
            <p:nvPr/>
          </p:nvSpPr>
          <p:spPr>
            <a:xfrm>
              <a:off x="498600" y="37296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object 45"/>
            <p:cNvSpPr/>
            <p:nvPr/>
          </p:nvSpPr>
          <p:spPr>
            <a:xfrm>
              <a:off x="498600" y="32544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object 46"/>
            <p:cNvSpPr/>
            <p:nvPr/>
          </p:nvSpPr>
          <p:spPr>
            <a:xfrm>
              <a:off x="498600" y="27756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object 47"/>
            <p:cNvSpPr/>
            <p:nvPr/>
          </p:nvSpPr>
          <p:spPr>
            <a:xfrm>
              <a:off x="804960" y="4190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object 48"/>
            <p:cNvSpPr/>
            <p:nvPr/>
          </p:nvSpPr>
          <p:spPr>
            <a:xfrm>
              <a:off x="534960" y="49716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object 49"/>
            <p:cNvSpPr/>
            <p:nvPr/>
          </p:nvSpPr>
          <p:spPr>
            <a:xfrm>
              <a:off x="534960" y="4492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object 50"/>
            <p:cNvSpPr/>
            <p:nvPr/>
          </p:nvSpPr>
          <p:spPr>
            <a:xfrm>
              <a:off x="534960" y="40176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object 51"/>
            <p:cNvSpPr/>
            <p:nvPr/>
          </p:nvSpPr>
          <p:spPr>
            <a:xfrm>
              <a:off x="534960" y="3556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object 53"/>
            <p:cNvSpPr/>
            <p:nvPr/>
          </p:nvSpPr>
          <p:spPr>
            <a:xfrm>
              <a:off x="534960" y="2602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object 54"/>
            <p:cNvSpPr/>
            <p:nvPr/>
          </p:nvSpPr>
          <p:spPr>
            <a:xfrm>
              <a:off x="571680" y="52704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object 55"/>
            <p:cNvSpPr/>
            <p:nvPr/>
          </p:nvSpPr>
          <p:spPr>
            <a:xfrm>
              <a:off x="571680" y="47952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object 56"/>
            <p:cNvSpPr/>
            <p:nvPr/>
          </p:nvSpPr>
          <p:spPr>
            <a:xfrm>
              <a:off x="571680" y="43200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object 57"/>
            <p:cNvSpPr/>
            <p:nvPr/>
          </p:nvSpPr>
          <p:spPr>
            <a:xfrm>
              <a:off x="773280" y="291960"/>
              <a:ext cx="33120" cy="61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object 58"/>
            <p:cNvSpPr/>
            <p:nvPr/>
          </p:nvSpPr>
          <p:spPr>
            <a:xfrm>
              <a:off x="571680" y="3380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object 59"/>
            <p:cNvSpPr/>
            <p:nvPr/>
          </p:nvSpPr>
          <p:spPr>
            <a:xfrm>
              <a:off x="571680" y="29052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object 60"/>
            <p:cNvSpPr/>
            <p:nvPr/>
          </p:nvSpPr>
          <p:spPr>
            <a:xfrm>
              <a:off x="571680" y="2426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object 61"/>
            <p:cNvSpPr/>
            <p:nvPr/>
          </p:nvSpPr>
          <p:spPr>
            <a:xfrm>
              <a:off x="731880" y="45252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object 62"/>
            <p:cNvSpPr/>
            <p:nvPr/>
          </p:nvSpPr>
          <p:spPr>
            <a:xfrm>
              <a:off x="608040" y="463680"/>
              <a:ext cx="36360" cy="60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object 63"/>
            <p:cNvSpPr/>
            <p:nvPr/>
          </p:nvSpPr>
          <p:spPr>
            <a:xfrm>
              <a:off x="608040" y="415800"/>
              <a:ext cx="36360" cy="60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object 64"/>
            <p:cNvSpPr/>
            <p:nvPr/>
          </p:nvSpPr>
          <p:spPr>
            <a:xfrm>
              <a:off x="608040" y="368280"/>
              <a:ext cx="36360" cy="619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object 65"/>
            <p:cNvSpPr/>
            <p:nvPr/>
          </p:nvSpPr>
          <p:spPr>
            <a:xfrm>
              <a:off x="839880" y="215640"/>
              <a:ext cx="33120" cy="586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object 66"/>
            <p:cNvSpPr/>
            <p:nvPr/>
          </p:nvSpPr>
          <p:spPr>
            <a:xfrm>
              <a:off x="608040" y="272880"/>
              <a:ext cx="36360" cy="619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object 67"/>
            <p:cNvSpPr/>
            <p:nvPr/>
          </p:nvSpPr>
          <p:spPr>
            <a:xfrm>
              <a:off x="608040" y="226800"/>
              <a:ext cx="36360" cy="60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object 68"/>
            <p:cNvSpPr/>
            <p:nvPr/>
          </p:nvSpPr>
          <p:spPr>
            <a:xfrm>
              <a:off x="644400" y="49392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object 69"/>
            <p:cNvSpPr/>
            <p:nvPr/>
          </p:nvSpPr>
          <p:spPr>
            <a:xfrm>
              <a:off x="644400" y="4460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object 70"/>
            <p:cNvSpPr/>
            <p:nvPr/>
          </p:nvSpPr>
          <p:spPr>
            <a:xfrm>
              <a:off x="723960" y="363600"/>
              <a:ext cx="33120" cy="586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object 71"/>
            <p:cNvSpPr/>
            <p:nvPr/>
          </p:nvSpPr>
          <p:spPr>
            <a:xfrm>
              <a:off x="644400" y="35244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object 72"/>
            <p:cNvSpPr/>
            <p:nvPr/>
          </p:nvSpPr>
          <p:spPr>
            <a:xfrm>
              <a:off x="720720" y="26964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object 73"/>
            <p:cNvSpPr/>
            <p:nvPr/>
          </p:nvSpPr>
          <p:spPr>
            <a:xfrm>
              <a:off x="781200" y="19332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object 74"/>
            <p:cNvSpPr/>
            <p:nvPr/>
          </p:nvSpPr>
          <p:spPr>
            <a:xfrm>
              <a:off x="749520" y="16020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object 75"/>
            <p:cNvSpPr/>
            <p:nvPr/>
          </p:nvSpPr>
          <p:spPr>
            <a:xfrm>
              <a:off x="681120" y="47808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object 76"/>
            <p:cNvSpPr/>
            <p:nvPr/>
          </p:nvSpPr>
          <p:spPr>
            <a:xfrm>
              <a:off x="762120" y="393840"/>
              <a:ext cx="33120" cy="586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object 77"/>
            <p:cNvSpPr/>
            <p:nvPr/>
          </p:nvSpPr>
          <p:spPr>
            <a:xfrm>
              <a:off x="681120" y="38268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object 78"/>
            <p:cNvSpPr/>
            <p:nvPr/>
          </p:nvSpPr>
          <p:spPr>
            <a:xfrm>
              <a:off x="681120" y="33480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object 79"/>
            <p:cNvSpPr/>
            <p:nvPr/>
          </p:nvSpPr>
          <p:spPr>
            <a:xfrm>
              <a:off x="681120" y="2872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object 80"/>
            <p:cNvSpPr/>
            <p:nvPr/>
          </p:nvSpPr>
          <p:spPr>
            <a:xfrm>
              <a:off x="719280" y="222120"/>
              <a:ext cx="36360" cy="60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object 81"/>
            <p:cNvSpPr/>
            <p:nvPr/>
          </p:nvSpPr>
          <p:spPr>
            <a:xfrm>
              <a:off x="681120" y="19332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Прямоугольник 67"/>
            <p:cNvSpPr/>
            <p:nvPr/>
          </p:nvSpPr>
          <p:spPr>
            <a:xfrm>
              <a:off x="1104480" y="117360"/>
              <a:ext cx="18662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1a75bd"/>
                  </a:solidFill>
                  <a:latin typeface="Arial Nova Cond"/>
                </a:rPr>
                <a:t>ЭЛЕКТРОННАЯ 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Прямоугольник 68"/>
            <p:cNvSpPr/>
            <p:nvPr/>
          </p:nvSpPr>
          <p:spPr>
            <a:xfrm>
              <a:off x="1108800" y="350640"/>
              <a:ext cx="1557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1a75bd"/>
                  </a:solidFill>
                  <a:latin typeface="Arial Narrow"/>
                </a:rPr>
                <a:t>ТРУДОВАЯ  КНИЖКА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Прямая соединительная линия 69"/>
            <p:cNvSpPr/>
            <p:nvPr/>
          </p:nvSpPr>
          <p:spPr>
            <a:xfrm flipV="1">
              <a:off x="184320" y="648000"/>
              <a:ext cx="2871720" cy="25200"/>
            </a:xfrm>
            <a:prstGeom prst="line">
              <a:avLst/>
            </a:prstGeom>
            <a:ln w="316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28" name="Рисунок 70" descr=""/>
          <p:cNvPicPr/>
          <p:nvPr/>
        </p:nvPicPr>
        <p:blipFill>
          <a:blip r:embed="rId2"/>
          <a:stretch/>
        </p:blipFill>
        <p:spPr>
          <a:xfrm>
            <a:off x="8101080" y="6080040"/>
            <a:ext cx="736560" cy="758880"/>
          </a:xfrm>
          <a:prstGeom prst="rect">
            <a:avLst/>
          </a:prstGeom>
          <a:ln w="0">
            <a:noFill/>
          </a:ln>
        </p:spPr>
      </p:pic>
      <p:grpSp>
        <p:nvGrpSpPr>
          <p:cNvPr id="529" name="TextBox 71"/>
          <p:cNvGrpSpPr/>
          <p:nvPr/>
        </p:nvGrpSpPr>
        <p:grpSpPr>
          <a:xfrm>
            <a:off x="676440" y="1335240"/>
            <a:ext cx="3530520" cy="1809720"/>
            <a:chOff x="676440" y="1335240"/>
            <a:chExt cx="3530520" cy="1809720"/>
          </a:xfrm>
        </p:grpSpPr>
        <p:pic>
          <p:nvPicPr>
            <p:cNvPr id="530" name="TextBox 71" descr=""/>
            <p:cNvPicPr/>
            <p:nvPr/>
          </p:nvPicPr>
          <p:blipFill>
            <a:blip r:embed="rId3"/>
            <a:stretch/>
          </p:blipFill>
          <p:spPr>
            <a:xfrm>
              <a:off x="676440" y="1335240"/>
              <a:ext cx="353052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771480" y="1428840"/>
              <a:ext cx="3340080" cy="16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Ежемесячно </a:t>
              </a:r>
              <a:r>
                <a:rPr b="0" lang="ru-RU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не позднее 15 числа </a:t>
              </a: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месяца, следующего за кадровым мероприятием, в случае: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риема, увольнения, перевода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одачи заявления о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способе ведения трудовой книжк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2" name="TextBox 72"/>
          <p:cNvSpPr/>
          <p:nvPr/>
        </p:nvSpPr>
        <p:spPr>
          <a:xfrm>
            <a:off x="895320" y="906480"/>
            <a:ext cx="30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 2020 го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TextBox 73"/>
          <p:cNvSpPr/>
          <p:nvPr/>
        </p:nvSpPr>
        <p:spPr>
          <a:xfrm>
            <a:off x="5008680" y="906480"/>
            <a:ext cx="30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 01.01.2021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Рисунок 2" descr=""/>
          <p:cNvPicPr/>
          <p:nvPr/>
        </p:nvPicPr>
        <p:blipFill>
          <a:blip r:embed="rId4"/>
          <a:stretch/>
        </p:blipFill>
        <p:spPr>
          <a:xfrm>
            <a:off x="3492360" y="1989000"/>
            <a:ext cx="648000" cy="648000"/>
          </a:xfrm>
          <a:prstGeom prst="rect">
            <a:avLst/>
          </a:prstGeom>
          <a:ln w="0">
            <a:noFill/>
          </a:ln>
        </p:spPr>
      </p:pic>
      <p:grpSp>
        <p:nvGrpSpPr>
          <p:cNvPr id="535" name="TextBox 74"/>
          <p:cNvGrpSpPr/>
          <p:nvPr/>
        </p:nvGrpSpPr>
        <p:grpSpPr>
          <a:xfrm>
            <a:off x="676440" y="3206880"/>
            <a:ext cx="3614400" cy="1292040"/>
            <a:chOff x="676440" y="3206880"/>
            <a:chExt cx="3614400" cy="1292040"/>
          </a:xfrm>
        </p:grpSpPr>
        <p:pic>
          <p:nvPicPr>
            <p:cNvPr id="536" name="TextBox 74" descr=""/>
            <p:cNvPicPr/>
            <p:nvPr/>
          </p:nvPicPr>
          <p:blipFill>
            <a:blip r:embed="rId5"/>
            <a:stretch/>
          </p:blipFill>
          <p:spPr>
            <a:xfrm>
              <a:off x="676440" y="3206880"/>
              <a:ext cx="361440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>
              <a:off x="746280" y="3274920"/>
              <a:ext cx="347472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002060"/>
                  </a:solidFill>
                  <a:uFillTx/>
                  <a:latin typeface="Times New Roman"/>
                  <a:ea typeface="Times New Roman"/>
                </a:rPr>
                <a:t>одновременно</a:t>
              </a: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представляет</a:t>
              </a:r>
              <a:r>
                <a:rPr b="1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сведения о трудовой деятельности</a:t>
              </a:r>
              <a:br>
                <a:rPr sz="1600"/>
              </a:b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о состоянию</a:t>
              </a:r>
              <a:r>
                <a:rPr b="0" lang="en-US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на </a:t>
              </a:r>
              <a:r>
                <a:rPr b="0" lang="en-US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01.01.</a:t>
              </a: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2020 год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38" name="Рисунок 76" descr=""/>
          <p:cNvPicPr/>
          <p:nvPr/>
        </p:nvPicPr>
        <p:blipFill>
          <a:blip r:embed="rId6"/>
          <a:stretch/>
        </p:blipFill>
        <p:spPr>
          <a:xfrm>
            <a:off x="219240" y="689040"/>
            <a:ext cx="571320" cy="2120760"/>
          </a:xfrm>
          <a:prstGeom prst="rect">
            <a:avLst/>
          </a:prstGeom>
          <a:ln w="0">
            <a:noFill/>
          </a:ln>
        </p:spPr>
      </p:pic>
      <p:grpSp>
        <p:nvGrpSpPr>
          <p:cNvPr id="539" name="TextBox 77"/>
          <p:cNvGrpSpPr/>
          <p:nvPr/>
        </p:nvGrpSpPr>
        <p:grpSpPr>
          <a:xfrm>
            <a:off x="4998960" y="1407960"/>
            <a:ext cx="3754440" cy="1438560"/>
            <a:chOff x="4998960" y="1407960"/>
            <a:chExt cx="3754440" cy="1438560"/>
          </a:xfrm>
        </p:grpSpPr>
        <p:pic>
          <p:nvPicPr>
            <p:cNvPr id="540" name="TextBox 77" descr=""/>
            <p:cNvPicPr/>
            <p:nvPr/>
          </p:nvPicPr>
          <p:blipFill>
            <a:blip r:embed="rId7"/>
            <a:stretch/>
          </p:blipFill>
          <p:spPr>
            <a:xfrm>
              <a:off x="4998960" y="1407960"/>
              <a:ext cx="3754440" cy="14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5076720" y="1482840"/>
              <a:ext cx="3602160" cy="12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В режиме 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online</a:t>
              </a:r>
              <a:r>
                <a:rPr b="0" lang="en-US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при приеме и увольнении</a:t>
              </a: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(не позднее рабочего дня</a:t>
              </a:r>
              <a:r>
                <a:rPr b="0" lang="en-US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,</a:t>
              </a: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следующего</a:t>
              </a:r>
              <a:r>
                <a:rPr b="0" lang="en-US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за днем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издания приказа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2" name="Рисунок 80" descr=""/>
          <p:cNvPicPr/>
          <p:nvPr/>
        </p:nvPicPr>
        <p:blipFill>
          <a:blip r:embed="rId8"/>
          <a:stretch/>
        </p:blipFill>
        <p:spPr>
          <a:xfrm>
            <a:off x="7788240" y="1994040"/>
            <a:ext cx="681120" cy="742680"/>
          </a:xfrm>
          <a:prstGeom prst="rect">
            <a:avLst/>
          </a:prstGeom>
          <a:ln w="0">
            <a:noFill/>
          </a:ln>
        </p:spPr>
      </p:pic>
      <p:grpSp>
        <p:nvGrpSpPr>
          <p:cNvPr id="543" name="TextBox 81"/>
          <p:cNvGrpSpPr/>
          <p:nvPr/>
        </p:nvGrpSpPr>
        <p:grpSpPr>
          <a:xfrm>
            <a:off x="5052960" y="2908440"/>
            <a:ext cx="3792600" cy="1560240"/>
            <a:chOff x="5052960" y="2908440"/>
            <a:chExt cx="3792600" cy="1560240"/>
          </a:xfrm>
        </p:grpSpPr>
        <p:pic>
          <p:nvPicPr>
            <p:cNvPr id="544" name="TextBox 81" descr=""/>
            <p:cNvPicPr/>
            <p:nvPr/>
          </p:nvPicPr>
          <p:blipFill>
            <a:blip r:embed="rId9"/>
            <a:stretch/>
          </p:blipFill>
          <p:spPr>
            <a:xfrm>
              <a:off x="5052960" y="2908440"/>
              <a:ext cx="3792600" cy="15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5137200" y="2992320"/>
              <a:ext cx="36241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Ежемесячно не позднее 15 числа в случае перевода, подачи заявлени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о способе ведени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трудовой книжк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6" name="Рисунок 84" descr=""/>
          <p:cNvPicPr/>
          <p:nvPr/>
        </p:nvPicPr>
        <p:blipFill>
          <a:blip r:embed="rId10"/>
          <a:stretch/>
        </p:blipFill>
        <p:spPr>
          <a:xfrm>
            <a:off x="7773840" y="5207040"/>
            <a:ext cx="720720" cy="730080"/>
          </a:xfrm>
          <a:prstGeom prst="rect">
            <a:avLst/>
          </a:prstGeom>
          <a:ln w="0">
            <a:noFill/>
          </a:ln>
        </p:spPr>
      </p:pic>
      <p:pic>
        <p:nvPicPr>
          <p:cNvPr id="547" name="Рисунок 85" descr=""/>
          <p:cNvPicPr/>
          <p:nvPr/>
        </p:nvPicPr>
        <p:blipFill>
          <a:blip r:embed="rId11"/>
          <a:stretch/>
        </p:blipFill>
        <p:spPr>
          <a:xfrm>
            <a:off x="7821720" y="365904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548" name="Рисунок 86" descr=""/>
          <p:cNvPicPr/>
          <p:nvPr/>
        </p:nvPicPr>
        <p:blipFill>
          <a:blip r:embed="rId12"/>
          <a:stretch/>
        </p:blipFill>
        <p:spPr>
          <a:xfrm>
            <a:off x="3419640" y="3573360"/>
            <a:ext cx="79524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Прямоугольник 83"/>
          <p:cNvSpPr/>
          <p:nvPr/>
        </p:nvSpPr>
        <p:spPr>
          <a:xfrm>
            <a:off x="3807000" y="3271680"/>
            <a:ext cx="1854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object 5"/>
          <p:cNvSpPr/>
          <p:nvPr/>
        </p:nvSpPr>
        <p:spPr>
          <a:xfrm>
            <a:off x="5680080" y="216000"/>
            <a:ext cx="3463920" cy="612720"/>
          </a:xfrm>
          <a:prstGeom prst="rect">
            <a:avLst/>
          </a:prstGeom>
          <a:solidFill>
            <a:srgbClr val="537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marL="9360" indent="354240"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Yu Gothic UI"/>
              </a:rPr>
              <a:t>Технология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Yu Gothic U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Yu Gothic UI"/>
              </a:rPr>
              <a:t>обм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Номер слайда 1"/>
          <p:cNvSpPr/>
          <p:nvPr/>
        </p:nvSpPr>
        <p:spPr>
          <a:xfrm>
            <a:off x="8748720" y="6481800"/>
            <a:ext cx="34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63BC-08FD-459E-B3A0-01FA31114F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2" name="Группа 88"/>
          <p:cNvGrpSpPr/>
          <p:nvPr/>
        </p:nvGrpSpPr>
        <p:grpSpPr>
          <a:xfrm>
            <a:off x="184320" y="117360"/>
            <a:ext cx="2871720" cy="555840"/>
            <a:chOff x="184320" y="117360"/>
            <a:chExt cx="2871720" cy="555840"/>
          </a:xfrm>
        </p:grpSpPr>
        <p:sp>
          <p:nvSpPr>
            <p:cNvPr id="553" name="object 31"/>
            <p:cNvSpPr/>
            <p:nvPr/>
          </p:nvSpPr>
          <p:spPr>
            <a:xfrm>
              <a:off x="212760" y="220320"/>
              <a:ext cx="463320" cy="3859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559435" h="503555">
                  <a:moveTo>
                    <a:pt x="221945" y="93395"/>
                  </a:moveTo>
                  <a:lnTo>
                    <a:pt x="0" y="0"/>
                  </a:lnTo>
                  <a:lnTo>
                    <a:pt x="0" y="377190"/>
                  </a:lnTo>
                  <a:lnTo>
                    <a:pt x="281368" y="503326"/>
                  </a:lnTo>
                  <a:lnTo>
                    <a:pt x="281368" y="120078"/>
                  </a:lnTo>
                  <a:lnTo>
                    <a:pt x="559104" y="0"/>
                  </a:lnTo>
                  <a:lnTo>
                    <a:pt x="559104" y="54203"/>
                  </a:lnTo>
                </a:path>
              </a:pathLst>
            </a:custGeom>
            <a:noFill/>
            <a:ln w="28800">
              <a:solidFill>
                <a:srgbClr val="1b7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object 32"/>
            <p:cNvSpPr/>
            <p:nvPr/>
          </p:nvSpPr>
          <p:spPr>
            <a:xfrm>
              <a:off x="209520" y="147240"/>
              <a:ext cx="414360" cy="12204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467359" h="99695">
                  <a:moveTo>
                    <a:pt x="0" y="2425"/>
                  </a:moveTo>
                  <a:lnTo>
                    <a:pt x="228015" y="99453"/>
                  </a:lnTo>
                  <a:lnTo>
                    <a:pt x="466940" y="0"/>
                  </a:lnTo>
                </a:path>
              </a:pathLst>
            </a:custGeom>
            <a:noFill/>
            <a:ln w="28800">
              <a:solidFill>
                <a:srgbClr val="1b7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object 33"/>
            <p:cNvSpPr/>
            <p:nvPr/>
          </p:nvSpPr>
          <p:spPr>
            <a:xfrm>
              <a:off x="461880" y="57960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object 34"/>
            <p:cNvSpPr/>
            <p:nvPr/>
          </p:nvSpPr>
          <p:spPr>
            <a:xfrm>
              <a:off x="461880" y="53208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object 35"/>
            <p:cNvSpPr/>
            <p:nvPr/>
          </p:nvSpPr>
          <p:spPr>
            <a:xfrm>
              <a:off x="461880" y="48420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object 36"/>
            <p:cNvSpPr/>
            <p:nvPr/>
          </p:nvSpPr>
          <p:spPr>
            <a:xfrm>
              <a:off x="461880" y="43668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object 37"/>
            <p:cNvSpPr/>
            <p:nvPr/>
          </p:nvSpPr>
          <p:spPr>
            <a:xfrm>
              <a:off x="461880" y="38880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object 38"/>
            <p:cNvSpPr/>
            <p:nvPr/>
          </p:nvSpPr>
          <p:spPr>
            <a:xfrm>
              <a:off x="461880" y="3412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object 39"/>
            <p:cNvSpPr/>
            <p:nvPr/>
          </p:nvSpPr>
          <p:spPr>
            <a:xfrm>
              <a:off x="461880" y="29340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object 40"/>
            <p:cNvSpPr/>
            <p:nvPr/>
          </p:nvSpPr>
          <p:spPr>
            <a:xfrm>
              <a:off x="498600" y="56052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object 41"/>
            <p:cNvSpPr/>
            <p:nvPr/>
          </p:nvSpPr>
          <p:spPr>
            <a:xfrm>
              <a:off x="498600" y="5144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object 42"/>
            <p:cNvSpPr/>
            <p:nvPr/>
          </p:nvSpPr>
          <p:spPr>
            <a:xfrm>
              <a:off x="498600" y="46692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object 43"/>
            <p:cNvSpPr/>
            <p:nvPr/>
          </p:nvSpPr>
          <p:spPr>
            <a:xfrm>
              <a:off x="498600" y="42084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object 44"/>
            <p:cNvSpPr/>
            <p:nvPr/>
          </p:nvSpPr>
          <p:spPr>
            <a:xfrm>
              <a:off x="498600" y="37296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object 45"/>
            <p:cNvSpPr/>
            <p:nvPr/>
          </p:nvSpPr>
          <p:spPr>
            <a:xfrm>
              <a:off x="498600" y="32544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object 46"/>
            <p:cNvSpPr/>
            <p:nvPr/>
          </p:nvSpPr>
          <p:spPr>
            <a:xfrm>
              <a:off x="498600" y="27756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object 47"/>
            <p:cNvSpPr/>
            <p:nvPr/>
          </p:nvSpPr>
          <p:spPr>
            <a:xfrm>
              <a:off x="804960" y="4190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object 48"/>
            <p:cNvSpPr/>
            <p:nvPr/>
          </p:nvSpPr>
          <p:spPr>
            <a:xfrm>
              <a:off x="534960" y="49716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object 49"/>
            <p:cNvSpPr/>
            <p:nvPr/>
          </p:nvSpPr>
          <p:spPr>
            <a:xfrm>
              <a:off x="534960" y="4492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object 50"/>
            <p:cNvSpPr/>
            <p:nvPr/>
          </p:nvSpPr>
          <p:spPr>
            <a:xfrm>
              <a:off x="534960" y="40176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object 51"/>
            <p:cNvSpPr/>
            <p:nvPr/>
          </p:nvSpPr>
          <p:spPr>
            <a:xfrm>
              <a:off x="534960" y="3556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object 53"/>
            <p:cNvSpPr/>
            <p:nvPr/>
          </p:nvSpPr>
          <p:spPr>
            <a:xfrm>
              <a:off x="534960" y="2602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object 54"/>
            <p:cNvSpPr/>
            <p:nvPr/>
          </p:nvSpPr>
          <p:spPr>
            <a:xfrm>
              <a:off x="571680" y="52704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object 55"/>
            <p:cNvSpPr/>
            <p:nvPr/>
          </p:nvSpPr>
          <p:spPr>
            <a:xfrm>
              <a:off x="571680" y="47952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object 56"/>
            <p:cNvSpPr/>
            <p:nvPr/>
          </p:nvSpPr>
          <p:spPr>
            <a:xfrm>
              <a:off x="571680" y="43200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object 57"/>
            <p:cNvSpPr/>
            <p:nvPr/>
          </p:nvSpPr>
          <p:spPr>
            <a:xfrm>
              <a:off x="773280" y="291960"/>
              <a:ext cx="33120" cy="61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object 58"/>
            <p:cNvSpPr/>
            <p:nvPr/>
          </p:nvSpPr>
          <p:spPr>
            <a:xfrm>
              <a:off x="571680" y="3380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object 59"/>
            <p:cNvSpPr/>
            <p:nvPr/>
          </p:nvSpPr>
          <p:spPr>
            <a:xfrm>
              <a:off x="571680" y="29052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object 60"/>
            <p:cNvSpPr/>
            <p:nvPr/>
          </p:nvSpPr>
          <p:spPr>
            <a:xfrm>
              <a:off x="571680" y="2426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object 61"/>
            <p:cNvSpPr/>
            <p:nvPr/>
          </p:nvSpPr>
          <p:spPr>
            <a:xfrm>
              <a:off x="731880" y="45252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object 62"/>
            <p:cNvSpPr/>
            <p:nvPr/>
          </p:nvSpPr>
          <p:spPr>
            <a:xfrm>
              <a:off x="608040" y="463680"/>
              <a:ext cx="36360" cy="60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object 63"/>
            <p:cNvSpPr/>
            <p:nvPr/>
          </p:nvSpPr>
          <p:spPr>
            <a:xfrm>
              <a:off x="608040" y="415800"/>
              <a:ext cx="36360" cy="60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object 64"/>
            <p:cNvSpPr/>
            <p:nvPr/>
          </p:nvSpPr>
          <p:spPr>
            <a:xfrm>
              <a:off x="608040" y="368280"/>
              <a:ext cx="36360" cy="619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object 65"/>
            <p:cNvSpPr/>
            <p:nvPr/>
          </p:nvSpPr>
          <p:spPr>
            <a:xfrm>
              <a:off x="839880" y="215640"/>
              <a:ext cx="33120" cy="586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object 66"/>
            <p:cNvSpPr/>
            <p:nvPr/>
          </p:nvSpPr>
          <p:spPr>
            <a:xfrm>
              <a:off x="608040" y="272880"/>
              <a:ext cx="36360" cy="619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object 67"/>
            <p:cNvSpPr/>
            <p:nvPr/>
          </p:nvSpPr>
          <p:spPr>
            <a:xfrm>
              <a:off x="608040" y="226800"/>
              <a:ext cx="36360" cy="60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object 68"/>
            <p:cNvSpPr/>
            <p:nvPr/>
          </p:nvSpPr>
          <p:spPr>
            <a:xfrm>
              <a:off x="644400" y="49392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object 69"/>
            <p:cNvSpPr/>
            <p:nvPr/>
          </p:nvSpPr>
          <p:spPr>
            <a:xfrm>
              <a:off x="644400" y="4460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object 70"/>
            <p:cNvSpPr/>
            <p:nvPr/>
          </p:nvSpPr>
          <p:spPr>
            <a:xfrm>
              <a:off x="723960" y="363600"/>
              <a:ext cx="33120" cy="586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object 71"/>
            <p:cNvSpPr/>
            <p:nvPr/>
          </p:nvSpPr>
          <p:spPr>
            <a:xfrm>
              <a:off x="644400" y="35244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object 72"/>
            <p:cNvSpPr/>
            <p:nvPr/>
          </p:nvSpPr>
          <p:spPr>
            <a:xfrm>
              <a:off x="720720" y="26964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object 73"/>
            <p:cNvSpPr/>
            <p:nvPr/>
          </p:nvSpPr>
          <p:spPr>
            <a:xfrm>
              <a:off x="781200" y="19332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object 74"/>
            <p:cNvSpPr/>
            <p:nvPr/>
          </p:nvSpPr>
          <p:spPr>
            <a:xfrm>
              <a:off x="749520" y="16020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object 75"/>
            <p:cNvSpPr/>
            <p:nvPr/>
          </p:nvSpPr>
          <p:spPr>
            <a:xfrm>
              <a:off x="681120" y="47808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object 76"/>
            <p:cNvSpPr/>
            <p:nvPr/>
          </p:nvSpPr>
          <p:spPr>
            <a:xfrm>
              <a:off x="762120" y="393840"/>
              <a:ext cx="33120" cy="586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object 77"/>
            <p:cNvSpPr/>
            <p:nvPr/>
          </p:nvSpPr>
          <p:spPr>
            <a:xfrm>
              <a:off x="681120" y="38268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object 78"/>
            <p:cNvSpPr/>
            <p:nvPr/>
          </p:nvSpPr>
          <p:spPr>
            <a:xfrm>
              <a:off x="681120" y="33480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object 79"/>
            <p:cNvSpPr/>
            <p:nvPr/>
          </p:nvSpPr>
          <p:spPr>
            <a:xfrm>
              <a:off x="681120" y="2872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object 80"/>
            <p:cNvSpPr/>
            <p:nvPr/>
          </p:nvSpPr>
          <p:spPr>
            <a:xfrm>
              <a:off x="719280" y="222120"/>
              <a:ext cx="36360" cy="60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object 81"/>
            <p:cNvSpPr/>
            <p:nvPr/>
          </p:nvSpPr>
          <p:spPr>
            <a:xfrm>
              <a:off x="681120" y="19332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Прямоугольник 139"/>
            <p:cNvSpPr/>
            <p:nvPr/>
          </p:nvSpPr>
          <p:spPr>
            <a:xfrm>
              <a:off x="1104480" y="117360"/>
              <a:ext cx="18662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1a75bd"/>
                  </a:solidFill>
                  <a:latin typeface="Arial Nova Cond"/>
                </a:rPr>
                <a:t>ЭЛЕКТРОННАЯ 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Прямоугольник 140"/>
            <p:cNvSpPr/>
            <p:nvPr/>
          </p:nvSpPr>
          <p:spPr>
            <a:xfrm>
              <a:off x="1108800" y="350640"/>
              <a:ext cx="1557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1a75bd"/>
                  </a:solidFill>
                  <a:latin typeface="Arial Narrow"/>
                </a:rPr>
                <a:t>ТРУДОВАЯ  КНИЖКА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Прямая соединительная линия 141"/>
            <p:cNvSpPr/>
            <p:nvPr/>
          </p:nvSpPr>
          <p:spPr>
            <a:xfrm flipV="1">
              <a:off x="184320" y="648000"/>
              <a:ext cx="2871720" cy="25200"/>
            </a:xfrm>
            <a:prstGeom prst="line">
              <a:avLst/>
            </a:prstGeom>
            <a:ln w="316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6" name="Рисунок 142" descr=""/>
          <p:cNvPicPr/>
          <p:nvPr/>
        </p:nvPicPr>
        <p:blipFill>
          <a:blip r:embed="rId1"/>
          <a:stretch/>
        </p:blipFill>
        <p:spPr>
          <a:xfrm>
            <a:off x="8101080" y="6080040"/>
            <a:ext cx="736560" cy="758880"/>
          </a:xfrm>
          <a:prstGeom prst="rect">
            <a:avLst/>
          </a:prstGeom>
          <a:ln w="0">
            <a:noFill/>
          </a:ln>
        </p:spPr>
      </p:pic>
      <p:sp>
        <p:nvSpPr>
          <p:cNvPr id="607" name="TextBox 6"/>
          <p:cNvSpPr/>
          <p:nvPr/>
        </p:nvSpPr>
        <p:spPr>
          <a:xfrm>
            <a:off x="246240" y="5672160"/>
            <a:ext cx="76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Технология представления сведений осталась прежн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8" name="TextBox 143"/>
          <p:cNvGrpSpPr/>
          <p:nvPr/>
        </p:nvGrpSpPr>
        <p:grpSpPr>
          <a:xfrm>
            <a:off x="3614760" y="5187960"/>
            <a:ext cx="1438200" cy="420840"/>
            <a:chOff x="3614760" y="5187960"/>
            <a:chExt cx="1438200" cy="420840"/>
          </a:xfrm>
        </p:grpSpPr>
        <p:pic>
          <p:nvPicPr>
            <p:cNvPr id="609" name="TextBox 143" descr=""/>
            <p:cNvPicPr/>
            <p:nvPr/>
          </p:nvPicPr>
          <p:blipFill>
            <a:blip r:embed="rId2"/>
            <a:stretch/>
          </p:blipFill>
          <p:spPr>
            <a:xfrm>
              <a:off x="3614760" y="5187960"/>
              <a:ext cx="143820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3639960" y="5214960"/>
              <a:ext cx="13892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Работодател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1" name="Рисунок 1" descr=""/>
          <p:cNvPicPr/>
          <p:nvPr/>
        </p:nvPicPr>
        <p:blipFill>
          <a:blip r:embed="rId3"/>
          <a:stretch/>
        </p:blipFill>
        <p:spPr>
          <a:xfrm>
            <a:off x="1547640" y="820800"/>
            <a:ext cx="596592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Стрелка вправо 13"/>
          <p:cNvSpPr/>
          <p:nvPr/>
        </p:nvSpPr>
        <p:spPr>
          <a:xfrm rot="5400000">
            <a:off x="5147640" y="2591640"/>
            <a:ext cx="419040" cy="10008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Стрелка вправо 14"/>
          <p:cNvSpPr/>
          <p:nvPr/>
        </p:nvSpPr>
        <p:spPr>
          <a:xfrm rot="5400000">
            <a:off x="7123320" y="2599560"/>
            <a:ext cx="417600" cy="98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Стрелка вправо 17"/>
          <p:cNvSpPr/>
          <p:nvPr/>
        </p:nvSpPr>
        <p:spPr>
          <a:xfrm rot="5400000">
            <a:off x="6544080" y="1281600"/>
            <a:ext cx="203040" cy="71640"/>
          </a:xfrm>
          <a:prstGeom prst="rightArrow">
            <a:avLst>
              <a:gd name="adj1" fmla="val 50000"/>
              <a:gd name="adj2" fmla="val 498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Стрелка вправо 19"/>
          <p:cNvSpPr/>
          <p:nvPr/>
        </p:nvSpPr>
        <p:spPr>
          <a:xfrm rot="5400000">
            <a:off x="5202720" y="4147200"/>
            <a:ext cx="322200" cy="86040"/>
          </a:xfrm>
          <a:prstGeom prst="rightArrow">
            <a:avLst>
              <a:gd name="adj1" fmla="val 50000"/>
              <a:gd name="adj2" fmla="val 4980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Стрелка вправо 25"/>
          <p:cNvSpPr/>
          <p:nvPr/>
        </p:nvSpPr>
        <p:spPr>
          <a:xfrm rot="5400000">
            <a:off x="2225160" y="1320480"/>
            <a:ext cx="201600" cy="71640"/>
          </a:xfrm>
          <a:prstGeom prst="rightArrow">
            <a:avLst>
              <a:gd name="adj1" fmla="val 50000"/>
              <a:gd name="adj2" fmla="val 4985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Стрелка вправо 27"/>
          <p:cNvSpPr/>
          <p:nvPr/>
        </p:nvSpPr>
        <p:spPr>
          <a:xfrm rot="5400000">
            <a:off x="2226960" y="2212920"/>
            <a:ext cx="203400" cy="72720"/>
          </a:xfrm>
          <a:prstGeom prst="rightArrow">
            <a:avLst>
              <a:gd name="adj1" fmla="val 50000"/>
              <a:gd name="adj2" fmla="val 5025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object 5"/>
          <p:cNvSpPr/>
          <p:nvPr/>
        </p:nvSpPr>
        <p:spPr>
          <a:xfrm>
            <a:off x="3541680" y="216000"/>
            <a:ext cx="5602320" cy="612720"/>
          </a:xfrm>
          <a:prstGeom prst="rect">
            <a:avLst/>
          </a:prstGeom>
          <a:solidFill>
            <a:srgbClr val="537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marL="363600"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язанности работодателя и работн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Номер слайда 1"/>
          <p:cNvSpPr/>
          <p:nvPr/>
        </p:nvSpPr>
        <p:spPr>
          <a:xfrm>
            <a:off x="8748720" y="6481800"/>
            <a:ext cx="34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BC03-7372-409F-B37D-4BAEEDBAA6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0" name="Группа 31"/>
          <p:cNvGrpSpPr/>
          <p:nvPr/>
        </p:nvGrpSpPr>
        <p:grpSpPr>
          <a:xfrm>
            <a:off x="184320" y="117360"/>
            <a:ext cx="2871720" cy="555840"/>
            <a:chOff x="184320" y="117360"/>
            <a:chExt cx="2871720" cy="555840"/>
          </a:xfrm>
        </p:grpSpPr>
        <p:sp>
          <p:nvSpPr>
            <p:cNvPr id="621" name="object 31"/>
            <p:cNvSpPr/>
            <p:nvPr/>
          </p:nvSpPr>
          <p:spPr>
            <a:xfrm>
              <a:off x="212760" y="220320"/>
              <a:ext cx="463320" cy="3859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559435" h="503555">
                  <a:moveTo>
                    <a:pt x="221945" y="93395"/>
                  </a:moveTo>
                  <a:lnTo>
                    <a:pt x="0" y="0"/>
                  </a:lnTo>
                  <a:lnTo>
                    <a:pt x="0" y="377190"/>
                  </a:lnTo>
                  <a:lnTo>
                    <a:pt x="281368" y="503326"/>
                  </a:lnTo>
                  <a:lnTo>
                    <a:pt x="281368" y="120078"/>
                  </a:lnTo>
                  <a:lnTo>
                    <a:pt x="559104" y="0"/>
                  </a:lnTo>
                  <a:lnTo>
                    <a:pt x="559104" y="54203"/>
                  </a:lnTo>
                </a:path>
              </a:pathLst>
            </a:custGeom>
            <a:noFill/>
            <a:ln w="28800">
              <a:solidFill>
                <a:srgbClr val="1b7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object 32"/>
            <p:cNvSpPr/>
            <p:nvPr/>
          </p:nvSpPr>
          <p:spPr>
            <a:xfrm>
              <a:off x="209520" y="147240"/>
              <a:ext cx="414360" cy="12204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467359" h="99695">
                  <a:moveTo>
                    <a:pt x="0" y="2425"/>
                  </a:moveTo>
                  <a:lnTo>
                    <a:pt x="228015" y="99453"/>
                  </a:lnTo>
                  <a:lnTo>
                    <a:pt x="466940" y="0"/>
                  </a:lnTo>
                </a:path>
              </a:pathLst>
            </a:custGeom>
            <a:noFill/>
            <a:ln w="28800">
              <a:solidFill>
                <a:srgbClr val="1b7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object 33"/>
            <p:cNvSpPr/>
            <p:nvPr/>
          </p:nvSpPr>
          <p:spPr>
            <a:xfrm>
              <a:off x="461880" y="57960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object 34"/>
            <p:cNvSpPr/>
            <p:nvPr/>
          </p:nvSpPr>
          <p:spPr>
            <a:xfrm>
              <a:off x="461880" y="53208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object 35"/>
            <p:cNvSpPr/>
            <p:nvPr/>
          </p:nvSpPr>
          <p:spPr>
            <a:xfrm>
              <a:off x="461880" y="48420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object 36"/>
            <p:cNvSpPr/>
            <p:nvPr/>
          </p:nvSpPr>
          <p:spPr>
            <a:xfrm>
              <a:off x="461880" y="43668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object 37"/>
            <p:cNvSpPr/>
            <p:nvPr/>
          </p:nvSpPr>
          <p:spPr>
            <a:xfrm>
              <a:off x="461880" y="38880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object 38"/>
            <p:cNvSpPr/>
            <p:nvPr/>
          </p:nvSpPr>
          <p:spPr>
            <a:xfrm>
              <a:off x="461880" y="3412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object 39"/>
            <p:cNvSpPr/>
            <p:nvPr/>
          </p:nvSpPr>
          <p:spPr>
            <a:xfrm>
              <a:off x="461880" y="29340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object 40"/>
            <p:cNvSpPr/>
            <p:nvPr/>
          </p:nvSpPr>
          <p:spPr>
            <a:xfrm>
              <a:off x="498600" y="56052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object 41"/>
            <p:cNvSpPr/>
            <p:nvPr/>
          </p:nvSpPr>
          <p:spPr>
            <a:xfrm>
              <a:off x="498600" y="5144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object 42"/>
            <p:cNvSpPr/>
            <p:nvPr/>
          </p:nvSpPr>
          <p:spPr>
            <a:xfrm>
              <a:off x="498600" y="46692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object 43"/>
            <p:cNvSpPr/>
            <p:nvPr/>
          </p:nvSpPr>
          <p:spPr>
            <a:xfrm>
              <a:off x="498600" y="42084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object 44"/>
            <p:cNvSpPr/>
            <p:nvPr/>
          </p:nvSpPr>
          <p:spPr>
            <a:xfrm>
              <a:off x="498600" y="37296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object 45"/>
            <p:cNvSpPr/>
            <p:nvPr/>
          </p:nvSpPr>
          <p:spPr>
            <a:xfrm>
              <a:off x="498600" y="32544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object 46"/>
            <p:cNvSpPr/>
            <p:nvPr/>
          </p:nvSpPr>
          <p:spPr>
            <a:xfrm>
              <a:off x="498600" y="27756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object 47"/>
            <p:cNvSpPr/>
            <p:nvPr/>
          </p:nvSpPr>
          <p:spPr>
            <a:xfrm>
              <a:off x="804960" y="4190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object 48"/>
            <p:cNvSpPr/>
            <p:nvPr/>
          </p:nvSpPr>
          <p:spPr>
            <a:xfrm>
              <a:off x="534960" y="49716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object 49"/>
            <p:cNvSpPr/>
            <p:nvPr/>
          </p:nvSpPr>
          <p:spPr>
            <a:xfrm>
              <a:off x="534960" y="4492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object 50"/>
            <p:cNvSpPr/>
            <p:nvPr/>
          </p:nvSpPr>
          <p:spPr>
            <a:xfrm>
              <a:off x="534960" y="40176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object 51"/>
            <p:cNvSpPr/>
            <p:nvPr/>
          </p:nvSpPr>
          <p:spPr>
            <a:xfrm>
              <a:off x="534960" y="3556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object 53"/>
            <p:cNvSpPr/>
            <p:nvPr/>
          </p:nvSpPr>
          <p:spPr>
            <a:xfrm>
              <a:off x="534960" y="2602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object 54"/>
            <p:cNvSpPr/>
            <p:nvPr/>
          </p:nvSpPr>
          <p:spPr>
            <a:xfrm>
              <a:off x="571680" y="52704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object 55"/>
            <p:cNvSpPr/>
            <p:nvPr/>
          </p:nvSpPr>
          <p:spPr>
            <a:xfrm>
              <a:off x="571680" y="47952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object 56"/>
            <p:cNvSpPr/>
            <p:nvPr/>
          </p:nvSpPr>
          <p:spPr>
            <a:xfrm>
              <a:off x="571680" y="43200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object 57"/>
            <p:cNvSpPr/>
            <p:nvPr/>
          </p:nvSpPr>
          <p:spPr>
            <a:xfrm>
              <a:off x="773280" y="291960"/>
              <a:ext cx="33120" cy="61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object 58"/>
            <p:cNvSpPr/>
            <p:nvPr/>
          </p:nvSpPr>
          <p:spPr>
            <a:xfrm>
              <a:off x="571680" y="3380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object 59"/>
            <p:cNvSpPr/>
            <p:nvPr/>
          </p:nvSpPr>
          <p:spPr>
            <a:xfrm>
              <a:off x="571680" y="29052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object 60"/>
            <p:cNvSpPr/>
            <p:nvPr/>
          </p:nvSpPr>
          <p:spPr>
            <a:xfrm>
              <a:off x="571680" y="2426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object 61"/>
            <p:cNvSpPr/>
            <p:nvPr/>
          </p:nvSpPr>
          <p:spPr>
            <a:xfrm>
              <a:off x="731880" y="45252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object 62"/>
            <p:cNvSpPr/>
            <p:nvPr/>
          </p:nvSpPr>
          <p:spPr>
            <a:xfrm>
              <a:off x="608040" y="463680"/>
              <a:ext cx="36360" cy="60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object 63"/>
            <p:cNvSpPr/>
            <p:nvPr/>
          </p:nvSpPr>
          <p:spPr>
            <a:xfrm>
              <a:off x="608040" y="415800"/>
              <a:ext cx="36360" cy="60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object 64"/>
            <p:cNvSpPr/>
            <p:nvPr/>
          </p:nvSpPr>
          <p:spPr>
            <a:xfrm>
              <a:off x="608040" y="368280"/>
              <a:ext cx="36360" cy="619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object 65"/>
            <p:cNvSpPr/>
            <p:nvPr/>
          </p:nvSpPr>
          <p:spPr>
            <a:xfrm>
              <a:off x="839880" y="215640"/>
              <a:ext cx="33120" cy="586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object 66"/>
            <p:cNvSpPr/>
            <p:nvPr/>
          </p:nvSpPr>
          <p:spPr>
            <a:xfrm>
              <a:off x="608040" y="272880"/>
              <a:ext cx="36360" cy="619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object 67"/>
            <p:cNvSpPr/>
            <p:nvPr/>
          </p:nvSpPr>
          <p:spPr>
            <a:xfrm>
              <a:off x="608040" y="226800"/>
              <a:ext cx="36360" cy="60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object 68"/>
            <p:cNvSpPr/>
            <p:nvPr/>
          </p:nvSpPr>
          <p:spPr>
            <a:xfrm>
              <a:off x="644400" y="49392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object 69"/>
            <p:cNvSpPr/>
            <p:nvPr/>
          </p:nvSpPr>
          <p:spPr>
            <a:xfrm>
              <a:off x="644400" y="44604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object 70"/>
            <p:cNvSpPr/>
            <p:nvPr/>
          </p:nvSpPr>
          <p:spPr>
            <a:xfrm>
              <a:off x="723960" y="363600"/>
              <a:ext cx="33120" cy="586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object 71"/>
            <p:cNvSpPr/>
            <p:nvPr/>
          </p:nvSpPr>
          <p:spPr>
            <a:xfrm>
              <a:off x="644400" y="35244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object 72"/>
            <p:cNvSpPr/>
            <p:nvPr/>
          </p:nvSpPr>
          <p:spPr>
            <a:xfrm>
              <a:off x="720720" y="26964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object 73"/>
            <p:cNvSpPr/>
            <p:nvPr/>
          </p:nvSpPr>
          <p:spPr>
            <a:xfrm>
              <a:off x="781200" y="19332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object 74"/>
            <p:cNvSpPr/>
            <p:nvPr/>
          </p:nvSpPr>
          <p:spPr>
            <a:xfrm>
              <a:off x="749520" y="160200"/>
              <a:ext cx="34920" cy="619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object 75"/>
            <p:cNvSpPr/>
            <p:nvPr/>
          </p:nvSpPr>
          <p:spPr>
            <a:xfrm>
              <a:off x="681120" y="47808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object 76"/>
            <p:cNvSpPr/>
            <p:nvPr/>
          </p:nvSpPr>
          <p:spPr>
            <a:xfrm>
              <a:off x="762120" y="393840"/>
              <a:ext cx="33120" cy="586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object 77"/>
            <p:cNvSpPr/>
            <p:nvPr/>
          </p:nvSpPr>
          <p:spPr>
            <a:xfrm>
              <a:off x="681120" y="38268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object 78"/>
            <p:cNvSpPr/>
            <p:nvPr/>
          </p:nvSpPr>
          <p:spPr>
            <a:xfrm>
              <a:off x="681120" y="33480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object 79"/>
            <p:cNvSpPr/>
            <p:nvPr/>
          </p:nvSpPr>
          <p:spPr>
            <a:xfrm>
              <a:off x="681120" y="287280"/>
              <a:ext cx="34920" cy="60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object 80"/>
            <p:cNvSpPr/>
            <p:nvPr/>
          </p:nvSpPr>
          <p:spPr>
            <a:xfrm>
              <a:off x="719280" y="222120"/>
              <a:ext cx="36360" cy="60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76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76" y="51612"/>
                  </a:lnTo>
                  <a:lnTo>
                    <a:pt x="40576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object 81"/>
            <p:cNvSpPr/>
            <p:nvPr/>
          </p:nvSpPr>
          <p:spPr>
            <a:xfrm>
              <a:off x="681120" y="193320"/>
              <a:ext cx="34920" cy="586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0640" h="70484">
                  <a:moveTo>
                    <a:pt x="40589" y="0"/>
                  </a:moveTo>
                  <a:lnTo>
                    <a:pt x="0" y="18808"/>
                  </a:lnTo>
                  <a:lnTo>
                    <a:pt x="0" y="70421"/>
                  </a:lnTo>
                  <a:lnTo>
                    <a:pt x="40589" y="51612"/>
                  </a:lnTo>
                  <a:lnTo>
                    <a:pt x="40589" y="0"/>
                  </a:lnTo>
                  <a:close/>
                </a:path>
              </a:pathLst>
            </a:custGeom>
            <a:solidFill>
              <a:srgbClr val="ee2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Прямоугольник 82"/>
            <p:cNvSpPr/>
            <p:nvPr/>
          </p:nvSpPr>
          <p:spPr>
            <a:xfrm>
              <a:off x="1104480" y="117360"/>
              <a:ext cx="18662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1a75bd"/>
                  </a:solidFill>
                  <a:latin typeface="Arial Nova Cond"/>
                </a:rPr>
                <a:t>ЭЛЕКТРОННАЯ 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Прямоугольник 83"/>
            <p:cNvSpPr/>
            <p:nvPr/>
          </p:nvSpPr>
          <p:spPr>
            <a:xfrm>
              <a:off x="1108800" y="350640"/>
              <a:ext cx="1557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1a75bd"/>
                  </a:solidFill>
                  <a:latin typeface="Arial Narrow"/>
                </a:rPr>
                <a:t>ТРУДОВАЯ  КНИЖКА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Прямая соединительная линия 84"/>
            <p:cNvSpPr/>
            <p:nvPr/>
          </p:nvSpPr>
          <p:spPr>
            <a:xfrm flipV="1">
              <a:off x="184320" y="648000"/>
              <a:ext cx="2871720" cy="25200"/>
            </a:xfrm>
            <a:prstGeom prst="line">
              <a:avLst/>
            </a:prstGeom>
            <a:ln w="316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Рисунок 85" descr=""/>
          <p:cNvPicPr/>
          <p:nvPr/>
        </p:nvPicPr>
        <p:blipFill>
          <a:blip r:embed="rId1"/>
          <a:stretch/>
        </p:blipFill>
        <p:spPr>
          <a:xfrm>
            <a:off x="8101080" y="6080040"/>
            <a:ext cx="736560" cy="758880"/>
          </a:xfrm>
          <a:prstGeom prst="rect">
            <a:avLst/>
          </a:prstGeom>
          <a:ln w="0">
            <a:noFill/>
          </a:ln>
        </p:spPr>
      </p:pic>
      <p:pic>
        <p:nvPicPr>
          <p:cNvPr id="675" name="Рисунок 86" descr=""/>
          <p:cNvPicPr/>
          <p:nvPr/>
        </p:nvPicPr>
        <p:blipFill>
          <a:blip r:embed="rId2"/>
          <a:stretch/>
        </p:blipFill>
        <p:spPr>
          <a:xfrm>
            <a:off x="219240" y="689040"/>
            <a:ext cx="571320" cy="2120760"/>
          </a:xfrm>
          <a:prstGeom prst="rect">
            <a:avLst/>
          </a:prstGeom>
          <a:ln w="0">
            <a:noFill/>
          </a:ln>
        </p:spPr>
      </p:pic>
      <p:pic>
        <p:nvPicPr>
          <p:cNvPr id="676" name="Рисунок 87" descr=""/>
          <p:cNvPicPr/>
          <p:nvPr/>
        </p:nvPicPr>
        <p:blipFill>
          <a:blip r:embed="rId3"/>
          <a:stretch/>
        </p:blipFill>
        <p:spPr>
          <a:xfrm>
            <a:off x="7726320" y="1168560"/>
            <a:ext cx="1309680" cy="1645920"/>
          </a:xfrm>
          <a:prstGeom prst="rect">
            <a:avLst/>
          </a:prstGeom>
          <a:ln w="0">
            <a:noFill/>
          </a:ln>
        </p:spPr>
      </p:pic>
      <p:sp>
        <p:nvSpPr>
          <p:cNvPr id="677" name="TextBox 88"/>
          <p:cNvSpPr/>
          <p:nvPr/>
        </p:nvSpPr>
        <p:spPr>
          <a:xfrm>
            <a:off x="671400" y="797040"/>
            <a:ext cx="39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На работодателя возлагает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TextBox 89"/>
          <p:cNvSpPr/>
          <p:nvPr/>
        </p:nvSpPr>
        <p:spPr>
          <a:xfrm>
            <a:off x="5727600" y="797040"/>
            <a:ext cx="24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Работник обяз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9" name="TextBox 90"/>
          <p:cNvGrpSpPr/>
          <p:nvPr/>
        </p:nvGrpSpPr>
        <p:grpSpPr>
          <a:xfrm>
            <a:off x="785880" y="1474920"/>
            <a:ext cx="3457440" cy="658800"/>
            <a:chOff x="785880" y="1474920"/>
            <a:chExt cx="3457440" cy="658800"/>
          </a:xfrm>
        </p:grpSpPr>
        <p:pic>
          <p:nvPicPr>
            <p:cNvPr id="680" name="TextBox 90" descr=""/>
            <p:cNvPicPr/>
            <p:nvPr/>
          </p:nvPicPr>
          <p:blipFill>
            <a:blip r:embed="rId4"/>
            <a:stretch/>
          </p:blipFill>
          <p:spPr>
            <a:xfrm>
              <a:off x="785880" y="1474920"/>
              <a:ext cx="345744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"/>
            <p:cNvSpPr/>
            <p:nvPr/>
          </p:nvSpPr>
          <p:spPr>
            <a:xfrm>
              <a:off x="822240" y="1514520"/>
              <a:ext cx="338148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ринятие или изменение локальных нормативных актов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2" name="TextBox 91"/>
          <p:cNvGrpSpPr/>
          <p:nvPr/>
        </p:nvGrpSpPr>
        <p:grpSpPr>
          <a:xfrm>
            <a:off x="798480" y="2401920"/>
            <a:ext cx="3456000" cy="652320"/>
            <a:chOff x="798480" y="2401920"/>
            <a:chExt cx="3456000" cy="652320"/>
          </a:xfrm>
        </p:grpSpPr>
        <p:pic>
          <p:nvPicPr>
            <p:cNvPr id="683" name="TextBox 91" descr=""/>
            <p:cNvPicPr/>
            <p:nvPr/>
          </p:nvPicPr>
          <p:blipFill>
            <a:blip r:embed="rId5"/>
            <a:stretch/>
          </p:blipFill>
          <p:spPr>
            <a:xfrm>
              <a:off x="798480" y="2401920"/>
              <a:ext cx="34560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"/>
            <p:cNvSpPr/>
            <p:nvPr/>
          </p:nvSpPr>
          <p:spPr>
            <a:xfrm>
              <a:off x="835200" y="2438280"/>
              <a:ext cx="337968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обеспечение технической готовност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5" name="TextBox 92"/>
          <p:cNvGrpSpPr/>
          <p:nvPr/>
        </p:nvGrpSpPr>
        <p:grpSpPr>
          <a:xfrm>
            <a:off x="762120" y="3352680"/>
            <a:ext cx="3456000" cy="1090800"/>
            <a:chOff x="762120" y="3352680"/>
            <a:chExt cx="3456000" cy="1090800"/>
          </a:xfrm>
        </p:grpSpPr>
        <p:pic>
          <p:nvPicPr>
            <p:cNvPr id="686" name="TextBox 92" descr=""/>
            <p:cNvPicPr/>
            <p:nvPr/>
          </p:nvPicPr>
          <p:blipFill>
            <a:blip r:embed="rId6"/>
            <a:stretch/>
          </p:blipFill>
          <p:spPr>
            <a:xfrm>
              <a:off x="762120" y="3352680"/>
              <a:ext cx="345600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7" name=""/>
            <p:cNvSpPr/>
            <p:nvPr/>
          </p:nvSpPr>
          <p:spPr>
            <a:xfrm>
              <a:off x="820800" y="3411360"/>
              <a:ext cx="3338280" cy="97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Times New Roman"/>
                  <a:ea typeface="Yu Gothic UI"/>
                </a:rPr>
                <a:t>уведомить</a:t>
              </a: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Yu Gothic UI"/>
                </a:rPr>
                <a:t> </a:t>
              </a:r>
              <a:r>
                <a:rPr b="0" lang="ru-RU" sz="1600" spc="-1" strike="noStrike">
                  <a:solidFill>
                    <a:srgbClr val="ff0000"/>
                  </a:solidFill>
                  <a:latin typeface="Times New Roman"/>
                  <a:ea typeface="Yu Gothic UI"/>
                </a:rPr>
                <a:t>по 30 июня 2020 года</a:t>
              </a: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Yu Gothic UI"/>
                </a:rPr>
                <a:t> включительно </a:t>
              </a:r>
              <a:r>
                <a:rPr b="0" lang="ru-RU" sz="1600" spc="-1" strike="noStrike">
                  <a:solidFill>
                    <a:srgbClr val="ff0000"/>
                  </a:solidFill>
                  <a:latin typeface="Times New Roman"/>
                  <a:ea typeface="Yu Gothic UI"/>
                </a:rPr>
                <a:t>каждого работника в письменной форме</a:t>
              </a: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Yu Gothic UI"/>
                </a:rPr>
                <a:t> об изменении в ТК РФ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8" name="Стрелка вправо 93"/>
          <p:cNvSpPr/>
          <p:nvPr/>
        </p:nvSpPr>
        <p:spPr>
          <a:xfrm rot="5400000">
            <a:off x="2225160" y="3139920"/>
            <a:ext cx="201600" cy="71640"/>
          </a:xfrm>
          <a:prstGeom prst="rightArrow">
            <a:avLst>
              <a:gd name="adj1" fmla="val 50000"/>
              <a:gd name="adj2" fmla="val 4985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9" name="TextBox 94"/>
          <p:cNvGrpSpPr/>
          <p:nvPr/>
        </p:nvGrpSpPr>
        <p:grpSpPr>
          <a:xfrm>
            <a:off x="4846680" y="1536840"/>
            <a:ext cx="2882880" cy="895320"/>
            <a:chOff x="4846680" y="1536840"/>
            <a:chExt cx="2882880" cy="895320"/>
          </a:xfrm>
        </p:grpSpPr>
        <p:pic>
          <p:nvPicPr>
            <p:cNvPr id="690" name="TextBox 94" descr=""/>
            <p:cNvPicPr/>
            <p:nvPr/>
          </p:nvPicPr>
          <p:blipFill>
            <a:blip r:embed="rId7"/>
            <a:stretch/>
          </p:blipFill>
          <p:spPr>
            <a:xfrm>
              <a:off x="4846680" y="1536840"/>
              <a:ext cx="288288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"/>
            <p:cNvSpPr/>
            <p:nvPr/>
          </p:nvSpPr>
          <p:spPr>
            <a:xfrm>
              <a:off x="4894200" y="1582560"/>
              <a:ext cx="2787840" cy="8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Times New Roman"/>
                  <a:ea typeface="Yu Gothic UI"/>
                </a:rPr>
                <a:t>По 31 декабря 2020 года</a:t>
              </a: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Yu Gothic UI"/>
                </a:rPr>
                <a:t> подать работодателю письменное заявление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2" name="TextBox 95"/>
          <p:cNvGrpSpPr/>
          <p:nvPr/>
        </p:nvGrpSpPr>
        <p:grpSpPr>
          <a:xfrm>
            <a:off x="6918480" y="2852640"/>
            <a:ext cx="2097000" cy="1152720"/>
            <a:chOff x="6918480" y="2852640"/>
            <a:chExt cx="2097000" cy="1152720"/>
          </a:xfrm>
        </p:grpSpPr>
        <p:pic>
          <p:nvPicPr>
            <p:cNvPr id="693" name="TextBox 95" descr=""/>
            <p:cNvPicPr/>
            <p:nvPr/>
          </p:nvPicPr>
          <p:blipFill>
            <a:blip r:embed="rId8"/>
            <a:stretch/>
          </p:blipFill>
          <p:spPr>
            <a:xfrm>
              <a:off x="6918480" y="2852640"/>
              <a:ext cx="209700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"/>
            <p:cNvSpPr/>
            <p:nvPr/>
          </p:nvSpPr>
          <p:spPr>
            <a:xfrm>
              <a:off x="6980400" y="2917800"/>
              <a:ext cx="197460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Yu Gothic UI"/>
                </a:rPr>
                <a:t>ведение трудовой книжки</a:t>
              </a:r>
              <a:r>
                <a:rPr b="0" lang="en-US" sz="1600" spc="-1" strike="noStrike">
                  <a:solidFill>
                    <a:srgbClr val="002060"/>
                  </a:solidFill>
                  <a:latin typeface="Times New Roman"/>
                  <a:ea typeface="Yu Gothic UI"/>
                </a:rPr>
                <a:t> </a:t>
              </a: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Yu Gothic UI"/>
                </a:rPr>
                <a:t>(бумажный вариант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5" name="TextBox 96"/>
          <p:cNvGrpSpPr/>
          <p:nvPr/>
        </p:nvGrpSpPr>
        <p:grpSpPr>
          <a:xfrm>
            <a:off x="6937200" y="4370400"/>
            <a:ext cx="2121120" cy="1103400"/>
            <a:chOff x="6937200" y="4370400"/>
            <a:chExt cx="2121120" cy="1103400"/>
          </a:xfrm>
        </p:grpSpPr>
        <p:pic>
          <p:nvPicPr>
            <p:cNvPr id="696" name="TextBox 96" descr=""/>
            <p:cNvPicPr/>
            <p:nvPr/>
          </p:nvPicPr>
          <p:blipFill>
            <a:blip r:embed="rId9"/>
            <a:stretch/>
          </p:blipFill>
          <p:spPr>
            <a:xfrm>
              <a:off x="6937200" y="4370400"/>
              <a:ext cx="21211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6994440" y="4432320"/>
              <a:ext cx="200664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Times New Roman"/>
                  <a:ea typeface="Yu Gothic UI"/>
                </a:rPr>
                <a:t>работодатель ведёт трудовую книжку в бумажном и в электронном виде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8" name="TextBox 97"/>
          <p:cNvGrpSpPr/>
          <p:nvPr/>
        </p:nvGrpSpPr>
        <p:grpSpPr>
          <a:xfrm>
            <a:off x="4419720" y="2859120"/>
            <a:ext cx="2474640" cy="1152360"/>
            <a:chOff x="4419720" y="2859120"/>
            <a:chExt cx="2474640" cy="1152360"/>
          </a:xfrm>
        </p:grpSpPr>
        <p:pic>
          <p:nvPicPr>
            <p:cNvPr id="699" name="TextBox 97" descr=""/>
            <p:cNvPicPr/>
            <p:nvPr/>
          </p:nvPicPr>
          <p:blipFill>
            <a:blip r:embed="rId10"/>
            <a:stretch/>
          </p:blipFill>
          <p:spPr>
            <a:xfrm>
              <a:off x="4419720" y="2859120"/>
              <a:ext cx="247464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4483080" y="2922480"/>
              <a:ext cx="235116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ведении сведени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о трудовой деятельности в электронном виде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1" name="TextBox 98"/>
          <p:cNvGrpSpPr/>
          <p:nvPr/>
        </p:nvGrpSpPr>
        <p:grpSpPr>
          <a:xfrm>
            <a:off x="4419720" y="4370400"/>
            <a:ext cx="2474640" cy="1103400"/>
            <a:chOff x="4419720" y="4370400"/>
            <a:chExt cx="2474640" cy="1103400"/>
          </a:xfrm>
        </p:grpSpPr>
        <p:pic>
          <p:nvPicPr>
            <p:cNvPr id="702" name="TextBox 98" descr=""/>
            <p:cNvPicPr/>
            <p:nvPr/>
          </p:nvPicPr>
          <p:blipFill>
            <a:blip r:embed="rId11"/>
            <a:stretch/>
          </p:blipFill>
          <p:spPr>
            <a:xfrm>
              <a:off x="4419720" y="4370400"/>
              <a:ext cx="247464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4481640" y="4432320"/>
              <a:ext cx="235404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Трудовая книжка выдается на руки,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о чём вносится запись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4" name="Стрелка вправо 99"/>
          <p:cNvSpPr/>
          <p:nvPr/>
        </p:nvSpPr>
        <p:spPr>
          <a:xfrm rot="5400000">
            <a:off x="7171200" y="4147200"/>
            <a:ext cx="322200" cy="86040"/>
          </a:xfrm>
          <a:prstGeom prst="rightArrow">
            <a:avLst>
              <a:gd name="adj1" fmla="val 50000"/>
              <a:gd name="adj2" fmla="val 4980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Box 100"/>
          <p:cNvSpPr/>
          <p:nvPr/>
        </p:nvSpPr>
        <p:spPr>
          <a:xfrm>
            <a:off x="246240" y="5672160"/>
            <a:ext cx="7608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Формирование сведений о трудовой деятельности лиц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впервые поступающих на работу с 1 января 2021 года, осуществляется только в электронном ви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0T07:14:06Z</dcterms:created>
  <dc:creator>Журкова Юлия Сергеевна2</dc:creator>
  <dc:description/>
  <dc:language>en-US</dc:language>
  <cp:lastModifiedBy>064EvseenkoYA</cp:lastModifiedBy>
  <cp:lastPrinted>2020-01-14T07:04:14Z</cp:lastPrinted>
  <dcterms:modified xsi:type="dcterms:W3CDTF">2020-02-18T10:07:57Z</dcterms:modified>
  <cp:revision>272</cp:revision>
  <dc:subject/>
  <dc:title>Презентация PowerPoint</dc:title>
</cp:coreProperties>
</file>